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D0B-D1AD-4AE3-BBBD-F45EDC1E6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52FD-DCEC-4041-9997-8EFE82B1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BFE8-8810-47E7-8715-53F55E7D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BD7-1C61-4872-BE18-2F2EDBC3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7653-698D-496E-94D4-C3734E32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C26B8-8DCF-4ED3-939B-B0AA4C5D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208-D374-49F9-A46B-BE32C7E7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014F-21F8-4410-841A-F7DE4561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BB57-74BF-48CF-890A-05748791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9AC-3889-4754-949A-45F149CA7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0E24-F766-41AD-998E-0D2B1C1D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B57-48D8-45FB-96CD-9D94E43D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465-8905-4E51-B8C3-92E00E6F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CBF2-85BC-4141-9D11-2AA16A6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7997-0026-4AC3-BF3C-9F9A4F70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BA5A-3E72-4813-9129-FEB838930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7E92-DE18-458B-BD95-3DA0BFC6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108-0934-4D58-8F86-C7077CE0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485-3200-4869-8C6B-E98BB57B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A63-10C3-4D5A-B6E5-8C17790F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74E-ED7C-4DAD-85AD-B0F8FCCF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F5B-72B6-482D-9178-FFE4DA84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8B6-D98E-4D24-BB07-9F9A3548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32D-C1FB-4B77-8D62-2B1B6F5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64CC-C4F4-425B-AB38-DB976A21B59E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E91E-DDF4-41E7-8637-DB5B83114845}" type="slidenum">
              <a:rPr b="1" lang="es-E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Frontisuchile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hyperlink" Target="http://putu.dcc.uchile.cl/mambo/images/logo_uchile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putu.dcc.uchile.cl/mambo/images/logo_uchile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coma.es/?PHPSESSID=0b23539f544c3dd0230301b71d5c6d1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B562-C8A2-43E8-A36B-F84F1B034F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odidades o confort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todos aquellos aspec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que no inciden directamente vinculados a la atención de salud,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o que inciden en sus calidad, en el grado de satisfac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 y su adhesividad al sistema (imagen, valor agregado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3789360"/>
            <a:ext cx="853272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rivac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la condición que garantiza un luga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xclusivo y condiciones para la entrega de un servicio e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ualquier lugar de la institución (no interrupción, lugar pa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vestirse, cubri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5157720"/>
            <a:ext cx="85327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fidencial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e refiere a guardar sin divulgar a tercer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lo que el usuario entrega de información general o en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ones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3860640"/>
            <a:ext cx="480960" cy="50508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5080"/>
              <a:gd name="textAreaBottom" fmla="*/ 2826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5300640"/>
            <a:ext cx="480960" cy="504720"/>
          </a:xfrm>
          <a:custGeom>
            <a:avLst/>
            <a:gdLst>
              <a:gd name="textAreaLeft" fmla="*/ 212040 w 480960"/>
              <a:gd name="textAreaRight" fmla="*/ 268920 w 480960"/>
              <a:gd name="textAreaTop" fmla="*/ 222480 h 504720"/>
              <a:gd name="textAreaBottom" fmla="*/ 2822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521" y="9521"/>
                </a:lnTo>
                <a:lnTo>
                  <a:pt x="10800" y="0"/>
                </a:lnTo>
                <a:lnTo>
                  <a:pt x="12079" y="9521"/>
                </a:lnTo>
                <a:lnTo>
                  <a:pt x="21600" y="10800"/>
                </a:lnTo>
                <a:lnTo>
                  <a:pt x="12079" y="12079"/>
                </a:lnTo>
                <a:lnTo>
                  <a:pt x="10800" y="21600"/>
                </a:lnTo>
                <a:lnTo>
                  <a:pt x="9521" y="12079"/>
                </a:lnTo>
                <a:lnTo>
                  <a:pt x="0" y="108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F37-5383-4BA7-8AAF-550A684654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Ciclo de evaluación y mejoramiento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349360"/>
            <a:ext cx="2448000" cy="7621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ción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orización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35640" y="2276640"/>
            <a:ext cx="244944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jo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2924280"/>
            <a:ext cx="2667240" cy="5047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álisis de proble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84720" y="3500280"/>
            <a:ext cx="2664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jación de criterios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stánda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4221000"/>
            <a:ext cx="2664000" cy="60516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indicador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instrum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84720" y="5084640"/>
            <a:ext cx="266400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la muest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5734080"/>
            <a:ext cx="2819520" cy="38088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colectar los da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5734080"/>
            <a:ext cx="2286000" cy="53352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señar y aplic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lu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2519280" cy="16761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55640" y="4797360"/>
            <a:ext cx="2590920" cy="457200"/>
          </a:xfrm>
          <a:prstGeom prst="rect">
            <a:avLst/>
          </a:prstGeom>
          <a:solidFill>
            <a:srgbClr val="00ff00">
              <a:alpha val="2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evaluar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onitorea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3640" y="2565360"/>
            <a:ext cx="208908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2781360"/>
            <a:ext cx="2663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3080" y="4076640"/>
            <a:ext cx="0" cy="152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164360" y="4869000"/>
            <a:ext cx="0" cy="21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435640" y="5229360"/>
            <a:ext cx="45720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200040" y="5805360"/>
            <a:ext cx="1731960" cy="61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828800" y="533412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348000" y="4723920"/>
            <a:ext cx="2376360" cy="335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4DC8-D254-468B-9B05-3F319C2D0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Problemas de cali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3500280"/>
            <a:ext cx="1727280" cy="7495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efini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4437000"/>
            <a:ext cx="181620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identific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5373720"/>
            <a:ext cx="1895400" cy="865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riorizarl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5157720"/>
            <a:ext cx="2895480" cy="9144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Diagrama de Paret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724360" y="4076640"/>
            <a:ext cx="2895840" cy="9907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atriz decis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997360"/>
            <a:ext cx="2895840" cy="9144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Técnicas de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grupo nomi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2209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necesit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421000"/>
            <a:ext cx="30243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usan técnicas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692360" y="2997360"/>
            <a:ext cx="1079280" cy="482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123640" y="2997360"/>
            <a:ext cx="647640" cy="2438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907640" y="2997360"/>
            <a:ext cx="863640" cy="1463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334120" y="198108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500280"/>
            <a:ext cx="0" cy="22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3500280"/>
            <a:ext cx="381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458136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5734080"/>
            <a:ext cx="533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2421000"/>
            <a:ext cx="198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lasifican e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4360" y="2852640"/>
            <a:ext cx="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84360" y="3500280"/>
            <a:ext cx="2664000" cy="254160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structur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rganiza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sistencial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ix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501-0F6F-467E-9E39-9043129682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5640" y="2637000"/>
            <a:ext cx="6781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finir e  identificar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2997360"/>
            <a:ext cx="8317080" cy="37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tituir grupo de 8 integrantes ( máximo 10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350028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2.   Cada miembro debe presentarse y hace una reseña de su lugar d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rabajo y fun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76640"/>
            <a:ext cx="8317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   Nombrar un moderador, un secretario y un presenta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4653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4.   Se plantea la siguiente pregunta: ¿ Cuales son a su juici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tres principales problemas de calidad en su nivel de atención?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544500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   Cada miembro escribe en silencio los problemas que considere má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mporta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D8E-BB82-400C-9F0B-D75CC3D277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26920" y="249228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   El moderador recoge los problemas y los anota, luego por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senso se eligen todos los seleccion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6920" y="314172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   Se clasifican si son de estructura, de organización, asistenciales 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ixt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6920" y="3645000"/>
            <a:ext cx="83170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.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ponderan individualmente de 1 a 5 (excepto los de estructur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4221000"/>
            <a:ext cx="83170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9</a:t>
            </a: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.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moderador pregunta los puntajes, los que originan los 5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oblemas con mayor puntu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Grupo nomi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BCB-A721-4341-9916-AA06D15149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6920" y="2421000"/>
            <a:ext cx="8317080" cy="52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la priorización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3141720"/>
            <a:ext cx="8244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roblemas definidos anteriormente son anotados en la matriz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cis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00000" y="3789360"/>
            <a:ext cx="8244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 califican por : magnitud, trascendencia, vulnerabilidad y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actibilidad económic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00000" y="4508640"/>
            <a:ext cx="82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Todos los problemas deben ser analizados en forma vertical par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finir el peso relativo que tienen entre sí horizontalm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507-05C7-4012-A365-54E9CC938F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Matriz decision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00000" y="270828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Magnitu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cantidad, frecuencia, tamaño del probl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00000" y="3357720"/>
            <a:ext cx="8458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Trascendenci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impacto en la salud de la pobl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00000" y="393372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Vulnerabil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del problema por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po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4653000"/>
            <a:ext cx="928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Factibilidad económica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posibilidad de resolución en relación a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sto, más barato , mayor es el puntaj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155-993F-4E1E-88FD-BE9055AC19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de Pare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2565360"/>
            <a:ext cx="6858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Permite determinar el peso relativo de los problem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335772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puntaje total de los 5 problemas será igual a 100 %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n función a esto se calculará la distribución  porcentual de cad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uno en relación al tot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414972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porcentajes de cada problema escritos en orden jerárquico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sí como los porcentajes acumulados se anotan en la tabl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486900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l secretario (a) traspasa a una transparencia: el listado de problem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el grupo ( de estructura, organización,asistenciales o mixtos 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B7C5-A547-4FC2-AAB9-F7ED57B952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2637000"/>
            <a:ext cx="8317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1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el problema en 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21300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Mediante lluvia de ideas ( no discusión de grupo), gener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que el grupo estima estarían produciendo el problema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No se debe criticar, sólo aclarar , sí es neces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4005360"/>
            <a:ext cx="8317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3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ideas a medida que se van señalando en el papelógraf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450864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3366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 la ayuda del monitor, categorice las causas, es decir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grúpelas las de un mismo origen. Recuerde que una caus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uede estar en más de una categorí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5373720"/>
            <a:ext cx="831708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5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note las categorías definidas por el grupo en los rectángu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aralelos a la flecha central del diagra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889-14BA-4D0A-9431-0BCE21E4B5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66"/>
                </a:solidFill>
                <a:latin typeface="Verdana"/>
              </a:rPr>
              <a:t>Técnica de construcción de Causa- Efect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6920" y="2997360"/>
            <a:ext cx="8317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6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or acuerdo se traspasan las causas señaladas en la lluvia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ideas, asumiendo que son mayores. Sí el análisis determina qu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on causas menores se borran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920" y="3789360"/>
            <a:ext cx="8317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7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evise la redacción de las causas anotadas;recuerde que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son problemas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4508640"/>
            <a:ext cx="8317080" cy="69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8.</a:t>
            </a:r>
            <a:r>
              <a:rPr b="1" lang="es-ES_tradnl" sz="1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Finalmente y por consenso del grupo, marque con un asterisco la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ausas modificables, porque sobre la base de ellas, se construirá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los criterios y estándares de evalua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492-5075-4AED-B07D-47FA2A10B2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Casa Central Universidad de Chi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53F6-5B1F-4809-8C01-8E9F7840B5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agrama causa efecto de ISHIKAWA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2492280"/>
            <a:ext cx="1828800" cy="609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accesibil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2492280"/>
            <a:ext cx="2057400" cy="657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equ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92720" y="2492280"/>
            <a:ext cx="182880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Satisfa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usuari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5013360"/>
            <a:ext cx="1828800" cy="576360"/>
          </a:xfrm>
          <a:prstGeom prst="rect">
            <a:avLst/>
          </a:prstGeom>
          <a:solidFill>
            <a:srgbClr val="ff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confor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48000" y="5013360"/>
            <a:ext cx="190512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ectivida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508720" y="5013360"/>
            <a:ext cx="17524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cc"/>
                </a:solidFill>
                <a:latin typeface="Verdana"/>
              </a:rPr>
              <a:t>eficie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56720" y="2565360"/>
            <a:ext cx="914400" cy="3024360"/>
          </a:xfrm>
          <a:prstGeom prst="rect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P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o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e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00000" y="4076640"/>
            <a:ext cx="70311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213000"/>
            <a:ext cx="1274760" cy="7066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3213000"/>
            <a:ext cx="1351080" cy="63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56360" y="3284640"/>
            <a:ext cx="1371600" cy="7063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476360" y="4149720"/>
            <a:ext cx="114624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492360" y="4149720"/>
            <a:ext cx="122256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724360" y="4149720"/>
            <a:ext cx="115272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5D53-46C5-49D0-84AE-1CE05F4AC3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 a incluir en una defini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50920" y="1868400"/>
          <a:ext cx="6667560" cy="10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868400"/>
                    <a:ext cx="6667560" cy="1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900000" y="2565360"/>
            <a:ext cx="7696440" cy="388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DIMENS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Accesibi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q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atisfacción usuar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ectiv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a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ficienci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Segur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port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tinu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modidad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Privac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Confidencial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2708280"/>
            <a:ext cx="9144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s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35640" y="2708280"/>
            <a:ext cx="8650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n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0720" y="2708280"/>
            <a:ext cx="1900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Verdana"/>
              </a:rPr>
              <a:t>porqu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00720" y="2708280"/>
            <a:ext cx="0" cy="37101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3564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0072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72360" y="2708280"/>
            <a:ext cx="0" cy="3673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00000" y="6381720"/>
            <a:ext cx="7272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335772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357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3789360"/>
            <a:ext cx="734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407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5640" y="4292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4508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47242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5013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5300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" y="551664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573408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6021360"/>
            <a:ext cx="7391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17080" y="0"/>
            <a:ext cx="47592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BE1-6557-4BEB-A57F-EBB3F6D3E2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¿ Para qué se mide la calidad de atención 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2708280"/>
            <a:ext cx="8001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están los problem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35772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determinar dónde y cómo interven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076640"/>
            <a:ext cx="80010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implementar soluciones a los problemas detec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479736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ara reforzar, mantener e incentivar aquellos aspect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positiv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7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36C-F223-4A7E-9FDC-1E8DB5A4D7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riterios de evaluació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inguna evaluación de calidad de los servicios sería posible sin la existencia de criterios y estándar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r. Avedis Donabedi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7D43-C09F-4E5B-BCFE-507C289180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¿</a:t>
            </a: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Qué son los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elementos predeterminados de la atención, que sirven para medir y comparar importantes aspectos de la calidad de un servicio. Son las herramientas con que se evalúa la calidad y en la práctica, son los requisitos de calidad que se establecen para los productos de un determinado proceso y que deben cumplirse necesariamente para que haya calidad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   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Se incorporan </a:t>
            </a: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conceptos</a:t>
            </a:r>
            <a:r>
              <a:rPr b="0" lang="es-ES" sz="1800" spc="-1" strike="noStrike">
                <a:solidFill>
                  <a:srgbClr val="003366"/>
                </a:solidFill>
                <a:latin typeface="Verdana"/>
              </a:rPr>
              <a:t> de :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Criterio de evalu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Requisito de calida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cc3300"/>
                </a:solidFill>
                <a:latin typeface="Verdana"/>
              </a:rPr>
              <a:t>Estánda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616-BB5B-4AC6-B855-4B759040D4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lasificación de los criterio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2492280"/>
            <a:ext cx="158436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Im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00000" y="3716280"/>
            <a:ext cx="16560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xplíci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56000" y="2997360"/>
            <a:ext cx="136836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924360" y="2421000"/>
            <a:ext cx="453528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Empíric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basados en la práctica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toma como bueno lo más frecuent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56000" y="4221000"/>
            <a:ext cx="93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2360" y="3500280"/>
            <a:ext cx="4967280" cy="1441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Normativo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gún conocimiento científ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y experiencia profesional.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Lo que debe hacerse, existir ou ocurri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360" y="4724280"/>
            <a:ext cx="86364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5229360"/>
            <a:ext cx="3887640" cy="107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Transvers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 se evalúa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Independientemente unos de ot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380360" y="4869000"/>
            <a:ext cx="576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88000" y="5157720"/>
            <a:ext cx="4105080" cy="1079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3300"/>
                </a:solidFill>
                <a:uFillTx/>
                <a:latin typeface="Verdana"/>
              </a:rPr>
              <a:t>Longitudinales o secuenciales</a:t>
            </a: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Son listas de criteri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Verdana"/>
              </a:rPr>
              <a:t>encadenados entre s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234-39C7-4993-BBEC-B0CA0148CA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Cómo construir criterios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1.      En el contexto de un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yect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orientado a resolver un problema específ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e elabora un criterio, o criterios para las diferentes causas relacionadas como modificables en el proyect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2.       En relación a los </a:t>
            </a:r>
            <a:r>
              <a:rPr b="0" lang="es-ES" sz="1800" spc="-1" strike="noStrike" u="sng">
                <a:solidFill>
                  <a:srgbClr val="003366"/>
                </a:solidFill>
                <a:uFillTx/>
                <a:latin typeface="Arial"/>
              </a:rPr>
              <a:t>productos esperados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de nuestra actividad Significa que se debe cambiar de actividad a produc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Control de embarazo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mbarazada controla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Visita domiciliaria       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Familia visitada en domicil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Supervisión al Equipo                                  </a:t>
            </a: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Equipo supervisa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472428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3640" y="508464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03640" y="5373720"/>
            <a:ext cx="16556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507B-A4CE-4FBC-867F-E56C1BA285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Consideraciones en la elaboración de un criter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5640" y="234936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responsable: directivo, equipo de salud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5640" y="328464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Lo que se quiere logra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221000"/>
            <a:ext cx="5400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Verdana"/>
              </a:rPr>
              <a:t>El tiempo: ….a partir de tal fecha, o …..a tal fech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44000" y="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632-E1AA-44B0-AAA9-3292658C343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Verdana"/>
              </a:rPr>
              <a:t>Consideraciones en la determinación de un Estánd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relevancia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a gravedad del proble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Los recursos disponib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Estándar es el grado de cumplimiento del criterio que se exige al equipo y se expresa en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%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estándar se puede definir por etapas, por ejempl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l primer año será el 70%, para el segundo el 80% y así sucesivamente………….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454-EA50-4ADC-A319-39E84315E9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66"/>
                </a:solidFill>
                <a:latin typeface="Verdana"/>
              </a:rPr>
              <a:t>Indicadores de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116000" y="2349000"/>
            <a:ext cx="7415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Es una medida cuantitativa que sirve para:</a:t>
            </a:r>
            <a:r>
              <a:rPr b="0" lang="es-ES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Medi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Valo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mpar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Contro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Verdana"/>
              </a:rPr>
              <a:t>¿ Qué?.......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Actividades de gest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Prestación de servicios direc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   </a:t>
            </a:r>
            <a:r>
              <a:rPr b="1" lang="es-ES" sz="2000" spc="-1" strike="noStrike">
                <a:solidFill>
                  <a:srgbClr val="cc3300"/>
                </a:solidFill>
                <a:latin typeface="Verdana"/>
              </a:rPr>
              <a:t>De los sistemas de apoy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27640" y="4076640"/>
            <a:ext cx="0" cy="574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18900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23EF-F005-4691-8A68-08EBC3D4F2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7DA3-155F-414C-8322-8FC17BC217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6920" y="2492280"/>
            <a:ext cx="810288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Centinela</a:t>
            </a:r>
            <a:r>
              <a:rPr b="1" lang="es-ES_tradnl" sz="1800" spc="-1" strike="noStrike">
                <a:solidFill>
                  <a:srgbClr val="660066"/>
                </a:solidFill>
                <a:latin typeface="Verdana"/>
              </a:rPr>
              <a:t>: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miden, identifican situaciones, hecho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          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graves no deseables o que nunca deberían ocurri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: Muerte matern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Muerte Infanti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cóle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por Clostridium Welchii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Caso de infección a Perfingen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que sufren caí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niños hospitalizados que sufren quemad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fallecen por entrega de medicam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quivoc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de U.C.I que se autoextub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que reciben transfusión incompati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A34E-EE27-4BE6-97D5-02AF0F0781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90720" y="1989000"/>
            <a:ext cx="815328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estructura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cómo el sistema está organizado y equip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saber, sí los recursos están disponibles y organizados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al manera que faciliten la atención del usuario</a:t>
            </a: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ermiten Monitorear la estructur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Verdana"/>
              </a:rPr>
              <a:t>Ej: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Recur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human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terial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sum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recursos financier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4437000"/>
            <a:ext cx="457200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structura Organizaciona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rgani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organizació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anual de procedimient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Nor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lujogram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59160" y="2444760"/>
            <a:ext cx="452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2.     </a:t>
            </a:r>
            <a:r>
              <a:rPr b="1" lang="es-ES_tradnl" sz="2000" spc="-1" strike="noStrike" u="sng">
                <a:solidFill>
                  <a:srgbClr val="cc3300"/>
                </a:solidFill>
                <a:uFillTx/>
                <a:latin typeface="Verdana"/>
              </a:rPr>
              <a:t>Indicadores tipo Tasa o Índic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795-A236-4189-B756-E55E20B9A9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55400" y="549360"/>
            <a:ext cx="6737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349360"/>
            <a:ext cx="79930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3300"/>
                </a:solidFill>
                <a:latin typeface="Verdana"/>
              </a:rPr>
              <a:t>Indicadores de Proceso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Focalizan en el cómo la atención es prest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os pasos de un proceso de atención a un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si la atención que se otorgó fue apropia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Ej: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66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as del programa maternal que recibió buen tra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fichas clínicas que consta de ..............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prescripciones médicas de un programa,completas ,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hospitalizados en  UCI a los que se les realizó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diariamente prevención de escar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usuarios a ser intervenidos que conocen su diagnóstic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  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y tipo de intervención a que serán someti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8B6-09C1-4216-A744-3D35D1CA404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826920" y="2421000"/>
            <a:ext cx="8610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Verdana"/>
              </a:rPr>
              <a:t>Indicadores de resultado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Miden la efectividad de la atención, el grado en que la atenció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otorgado al usuario produjo el efecto desead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ueden reflejar resultados deseados o advers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on los indicadores más utilizados en el sistema tradiciona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Ej 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Tasa de infecciones intrahospitalari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cobertura del programa X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rechazos de consulta tipo Y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muestras de Papanicolau rechazad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Interconsultas cursadas de acuerdo a la nor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lang="es-ES_tradnl" sz="1600" spc="-1" strike="noStrike">
                <a:solidFill>
                  <a:srgbClr val="cc3300"/>
                </a:solidFill>
                <a:latin typeface="Verdana"/>
              </a:rPr>
              <a:t>% de Exámenes de laboratorio mal rotulado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82600"/>
            <a:ext cx="91440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900000" y="134136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    </a:t>
            </a: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Tipos de indic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D1-4014-4253-B3D5-D6562F2AB16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dica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26920" y="2565360"/>
            <a:ext cx="76932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Se pueden expresar e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Números absolut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de X profesi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Razon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Nº camas/10.000 habitan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Porcentaje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% de camas en u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66"/>
                </a:solidFill>
                <a:uFillTx/>
                <a:latin typeface="Arial"/>
              </a:rPr>
              <a:t>Dicotómicos</a:t>
            </a: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: Si - 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91BE-1F89-4421-97B3-1AD3F9CFD4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Elaboración de criterios para un product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3068640"/>
          <a:ext cx="7693200" cy="3303720"/>
        </p:xfrm>
        <a:graphic>
          <a:graphicData uri="http://schemas.openxmlformats.org/drawingml/2006/table">
            <a:tbl>
              <a:tblPr/>
              <a:tblGrid>
                <a:gridCol w="1651320"/>
                <a:gridCol w="1509480"/>
                <a:gridCol w="1511280"/>
                <a:gridCol w="1511280"/>
                <a:gridCol w="1509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) Provee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Producto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c) Requisitos de calidad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d) Criterios evaluación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)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stánda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Matron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Embarazada atendi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Buen trato a la embarazad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A toda embarazada atendida se le habrá dado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f) Tipo de dato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g) Excep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h) Aclaracion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i) Indicadore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resultad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No hay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Se entiende por buen trato a…………………..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3366"/>
                          </a:solidFill>
                          <a:latin typeface="Verdana"/>
                        </a:rPr>
                        <a:t>% de embarazadas que recibió buen 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"/>
          <p:cNvSpPr/>
          <p:nvPr/>
        </p:nvSpPr>
        <p:spPr>
          <a:xfrm>
            <a:off x="755640" y="2349360"/>
            <a:ext cx="777708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grama , Unidad o Servicio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………………………………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F092-900C-4910-999E-313616BFA6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1992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2163600" y="834840"/>
            <a:ext cx="5166000" cy="2752560"/>
            <a:chOff x="2163600" y="834840"/>
            <a:chExt cx="5166000" cy="2752560"/>
          </a:xfrm>
        </p:grpSpPr>
        <p:sp>
          <p:nvSpPr>
            <p:cNvPr id="333" name="_s119816"/>
            <p:cNvSpPr/>
            <p:nvPr/>
          </p:nvSpPr>
          <p:spPr>
            <a:xfrm>
              <a:off x="4048200" y="1323720"/>
              <a:ext cx="1396800" cy="139680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_s119817"/>
            <p:cNvSpPr/>
            <p:nvPr/>
          </p:nvSpPr>
          <p:spPr>
            <a:xfrm>
              <a:off x="4048200" y="834840"/>
              <a:ext cx="139680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_s119818"/>
            <p:cNvSpPr/>
            <p:nvPr/>
          </p:nvSpPr>
          <p:spPr>
            <a:xfrm>
              <a:off x="4508640" y="2120760"/>
              <a:ext cx="1396800" cy="1396800"/>
            </a:xfrm>
            <a:prstGeom prst="ellipse">
              <a:avLst/>
            </a:prstGeom>
            <a:solidFill>
              <a:srgbClr val="0000ff">
                <a:alpha val="70000"/>
              </a:srgbClr>
            </a:solidFill>
            <a:ln w="46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_s119819"/>
            <p:cNvSpPr/>
            <p:nvPr/>
          </p:nvSpPr>
          <p:spPr>
            <a:xfrm>
              <a:off x="593244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_s119820"/>
            <p:cNvSpPr/>
            <p:nvPr/>
          </p:nvSpPr>
          <p:spPr>
            <a:xfrm>
              <a:off x="3587760" y="2120760"/>
              <a:ext cx="1396800" cy="1396800"/>
            </a:xfrm>
            <a:prstGeom prst="ellipse">
              <a:avLst/>
            </a:prstGeom>
            <a:solidFill>
              <a:srgbClr val="ff6600">
                <a:alpha val="71000"/>
              </a:srgbClr>
            </a:solidFill>
            <a:ln w="468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_s119821"/>
            <p:cNvSpPr/>
            <p:nvPr/>
          </p:nvSpPr>
          <p:spPr>
            <a:xfrm>
              <a:off x="2163600" y="3238560"/>
              <a:ext cx="13971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2233-D418-45FD-8E13-33DFF6BB6C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Verdana"/>
              </a:rPr>
              <a:t>CAL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71640" y="2492280"/>
          <a:ext cx="3192480" cy="374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319248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835280" y="422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ISO 9000:2000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B5C-C31D-4AC0-899A-2F5E471F35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Verdana"/>
              </a:rPr>
              <a:t>¿ Qué es la calidad de la atención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s la provisión de Servici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cces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Equitativo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con un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nivel profesional óptimo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con los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recursos disponibles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, logrando la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Arial"/>
              </a:rPr>
              <a:t>adhesión y satisfacción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del usu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ra Healther Pal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F7A-70EA-4510-9C35-68AA542E42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Modelo Europeo: Excelenci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Normas ISO (Organización Internacional de estandarización) 9000:200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3429000"/>
            <a:ext cx="374508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agente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Liderazgo 10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ersona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olítica y Estrategia  8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Alianzas y Recursos  9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Procesos  140 punt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3429000"/>
            <a:ext cx="3672000" cy="2592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3300"/>
                </a:solidFill>
                <a:latin typeface="Arial"/>
              </a:rPr>
              <a:t>Criterios como </a:t>
            </a:r>
            <a:r>
              <a:rPr b="0" lang="es-ES" sz="1800" spc="-1" strike="noStrike" u="sng">
                <a:solidFill>
                  <a:srgbClr val="cc3300"/>
                </a:solidFill>
                <a:uFillTx/>
                <a:latin typeface="Arial"/>
              </a:rPr>
              <a:t>resultad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s personas 9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os clientes 20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en la sociedad 6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Resultados clave de la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organización  50 pt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8CD-82AF-4E0D-ACE5-06993D994E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7664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Accesibil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facilidad con la cual el usuario extern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(cliente) obtiene los servicios que le ofrece el Sistema de Salu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314172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qu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ntrega de Servicios de Salud a la comunida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onsiderando los desequilibrios de necesidades entr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Usuarios del Sistem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149720"/>
            <a:ext cx="838836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mpetencia profesional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capacidad de los integrant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Equipo de Salud para utilizar sus conocimientos, habilidades,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strezas y su juicio para dar salud y satisfacción a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5229360"/>
            <a:ext cx="8388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atisfacción Usuaria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el cumplimiento o no cumplimiento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or parte del Sistema de Salud respecto de las expectativa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l usuari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363F-8883-4178-8227-BBEE11AD87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565360"/>
            <a:ext cx="7853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ectividad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: es lograr el mejor resultado con los recursos de lo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que se dispon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73360"/>
            <a:ext cx="7924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iencia</a:t>
            </a:r>
            <a:r>
              <a:rPr b="1" lang="es-ES_tradnl" sz="1800" spc="-1" strike="noStrike">
                <a:solidFill>
                  <a:srgbClr val="0033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otorgar el mayor beneficio posible,al menor cost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3366"/>
                </a:solidFill>
                <a:latin typeface="Verdana"/>
              </a:rPr>
              <a:t>razonable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653000"/>
            <a:ext cx="792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Eficacia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medida en que una determinada atención mejora el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tado de salud del que la recibe en condiciones ideales de uso de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tecnología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19E-4C31-42AD-B8E0-21A3FC01B2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Verdana"/>
              </a:rPr>
              <a:t>Dimensiones de la calida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2492280"/>
            <a:ext cx="853272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Seguridad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eliminación o reducción de riesgos, accident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Infecciones y, o efectos perjudiciales vinculados a l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restación de Servicios de Salud, tanto para el usuario como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Para el proveedo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3645000"/>
            <a:ext cx="8532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Oportun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prestación de Servicios, en condiciones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Adecuadas, cuando el usuario lo requiera y no cuando e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quipo quiera o pueda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508640"/>
            <a:ext cx="85327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Verdana"/>
              </a:rPr>
              <a:t>Continuidad  </a:t>
            </a:r>
            <a:r>
              <a:rPr b="1" lang="es-ES_tradnl" sz="18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es la atención del usuario como un todo en un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Sistema integrado, en la dimensión de la calidad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científico-técnica (atención permanente, sin interrupciones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Verdana"/>
              </a:rPr>
              <a:t>Dentro del sistema y a lo largo del ciclo de vida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76280" cy="100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f. Asis. Eduardo Lillo. U de Chi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F5E2-40A6-4AB8-8A5A-03B8F064EB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18:52:11Z</dcterms:created>
  <dc:creator>sandra</dc:creator>
  <dc:description/>
  <dc:language>en-US</dc:language>
  <cp:lastModifiedBy>Fac. de Medicina</cp:lastModifiedBy>
  <dcterms:modified xsi:type="dcterms:W3CDTF">2007-07-26T21:23:07Z</dcterms:modified>
  <cp:revision>25</cp:revision>
  <dc:subject/>
  <dc:title>Problemas de calidad</dc:title>
</cp:coreProperties>
</file>