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LATIGO.WAV" ContentType="audio/x-wav"/>
  <Override PartName="/ppt/media/image12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3.jpeg" ContentType="image/jpeg"/>
  <Override PartName="/ppt/media/image3.wmf" ContentType="image/x-wmf"/>
  <Override PartName="/ppt/media/image1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DC29-E885-43BA-840A-39EBC12B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AFB7-C3DE-4B63-9BA7-2031A10A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8EE-998E-4844-B090-B42D54AB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805B-130E-4363-B68C-2E9A41CB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198E-A269-4FF3-A688-63694B57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EA5-532B-4D87-B321-EA4B3BC9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3A0-2B4F-4A80-88F4-29C0E37F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63A-89D5-407A-89A7-20A13DF8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DB94-B46C-493E-8079-8F803856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F85-9C24-4491-B2F9-C51D489E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4DCD-7DC3-4F80-B205-C2F6B9E0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B32C-5C38-4D16-9587-4BBB32F5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6234-8894-495D-9A62-130B6704835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6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7.wmf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L SISTEMA DE SALUD CHILEN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Relaciones entre niveles de Gobierno en la Gestión de los Sistemas de Salu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Dra. Nelly Alvarado Aguilar, Médico Cirujano, Magister Salud Públic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División de Rectoría y Regulación Sanitaria, Ministerio de Salud de Ch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Rol de cada nivel de Gobierno en la atención de Salu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4572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LOS COMPONENTES DEL SISTEMA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600200"/>
            <a:ext cx="883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INISTERIO DE SALUD: polo político norm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cretarías Regionales Ministeriales de Salud (13): Adecuación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RVICIOS DE SALUD ( 29 ): Autoridad sanitaria y Provisión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Direcciones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Establecimientos de diversa complejida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NICIPIOS ( 350 ): Administración de los establecimientos de Atención Primari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LOS COMPONENTES DEL SISTEM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371600"/>
            <a:ext cx="8915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RGANISMOS AUTÓNOM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Superintendencia de Instituciones de Salud Previsional (ISAP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Fondo Nacional de Salud (FON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Central de Abastecimientos (CENAB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Instituto de Salud Pública (I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INSTITUCIONES DE FUERZAS ARM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SUPERINTENDENCIA de ISAP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iscaliza el cumplimiento de los contratos de planes de los afiliados a ISAP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FONDO NACIONAL DE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dministra los aportes fiscales a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dministra la cotización de sus afiliados (el 7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ransfiere el presupuesto a los Servicios de Salud ( Hospitales y Municipios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ENTRAL DE ABAST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rovisión de medicamentos, materiales e insumos al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antener stock de segur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Hacer intermediación entre los proveedores y los Establecimi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alizar programa de adquis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" y="380880"/>
            <a:ext cx="8381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INSTITUTO DE SALUD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447920"/>
            <a:ext cx="8458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Laboratorio nacional y de referencia: microbiología, inmunología, farmacologí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ntrol de calidad de medicamentos y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utorización de instalación y fiscalización de laboratorios 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roducción de vacunas y productos bi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utorización de medicamentos, productos farmacéuticos y estupefacientes para su comerci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228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omic Sans MS"/>
              </a:rPr>
              <a:t>LOS SERVICIOS DE SALU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523880"/>
            <a:ext cx="85345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Creados en 1979 por Ley N° 2763. Se rigen por Reglamento Orgánico D.S. N°42 de febrero 19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Les corresponde ejecutar coordinadamente acciones integradas de fomento o promoción y protección relativas a las personas y al ambiente y recuperación de la salud y de rehabilitación de las personas enferm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Integran el SNSS y dependen del MINSAL para efectos de cumplir las políticas y normas, sometiéndose a supervigila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Son organismos estatales funcionalmente descentralizados y tienen sedes y territo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Financiamiento del Sistema de Salud chilen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6240" y="2514600"/>
            <a:ext cx="2971800" cy="1141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11680" y="2744640"/>
            <a:ext cx="2568600" cy="835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guros priv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APRE (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 mil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76240" y="4114800"/>
            <a:ext cx="3211560" cy="990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stadores públ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8 Servicios descentraliz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ospitales esta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3960" y="5334120"/>
            <a:ext cx="4178160" cy="677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ención Primaria Muni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76840" y="4495680"/>
            <a:ext cx="2624040" cy="876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10160" y="1600200"/>
            <a:ext cx="3771720" cy="469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% cotización oblig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063800"/>
            <a:ext cx="792504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mic Sans MS"/>
              </a:rPr>
              <a:t>Un país, dos sis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0280" y="1600200"/>
            <a:ext cx="3111480" cy="596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uestos Gene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8" idx="1"/>
            <a:endCxn id="161" idx="1"/>
          </p:cNvCxnSpPr>
          <p:nvPr/>
        </p:nvCxnSpPr>
        <p:spPr>
          <a:xfrm flipH="1" flipV="1" rot="10800000">
            <a:off x="799200" y="1897560"/>
            <a:ext cx="76680" cy="1188360"/>
          </a:xfrm>
          <a:prstGeom prst="bentConnector3">
            <a:avLst>
              <a:gd name="adj1" fmla="val -300000"/>
            </a:avLst>
          </a:prstGeom>
          <a:ln w="38160">
            <a:solidFill>
              <a:srgbClr val="ff0014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6" idx="3"/>
            <a:endCxn id="162" idx="3"/>
          </p:cNvCxnSpPr>
          <p:nvPr/>
        </p:nvCxnSpPr>
        <p:spPr>
          <a:xfrm flipH="1">
            <a:off x="8179920" y="1835280"/>
            <a:ext cx="202320" cy="1327680"/>
          </a:xfrm>
          <a:prstGeom prst="bentConnector3">
            <a:avLst>
              <a:gd name="adj1" fmla="val -113368"/>
            </a:avLst>
          </a:prstGeom>
          <a:ln w="38160">
            <a:solidFill>
              <a:srgbClr val="ff0014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6" idx="1"/>
            <a:endCxn id="161" idx="3"/>
          </p:cNvCxnSpPr>
          <p:nvPr/>
        </p:nvCxnSpPr>
        <p:spPr>
          <a:xfrm flipV="1" rot="10800000">
            <a:off x="3847320" y="1834200"/>
            <a:ext cx="762840" cy="1251720"/>
          </a:xfrm>
          <a:prstGeom prst="bentConnector3">
            <a:avLst>
              <a:gd name="adj1" fmla="val 50000"/>
            </a:avLst>
          </a:prstGeom>
          <a:ln w="38160">
            <a:solidFill>
              <a:srgbClr val="ff0014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1" idx="3"/>
            <a:endCxn id="165" idx="1"/>
          </p:cNvCxnSpPr>
          <p:nvPr/>
        </p:nvCxnSpPr>
        <p:spPr>
          <a:xfrm>
            <a:off x="3848040" y="3086280"/>
            <a:ext cx="1829520" cy="18482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3" name=""/>
          <p:cNvCxnSpPr>
            <a:stCxn id="161" idx="2"/>
            <a:endCxn id="163" idx="1"/>
          </p:cNvCxnSpPr>
          <p:nvPr/>
        </p:nvCxnSpPr>
        <p:spPr>
          <a:xfrm rot="5400000">
            <a:off x="1141560" y="3390120"/>
            <a:ext cx="954720" cy="1486800"/>
          </a:xfrm>
          <a:prstGeom prst="bentConnector4">
            <a:avLst>
              <a:gd name="adj1" fmla="val 23953"/>
              <a:gd name="adj2" fmla="val 115379"/>
            </a:avLst>
          </a:prstGeom>
          <a:ln w="38160">
            <a:solidFill>
              <a:srgbClr val="ff0014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1" idx="2"/>
            <a:endCxn id="164" idx="1"/>
          </p:cNvCxnSpPr>
          <p:nvPr/>
        </p:nvCxnSpPr>
        <p:spPr>
          <a:xfrm rot="5400000">
            <a:off x="533520" y="3845520"/>
            <a:ext cx="2018160" cy="1639080"/>
          </a:xfrm>
          <a:prstGeom prst="bentConnector4">
            <a:avLst>
              <a:gd name="adj1" fmla="val 41534"/>
              <a:gd name="adj2" fmla="val 1139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3" idx="0"/>
            <a:endCxn id="165" idx="0"/>
          </p:cNvCxnSpPr>
          <p:nvPr/>
        </p:nvCxnSpPr>
        <p:spPr>
          <a:xfrm flipH="1" rot="16200000">
            <a:off x="4545720" y="2051640"/>
            <a:ext cx="381600" cy="4507560"/>
          </a:xfrm>
          <a:prstGeom prst="bentConnector3">
            <a:avLst>
              <a:gd name="adj1" fmla="val -59962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6" name=""/>
          <p:cNvCxnSpPr>
            <a:stCxn id="163" idx="3"/>
            <a:endCxn id="162" idx="1"/>
          </p:cNvCxnSpPr>
          <p:nvPr/>
        </p:nvCxnSpPr>
        <p:spPr>
          <a:xfrm flipV="1">
            <a:off x="4087440" y="3161880"/>
            <a:ext cx="1524600" cy="14486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880" y="609480"/>
            <a:ext cx="8763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Ingresos Sector Público de Sal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442880" y="2435400"/>
          <a:ext cx="6326280" cy="2819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2880" y="2435400"/>
                    <a:ext cx="632628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Situación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tor privado recauda 65% de las cotizaciones en salud para atender al 23%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sector público, con el 35% de las cotizaciones atiende las demandas del 62% de las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sector público cautela solidaridad de cotizantes de mayores ingresos hacia los pobres e indig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sistema privado es de capitalización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Cobertura y Organización del Sistema de Salud chileno: </a:t>
            </a:r>
            <a:br>
              <a:rPr sz="4000"/>
            </a:b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algunos antecedentes pobl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Situación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066680"/>
            <a:ext cx="86104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acción ISAPRE 20%. En el sector público alcanza a 4 - 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s ISAPRE funcionan con imperfecciones de mercado que repercuten en usuarios (oligopolio, selección de riesgo: contra los más viejos, los más pobres, mujeres y enfermos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sector público funciona como reaseguro implícito del sector privado: la población usuaria es mayor a la beneficia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Análisis históric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668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Retrospectiva Históric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del Sistema Nacional de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219320"/>
            <a:ext cx="848844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Años 1800, Hospitales construidos gracias a la beneficencia y administrados por la Igl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Año 1924, se crea el “Ministerio de Higiene, Asistencia y Previsión Social”. Año 1925, se crea el “Servicio Nacional de Salubridad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12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Año 1939, se inicia discusión en el Parlamento de la reforma a los beneficios de la Seguridad Social de los Trabajadores y de la coordinación e integración de los sistemas de atención de salud y de salud pública del paí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12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12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3300"/>
                </a:solidFill>
                <a:latin typeface="Comic Sans MS"/>
              </a:rPr>
              <a:t>Año 1952, se aprueba y promulga la Ley 10.383 que crea el Servicio Nacional de Salud (SNS), segundo en ser creado en 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>
            <a:lum contrast="4000"/>
          </a:blip>
          <a:stretch/>
        </p:blipFill>
        <p:spPr>
          <a:xfrm>
            <a:off x="0" y="0"/>
            <a:ext cx="12351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-685800" y="380880"/>
            <a:ext cx="9524880" cy="62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Reforma de los 80’ - 90’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125"/>
              </a:spcBef>
              <a:buClr>
                <a:srgbClr val="cc0000"/>
              </a:buClr>
              <a:buSzPct val="120000"/>
              <a:buFont typeface="Monotype Sorts" charset="2"/>
              <a:buChar char="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Comic Sans MS"/>
              </a:rPr>
              <a:t>Año 1979, se dicta el D.L. 2.763, que reorganiza el Ministerio de Salud (creando el FONASA) creando el nuevo Sistema Nacional de Servicios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125"/>
              </a:spcBef>
              <a:buClr>
                <a:srgbClr val="cc0000"/>
              </a:buClr>
              <a:buSzPct val="120000"/>
              <a:buFont typeface="Monotype Sorts" charset="2"/>
              <a:buChar char="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ff"/>
                </a:solidFill>
                <a:latin typeface="Comic Sans MS"/>
              </a:rPr>
              <a:t>Año 1981, reforma a la Seguridad Social y creación de las Administradoras de Fondos de Pensiones (AFP 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125"/>
              </a:spcBef>
              <a:buClr>
                <a:srgbClr val="cc0000"/>
              </a:buClr>
              <a:buSzPct val="120000"/>
              <a:buFont typeface="Monotype Sorts" charset="2"/>
              <a:buChar char="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Comic Sans MS"/>
              </a:rPr>
              <a:t>Año 1981, se dicta el D.F.L. N° 1 que inicia el traspaso de los establecimientos del nivel primario de atención a la administración muni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125"/>
              </a:spcBef>
              <a:buClr>
                <a:srgbClr val="cc0000"/>
              </a:buClr>
              <a:buSzPct val="120000"/>
              <a:buFont typeface="Monotype Sorts" charset="2"/>
              <a:buChar char="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Comic Sans MS"/>
              </a:rPr>
              <a:t>Año 1981, se dicta el D.F.L. N° 3 que crea las “Instituciones de Salud Previsional” (ISAPRE), a las cuales pueden acceder como afiliados todos los trabajadores que cotizan para su atención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125"/>
              </a:spcBef>
              <a:buClr>
                <a:srgbClr val="cc0000"/>
              </a:buClr>
              <a:buSzPct val="120000"/>
              <a:buFont typeface="Monotype Sorts" charset="2"/>
              <a:buChar char="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ff"/>
                </a:solidFill>
                <a:latin typeface="Comic Sans MS"/>
              </a:rPr>
              <a:t>Año 1995, se promulga la Ley 19.378, que crea el “Estatuto de Atención Primaria Municipal”, que consolida la transferencia de la administración de esos establecimientos a los municipios, iniciada en 1981 por el régimen milit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53352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Modernización de Hospitales para el AUGE (Sistema de Acceso Universal con Garantías Explícita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676520"/>
            <a:ext cx="3581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OSPITALES PUBLICOS  DE MAYOR COMPLEJIDAD (TIPOS 1 Y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stablecimientos        :        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otación                 :     1.8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2946240"/>
            <a:ext cx="3581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QUISI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001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ejoramientos de gest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001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quilibrio financi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001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umplimiento convenios PPV-A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4038480"/>
            <a:ext cx="3581280" cy="275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 algn="ctr">
              <a:lnSpc>
                <a:spcPct val="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PITA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GESTIONADOS EN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YORES FLEXIBILIDADES ADMINISTRATIVAS E INCEN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venios directos con FONASA para PPV-AU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ponibilidad de uso de recursos autogene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para contratar horas no médicas y téc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ignación de responsabilidad para directivos superi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1676520"/>
            <a:ext cx="365760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OSPITALES PUBLICOS DE MENOR COMPLEJIDAD (TIPOS 3 Y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stablecimientos       :     127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otación                :     3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3048120"/>
            <a:ext cx="3733920" cy="15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QUISI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umplimiento de metas fijadas por Servicios de Salud respecto 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001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esempeño sani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001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est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001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juste presupuest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001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5029200"/>
            <a:ext cx="3733920" cy="117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ENTIVOS POR CUMPLIMIEN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88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ME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88920">
              <a:lnSpc>
                <a:spcPct val="100000"/>
              </a:lnSpc>
              <a:buClr>
                <a:srgbClr val="ff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no colectivo para funcionarios no méd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88920">
              <a:lnSpc>
                <a:spcPct val="100000"/>
              </a:lnSpc>
              <a:buClr>
                <a:srgbClr val="ff0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0800000">
            <a:off x="6095520" y="4343040"/>
            <a:ext cx="304920" cy="76212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0800000">
            <a:off x="6095520" y="2437920"/>
            <a:ext cx="304920" cy="76212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3733920" y="3580920"/>
            <a:ext cx="304560" cy="762120"/>
          </a:xfrm>
          <a:prstGeom prst="upArrow">
            <a:avLst>
              <a:gd name="adj1" fmla="val 50000"/>
              <a:gd name="adj2" fmla="val 62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0800000">
            <a:off x="3733920" y="2362320"/>
            <a:ext cx="304560" cy="761760"/>
          </a:xfrm>
          <a:prstGeom prst="upArrow">
            <a:avLst>
              <a:gd name="adj1" fmla="val 50000"/>
              <a:gd name="adj2" fmla="val 62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6765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Los Desafíos de la REFORMA SECTORIAL: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Comic Sans MS"/>
              </a:rPr>
              <a:t>Aspectos positivos y negativos del funcionamiento del Sistema</a:t>
            </a: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0"/>
            <a:ext cx="7848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Distribución de Ingreso de afiliados 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ISAPRE o FON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85800" y="2514600"/>
          <a:ext cx="8061480" cy="411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514600"/>
                    <a:ext cx="806148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457200" y="2209680"/>
            <a:ext cx="5715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% del total de trabajadores form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43800" y="2743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bertus Extra Bold"/>
              </a:rPr>
              <a:t>US$ 19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0" y="914400"/>
          <a:ext cx="9144000" cy="5057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914400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295280" y="247680"/>
            <a:ext cx="7597800" cy="642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SALUD DE CHILE SEGÚN VARIOS INDICA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ORGANIZACIÓN MUNDIAL DE LA SALUD, INFORME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6019920"/>
            <a:ext cx="8839080" cy="6426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UY BUENA ATENCION DE MENORES DE CINCO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MUY INEQUITATIVO DESEMPEÑO DE LA SALUD CHIL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90720" y="53352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uestros desafí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28880" y="1143000"/>
            <a:ext cx="758160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buClr>
                <a:srgbClr val="ff0014"/>
              </a:buClr>
              <a:buSzPct val="13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dernizar el modelo de salud en Atención Primaria, Especialidades Ambulatorias y Atención Hospitalaria, mejorando la relación entre los sistemas público y pri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0014"/>
              </a:buClr>
              <a:buSzPct val="13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jorar la resolutividad en la Atención Primaria de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buClr>
                <a:srgbClr val="ff0014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2666880"/>
            <a:ext cx="73915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ayor Acceso en la Atención 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Incremento de Consultas Médicas  1999-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35280" y="4267080"/>
            <a:ext cx="803160" cy="1168560"/>
          </a:xfrm>
          <a:custGeom>
            <a:avLst/>
            <a:gdLst/>
            <a:ahLst/>
            <a:rect l="l" t="t" r="r" b="b"/>
            <a:pathLst>
              <a:path w="506" h="672">
                <a:moveTo>
                  <a:pt x="0" y="0"/>
                </a:moveTo>
                <a:lnTo>
                  <a:pt x="506" y="0"/>
                </a:lnTo>
                <a:lnTo>
                  <a:pt x="506" y="672"/>
                </a:lnTo>
                <a:lnTo>
                  <a:pt x="0" y="67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99000" y="4038480"/>
            <a:ext cx="795240" cy="1397160"/>
          </a:xfrm>
          <a:custGeom>
            <a:avLst/>
            <a:gdLst/>
            <a:ahLst/>
            <a:rect l="l" t="t" r="r" b="b"/>
            <a:pathLst>
              <a:path w="501" h="827">
                <a:moveTo>
                  <a:pt x="0" y="0"/>
                </a:moveTo>
                <a:lnTo>
                  <a:pt x="501" y="0"/>
                </a:lnTo>
                <a:lnTo>
                  <a:pt x="501" y="827"/>
                </a:lnTo>
                <a:lnTo>
                  <a:pt x="0" y="82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53000" y="3886200"/>
            <a:ext cx="803160" cy="1549440"/>
          </a:xfrm>
          <a:custGeom>
            <a:avLst/>
            <a:gdLst/>
            <a:ahLst/>
            <a:rect l="l" t="t" r="r" b="b"/>
            <a:pathLst>
              <a:path w="506" h="922">
                <a:moveTo>
                  <a:pt x="0" y="0"/>
                </a:moveTo>
                <a:lnTo>
                  <a:pt x="506" y="0"/>
                </a:lnTo>
                <a:lnTo>
                  <a:pt x="506" y="922"/>
                </a:lnTo>
                <a:lnTo>
                  <a:pt x="0" y="92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14920" y="3809880"/>
            <a:ext cx="795240" cy="1625760"/>
          </a:xfrm>
          <a:custGeom>
            <a:avLst/>
            <a:gdLst/>
            <a:ahLst/>
            <a:rect l="l" t="t" r="r" b="b"/>
            <a:pathLst>
              <a:path w="501" h="967">
                <a:moveTo>
                  <a:pt x="0" y="0"/>
                </a:moveTo>
                <a:lnTo>
                  <a:pt x="501" y="0"/>
                </a:lnTo>
                <a:lnTo>
                  <a:pt x="501" y="967"/>
                </a:lnTo>
                <a:lnTo>
                  <a:pt x="0" y="96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55720" y="5435640"/>
            <a:ext cx="3834000" cy="1440"/>
          </a:xfrm>
          <a:custGeom>
            <a:avLst/>
            <a:gdLst/>
            <a:ahLst/>
            <a:rect l="l" t="t" r="r" b="b"/>
            <a:pathLst>
              <a:path w="2415" h="0">
                <a:moveTo>
                  <a:pt x="0" y="0"/>
                </a:moveTo>
                <a:lnTo>
                  <a:pt x="24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655720" y="5435640"/>
            <a:ext cx="38340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19440" y="5388120"/>
            <a:ext cx="1800" cy="95040"/>
          </a:xfrm>
          <a:custGeom>
            <a:avLst/>
            <a:gdLst/>
            <a:ahLst/>
            <a:rect l="l" t="t" r="r" b="b"/>
            <a:pathLst>
              <a:path w="0" h="60">
                <a:moveTo>
                  <a:pt x="0" y="60"/>
                </a:moveTo>
                <a:lnTo>
                  <a:pt x="0" y="0"/>
                </a:lnTo>
                <a:lnTo>
                  <a:pt x="0" y="6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3440" y="5388120"/>
            <a:ext cx="1800" cy="95040"/>
          </a:xfrm>
          <a:custGeom>
            <a:avLst/>
            <a:gdLst/>
            <a:ahLst/>
            <a:rect l="l" t="t" r="r" b="b"/>
            <a:pathLst>
              <a:path w="0" h="60">
                <a:moveTo>
                  <a:pt x="0" y="60"/>
                </a:moveTo>
                <a:lnTo>
                  <a:pt x="0" y="0"/>
                </a:lnTo>
                <a:lnTo>
                  <a:pt x="0" y="6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19440" y="5388120"/>
            <a:ext cx="1800" cy="9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3440" y="5388120"/>
            <a:ext cx="1800" cy="9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35720" y="5388120"/>
            <a:ext cx="1440" cy="95040"/>
          </a:xfrm>
          <a:custGeom>
            <a:avLst/>
            <a:gdLst/>
            <a:ahLst/>
            <a:rect l="l" t="t" r="r" b="b"/>
            <a:pathLst>
              <a:path w="0" h="60">
                <a:moveTo>
                  <a:pt x="0" y="60"/>
                </a:moveTo>
                <a:lnTo>
                  <a:pt x="0" y="0"/>
                </a:lnTo>
                <a:lnTo>
                  <a:pt x="0" y="6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35720" y="5388120"/>
            <a:ext cx="1440" cy="9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94200" y="4122720"/>
            <a:ext cx="102960" cy="103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94200" y="4122720"/>
            <a:ext cx="102960" cy="103320"/>
          </a:xfrm>
          <a:custGeom>
            <a:avLst/>
            <a:gdLst/>
            <a:ahLst/>
            <a:rect l="l" t="t" r="r" b="b"/>
            <a:pathLst>
              <a:path w="65" h="65">
                <a:moveTo>
                  <a:pt x="35" y="0"/>
                </a:moveTo>
                <a:lnTo>
                  <a:pt x="35" y="0"/>
                </a:lnTo>
                <a:lnTo>
                  <a:pt x="40" y="0"/>
                </a:lnTo>
                <a:lnTo>
                  <a:pt x="40" y="0"/>
                </a:lnTo>
                <a:lnTo>
                  <a:pt x="45" y="0"/>
                </a:lnTo>
                <a:lnTo>
                  <a:pt x="50" y="5"/>
                </a:lnTo>
                <a:lnTo>
                  <a:pt x="50" y="5"/>
                </a:lnTo>
                <a:lnTo>
                  <a:pt x="55" y="5"/>
                </a:lnTo>
                <a:lnTo>
                  <a:pt x="55" y="10"/>
                </a:lnTo>
                <a:lnTo>
                  <a:pt x="60" y="10"/>
                </a:lnTo>
                <a:lnTo>
                  <a:pt x="60" y="15"/>
                </a:lnTo>
                <a:lnTo>
                  <a:pt x="60" y="15"/>
                </a:lnTo>
                <a:lnTo>
                  <a:pt x="65" y="20"/>
                </a:lnTo>
                <a:lnTo>
                  <a:pt x="65" y="25"/>
                </a:lnTo>
                <a:lnTo>
                  <a:pt x="65" y="25"/>
                </a:lnTo>
                <a:lnTo>
                  <a:pt x="65" y="30"/>
                </a:lnTo>
                <a:lnTo>
                  <a:pt x="65" y="35"/>
                </a:lnTo>
                <a:lnTo>
                  <a:pt x="65" y="35"/>
                </a:lnTo>
                <a:lnTo>
                  <a:pt x="65" y="40"/>
                </a:lnTo>
                <a:lnTo>
                  <a:pt x="65" y="40"/>
                </a:lnTo>
                <a:lnTo>
                  <a:pt x="65" y="45"/>
                </a:lnTo>
                <a:lnTo>
                  <a:pt x="60" y="50"/>
                </a:lnTo>
                <a:lnTo>
                  <a:pt x="60" y="50"/>
                </a:lnTo>
                <a:lnTo>
                  <a:pt x="60" y="55"/>
                </a:lnTo>
                <a:lnTo>
                  <a:pt x="55" y="55"/>
                </a:lnTo>
                <a:lnTo>
                  <a:pt x="55" y="60"/>
                </a:lnTo>
                <a:lnTo>
                  <a:pt x="50" y="60"/>
                </a:lnTo>
                <a:lnTo>
                  <a:pt x="50" y="60"/>
                </a:lnTo>
                <a:lnTo>
                  <a:pt x="45" y="65"/>
                </a:lnTo>
                <a:lnTo>
                  <a:pt x="40" y="65"/>
                </a:lnTo>
                <a:lnTo>
                  <a:pt x="40" y="65"/>
                </a:lnTo>
                <a:lnTo>
                  <a:pt x="35" y="65"/>
                </a:lnTo>
                <a:lnTo>
                  <a:pt x="35" y="65"/>
                </a:lnTo>
                <a:lnTo>
                  <a:pt x="30" y="65"/>
                </a:lnTo>
                <a:lnTo>
                  <a:pt x="25" y="65"/>
                </a:lnTo>
                <a:lnTo>
                  <a:pt x="25" y="65"/>
                </a:lnTo>
                <a:lnTo>
                  <a:pt x="20" y="65"/>
                </a:lnTo>
                <a:lnTo>
                  <a:pt x="15" y="60"/>
                </a:lnTo>
                <a:lnTo>
                  <a:pt x="15" y="60"/>
                </a:lnTo>
                <a:lnTo>
                  <a:pt x="10" y="60"/>
                </a:lnTo>
                <a:lnTo>
                  <a:pt x="10" y="55"/>
                </a:lnTo>
                <a:lnTo>
                  <a:pt x="5" y="55"/>
                </a:lnTo>
                <a:lnTo>
                  <a:pt x="5" y="50"/>
                </a:lnTo>
                <a:lnTo>
                  <a:pt x="5" y="50"/>
                </a:lnTo>
                <a:lnTo>
                  <a:pt x="0" y="45"/>
                </a:lnTo>
                <a:lnTo>
                  <a:pt x="0" y="40"/>
                </a:lnTo>
                <a:lnTo>
                  <a:pt x="0" y="40"/>
                </a:lnTo>
                <a:lnTo>
                  <a:pt x="0" y="35"/>
                </a:lnTo>
                <a:lnTo>
                  <a:pt x="0" y="35"/>
                </a:lnTo>
                <a:lnTo>
                  <a:pt x="0" y="30"/>
                </a:lnTo>
                <a:lnTo>
                  <a:pt x="0" y="25"/>
                </a:lnTo>
                <a:lnTo>
                  <a:pt x="0" y="25"/>
                </a:lnTo>
                <a:lnTo>
                  <a:pt x="0" y="20"/>
                </a:lnTo>
                <a:lnTo>
                  <a:pt x="5" y="15"/>
                </a:lnTo>
                <a:lnTo>
                  <a:pt x="5" y="15"/>
                </a:lnTo>
                <a:lnTo>
                  <a:pt x="5" y="10"/>
                </a:lnTo>
                <a:lnTo>
                  <a:pt x="10" y="10"/>
                </a:lnTo>
                <a:lnTo>
                  <a:pt x="10" y="5"/>
                </a:lnTo>
                <a:lnTo>
                  <a:pt x="15" y="5"/>
                </a:lnTo>
                <a:lnTo>
                  <a:pt x="15" y="5"/>
                </a:lnTo>
                <a:lnTo>
                  <a:pt x="20" y="0"/>
                </a:lnTo>
                <a:lnTo>
                  <a:pt x="25" y="0"/>
                </a:lnTo>
                <a:lnTo>
                  <a:pt x="25" y="0"/>
                </a:lnTo>
                <a:lnTo>
                  <a:pt x="30" y="0"/>
                </a:lnTo>
                <a:lnTo>
                  <a:pt x="35" y="0"/>
                </a:lnTo>
                <a:lnTo>
                  <a:pt x="35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56120" y="3868560"/>
            <a:ext cx="102960" cy="103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56120" y="3868560"/>
            <a:ext cx="102960" cy="103320"/>
          </a:xfrm>
          <a:custGeom>
            <a:avLst/>
            <a:gdLst/>
            <a:ahLst/>
            <a:rect l="l" t="t" r="r" b="b"/>
            <a:pathLst>
              <a:path w="65" h="65">
                <a:moveTo>
                  <a:pt x="35" y="0"/>
                </a:moveTo>
                <a:lnTo>
                  <a:pt x="35" y="0"/>
                </a:lnTo>
                <a:lnTo>
                  <a:pt x="40" y="0"/>
                </a:lnTo>
                <a:lnTo>
                  <a:pt x="40" y="0"/>
                </a:lnTo>
                <a:lnTo>
                  <a:pt x="45" y="0"/>
                </a:lnTo>
                <a:lnTo>
                  <a:pt x="50" y="5"/>
                </a:lnTo>
                <a:lnTo>
                  <a:pt x="50" y="5"/>
                </a:lnTo>
                <a:lnTo>
                  <a:pt x="55" y="5"/>
                </a:lnTo>
                <a:lnTo>
                  <a:pt x="55" y="10"/>
                </a:lnTo>
                <a:lnTo>
                  <a:pt x="60" y="10"/>
                </a:lnTo>
                <a:lnTo>
                  <a:pt x="60" y="15"/>
                </a:lnTo>
                <a:lnTo>
                  <a:pt x="60" y="15"/>
                </a:lnTo>
                <a:lnTo>
                  <a:pt x="65" y="20"/>
                </a:lnTo>
                <a:lnTo>
                  <a:pt x="65" y="25"/>
                </a:lnTo>
                <a:lnTo>
                  <a:pt x="65" y="25"/>
                </a:lnTo>
                <a:lnTo>
                  <a:pt x="65" y="30"/>
                </a:lnTo>
                <a:lnTo>
                  <a:pt x="65" y="35"/>
                </a:lnTo>
                <a:lnTo>
                  <a:pt x="65" y="35"/>
                </a:lnTo>
                <a:lnTo>
                  <a:pt x="65" y="40"/>
                </a:lnTo>
                <a:lnTo>
                  <a:pt x="65" y="40"/>
                </a:lnTo>
                <a:lnTo>
                  <a:pt x="65" y="45"/>
                </a:lnTo>
                <a:lnTo>
                  <a:pt x="60" y="50"/>
                </a:lnTo>
                <a:lnTo>
                  <a:pt x="60" y="50"/>
                </a:lnTo>
                <a:lnTo>
                  <a:pt x="60" y="55"/>
                </a:lnTo>
                <a:lnTo>
                  <a:pt x="55" y="55"/>
                </a:lnTo>
                <a:lnTo>
                  <a:pt x="55" y="60"/>
                </a:lnTo>
                <a:lnTo>
                  <a:pt x="50" y="60"/>
                </a:lnTo>
                <a:lnTo>
                  <a:pt x="50" y="60"/>
                </a:lnTo>
                <a:lnTo>
                  <a:pt x="45" y="65"/>
                </a:lnTo>
                <a:lnTo>
                  <a:pt x="40" y="65"/>
                </a:lnTo>
                <a:lnTo>
                  <a:pt x="40" y="65"/>
                </a:lnTo>
                <a:lnTo>
                  <a:pt x="35" y="65"/>
                </a:lnTo>
                <a:lnTo>
                  <a:pt x="35" y="65"/>
                </a:lnTo>
                <a:lnTo>
                  <a:pt x="30" y="65"/>
                </a:lnTo>
                <a:lnTo>
                  <a:pt x="25" y="65"/>
                </a:lnTo>
                <a:lnTo>
                  <a:pt x="25" y="65"/>
                </a:lnTo>
                <a:lnTo>
                  <a:pt x="20" y="65"/>
                </a:lnTo>
                <a:lnTo>
                  <a:pt x="15" y="60"/>
                </a:lnTo>
                <a:lnTo>
                  <a:pt x="15" y="60"/>
                </a:lnTo>
                <a:lnTo>
                  <a:pt x="10" y="60"/>
                </a:lnTo>
                <a:lnTo>
                  <a:pt x="10" y="55"/>
                </a:lnTo>
                <a:lnTo>
                  <a:pt x="5" y="55"/>
                </a:lnTo>
                <a:lnTo>
                  <a:pt x="5" y="50"/>
                </a:lnTo>
                <a:lnTo>
                  <a:pt x="5" y="50"/>
                </a:lnTo>
                <a:lnTo>
                  <a:pt x="0" y="45"/>
                </a:lnTo>
                <a:lnTo>
                  <a:pt x="0" y="40"/>
                </a:lnTo>
                <a:lnTo>
                  <a:pt x="0" y="40"/>
                </a:lnTo>
                <a:lnTo>
                  <a:pt x="0" y="35"/>
                </a:lnTo>
                <a:lnTo>
                  <a:pt x="0" y="35"/>
                </a:lnTo>
                <a:lnTo>
                  <a:pt x="0" y="30"/>
                </a:lnTo>
                <a:lnTo>
                  <a:pt x="0" y="25"/>
                </a:lnTo>
                <a:lnTo>
                  <a:pt x="0" y="25"/>
                </a:lnTo>
                <a:lnTo>
                  <a:pt x="0" y="20"/>
                </a:lnTo>
                <a:lnTo>
                  <a:pt x="5" y="15"/>
                </a:lnTo>
                <a:lnTo>
                  <a:pt x="5" y="15"/>
                </a:lnTo>
                <a:lnTo>
                  <a:pt x="5" y="10"/>
                </a:lnTo>
                <a:lnTo>
                  <a:pt x="10" y="10"/>
                </a:lnTo>
                <a:lnTo>
                  <a:pt x="10" y="5"/>
                </a:lnTo>
                <a:lnTo>
                  <a:pt x="15" y="5"/>
                </a:lnTo>
                <a:lnTo>
                  <a:pt x="15" y="5"/>
                </a:lnTo>
                <a:lnTo>
                  <a:pt x="20" y="0"/>
                </a:lnTo>
                <a:lnTo>
                  <a:pt x="25" y="0"/>
                </a:lnTo>
                <a:lnTo>
                  <a:pt x="25" y="0"/>
                </a:lnTo>
                <a:lnTo>
                  <a:pt x="30" y="0"/>
                </a:lnTo>
                <a:lnTo>
                  <a:pt x="35" y="0"/>
                </a:lnTo>
                <a:lnTo>
                  <a:pt x="35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10120" y="3710160"/>
            <a:ext cx="104760" cy="102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10120" y="3710160"/>
            <a:ext cx="104760" cy="102960"/>
          </a:xfrm>
          <a:custGeom>
            <a:avLst/>
            <a:gdLst/>
            <a:ahLst/>
            <a:rect l="l" t="t" r="r" b="b"/>
            <a:pathLst>
              <a:path w="66" h="65">
                <a:moveTo>
                  <a:pt x="36" y="0"/>
                </a:moveTo>
                <a:lnTo>
                  <a:pt x="36" y="0"/>
                </a:lnTo>
                <a:lnTo>
                  <a:pt x="41" y="0"/>
                </a:lnTo>
                <a:lnTo>
                  <a:pt x="41" y="0"/>
                </a:lnTo>
                <a:lnTo>
                  <a:pt x="46" y="0"/>
                </a:lnTo>
                <a:lnTo>
                  <a:pt x="51" y="5"/>
                </a:lnTo>
                <a:lnTo>
                  <a:pt x="51" y="5"/>
                </a:lnTo>
                <a:lnTo>
                  <a:pt x="56" y="5"/>
                </a:lnTo>
                <a:lnTo>
                  <a:pt x="56" y="10"/>
                </a:lnTo>
                <a:lnTo>
                  <a:pt x="61" y="10"/>
                </a:lnTo>
                <a:lnTo>
                  <a:pt x="61" y="15"/>
                </a:lnTo>
                <a:lnTo>
                  <a:pt x="61" y="15"/>
                </a:lnTo>
                <a:lnTo>
                  <a:pt x="66" y="20"/>
                </a:lnTo>
                <a:lnTo>
                  <a:pt x="66" y="25"/>
                </a:lnTo>
                <a:lnTo>
                  <a:pt x="66" y="25"/>
                </a:lnTo>
                <a:lnTo>
                  <a:pt x="66" y="30"/>
                </a:lnTo>
                <a:lnTo>
                  <a:pt x="66" y="35"/>
                </a:lnTo>
                <a:lnTo>
                  <a:pt x="66" y="35"/>
                </a:lnTo>
                <a:lnTo>
                  <a:pt x="66" y="40"/>
                </a:lnTo>
                <a:lnTo>
                  <a:pt x="66" y="40"/>
                </a:lnTo>
                <a:lnTo>
                  <a:pt x="66" y="45"/>
                </a:lnTo>
                <a:lnTo>
                  <a:pt x="61" y="50"/>
                </a:lnTo>
                <a:lnTo>
                  <a:pt x="61" y="50"/>
                </a:lnTo>
                <a:lnTo>
                  <a:pt x="61" y="55"/>
                </a:lnTo>
                <a:lnTo>
                  <a:pt x="56" y="55"/>
                </a:lnTo>
                <a:lnTo>
                  <a:pt x="56" y="60"/>
                </a:lnTo>
                <a:lnTo>
                  <a:pt x="51" y="60"/>
                </a:lnTo>
                <a:lnTo>
                  <a:pt x="51" y="60"/>
                </a:lnTo>
                <a:lnTo>
                  <a:pt x="46" y="65"/>
                </a:lnTo>
                <a:lnTo>
                  <a:pt x="41" y="65"/>
                </a:lnTo>
                <a:lnTo>
                  <a:pt x="41" y="65"/>
                </a:lnTo>
                <a:lnTo>
                  <a:pt x="36" y="65"/>
                </a:lnTo>
                <a:lnTo>
                  <a:pt x="36" y="65"/>
                </a:lnTo>
                <a:lnTo>
                  <a:pt x="30" y="65"/>
                </a:lnTo>
                <a:lnTo>
                  <a:pt x="25" y="65"/>
                </a:lnTo>
                <a:lnTo>
                  <a:pt x="25" y="65"/>
                </a:lnTo>
                <a:lnTo>
                  <a:pt x="20" y="65"/>
                </a:lnTo>
                <a:lnTo>
                  <a:pt x="15" y="60"/>
                </a:lnTo>
                <a:lnTo>
                  <a:pt x="15" y="60"/>
                </a:lnTo>
                <a:lnTo>
                  <a:pt x="10" y="60"/>
                </a:lnTo>
                <a:lnTo>
                  <a:pt x="10" y="55"/>
                </a:lnTo>
                <a:lnTo>
                  <a:pt x="5" y="55"/>
                </a:lnTo>
                <a:lnTo>
                  <a:pt x="5" y="50"/>
                </a:lnTo>
                <a:lnTo>
                  <a:pt x="5" y="50"/>
                </a:lnTo>
                <a:lnTo>
                  <a:pt x="0" y="45"/>
                </a:lnTo>
                <a:lnTo>
                  <a:pt x="0" y="40"/>
                </a:lnTo>
                <a:lnTo>
                  <a:pt x="0" y="40"/>
                </a:lnTo>
                <a:lnTo>
                  <a:pt x="0" y="35"/>
                </a:lnTo>
                <a:lnTo>
                  <a:pt x="0" y="35"/>
                </a:lnTo>
                <a:lnTo>
                  <a:pt x="0" y="30"/>
                </a:lnTo>
                <a:lnTo>
                  <a:pt x="0" y="25"/>
                </a:lnTo>
                <a:lnTo>
                  <a:pt x="0" y="25"/>
                </a:lnTo>
                <a:lnTo>
                  <a:pt x="0" y="20"/>
                </a:lnTo>
                <a:lnTo>
                  <a:pt x="5" y="15"/>
                </a:lnTo>
                <a:lnTo>
                  <a:pt x="5" y="15"/>
                </a:lnTo>
                <a:lnTo>
                  <a:pt x="5" y="10"/>
                </a:lnTo>
                <a:lnTo>
                  <a:pt x="10" y="10"/>
                </a:lnTo>
                <a:lnTo>
                  <a:pt x="10" y="5"/>
                </a:lnTo>
                <a:lnTo>
                  <a:pt x="15" y="5"/>
                </a:lnTo>
                <a:lnTo>
                  <a:pt x="15" y="5"/>
                </a:lnTo>
                <a:lnTo>
                  <a:pt x="20" y="0"/>
                </a:lnTo>
                <a:lnTo>
                  <a:pt x="25" y="0"/>
                </a:lnTo>
                <a:lnTo>
                  <a:pt x="25" y="0"/>
                </a:lnTo>
                <a:lnTo>
                  <a:pt x="30" y="0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973840" y="3637080"/>
            <a:ext cx="102960" cy="1047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73840" y="3637080"/>
            <a:ext cx="102960" cy="104760"/>
          </a:xfrm>
          <a:custGeom>
            <a:avLst/>
            <a:gdLst/>
            <a:ahLst/>
            <a:rect l="l" t="t" r="r" b="b"/>
            <a:pathLst>
              <a:path w="65" h="66">
                <a:moveTo>
                  <a:pt x="35" y="0"/>
                </a:moveTo>
                <a:lnTo>
                  <a:pt x="35" y="0"/>
                </a:lnTo>
                <a:lnTo>
                  <a:pt x="40" y="0"/>
                </a:lnTo>
                <a:lnTo>
                  <a:pt x="40" y="0"/>
                </a:lnTo>
                <a:lnTo>
                  <a:pt x="45" y="0"/>
                </a:lnTo>
                <a:lnTo>
                  <a:pt x="50" y="5"/>
                </a:lnTo>
                <a:lnTo>
                  <a:pt x="50" y="5"/>
                </a:lnTo>
                <a:lnTo>
                  <a:pt x="55" y="5"/>
                </a:lnTo>
                <a:lnTo>
                  <a:pt x="55" y="10"/>
                </a:lnTo>
                <a:lnTo>
                  <a:pt x="60" y="10"/>
                </a:lnTo>
                <a:lnTo>
                  <a:pt x="60" y="15"/>
                </a:lnTo>
                <a:lnTo>
                  <a:pt x="60" y="15"/>
                </a:lnTo>
                <a:lnTo>
                  <a:pt x="65" y="20"/>
                </a:lnTo>
                <a:lnTo>
                  <a:pt x="65" y="25"/>
                </a:lnTo>
                <a:lnTo>
                  <a:pt x="65" y="25"/>
                </a:lnTo>
                <a:lnTo>
                  <a:pt x="65" y="30"/>
                </a:lnTo>
                <a:lnTo>
                  <a:pt x="65" y="35"/>
                </a:lnTo>
                <a:lnTo>
                  <a:pt x="65" y="35"/>
                </a:lnTo>
                <a:lnTo>
                  <a:pt x="65" y="40"/>
                </a:lnTo>
                <a:lnTo>
                  <a:pt x="65" y="40"/>
                </a:lnTo>
                <a:lnTo>
                  <a:pt x="65" y="46"/>
                </a:lnTo>
                <a:lnTo>
                  <a:pt x="60" y="51"/>
                </a:lnTo>
                <a:lnTo>
                  <a:pt x="60" y="51"/>
                </a:lnTo>
                <a:lnTo>
                  <a:pt x="60" y="56"/>
                </a:lnTo>
                <a:lnTo>
                  <a:pt x="55" y="56"/>
                </a:lnTo>
                <a:lnTo>
                  <a:pt x="55" y="61"/>
                </a:lnTo>
                <a:lnTo>
                  <a:pt x="50" y="61"/>
                </a:lnTo>
                <a:lnTo>
                  <a:pt x="50" y="61"/>
                </a:lnTo>
                <a:lnTo>
                  <a:pt x="45" y="66"/>
                </a:lnTo>
                <a:lnTo>
                  <a:pt x="40" y="66"/>
                </a:lnTo>
                <a:lnTo>
                  <a:pt x="40" y="66"/>
                </a:lnTo>
                <a:lnTo>
                  <a:pt x="35" y="66"/>
                </a:lnTo>
                <a:lnTo>
                  <a:pt x="35" y="66"/>
                </a:lnTo>
                <a:lnTo>
                  <a:pt x="30" y="66"/>
                </a:lnTo>
                <a:lnTo>
                  <a:pt x="25" y="66"/>
                </a:lnTo>
                <a:lnTo>
                  <a:pt x="25" y="66"/>
                </a:lnTo>
                <a:lnTo>
                  <a:pt x="20" y="66"/>
                </a:lnTo>
                <a:lnTo>
                  <a:pt x="15" y="61"/>
                </a:lnTo>
                <a:lnTo>
                  <a:pt x="15" y="61"/>
                </a:lnTo>
                <a:lnTo>
                  <a:pt x="10" y="61"/>
                </a:lnTo>
                <a:lnTo>
                  <a:pt x="10" y="56"/>
                </a:lnTo>
                <a:lnTo>
                  <a:pt x="5" y="56"/>
                </a:lnTo>
                <a:lnTo>
                  <a:pt x="5" y="51"/>
                </a:lnTo>
                <a:lnTo>
                  <a:pt x="5" y="51"/>
                </a:lnTo>
                <a:lnTo>
                  <a:pt x="0" y="46"/>
                </a:lnTo>
                <a:lnTo>
                  <a:pt x="0" y="40"/>
                </a:lnTo>
                <a:lnTo>
                  <a:pt x="0" y="40"/>
                </a:lnTo>
                <a:lnTo>
                  <a:pt x="0" y="35"/>
                </a:lnTo>
                <a:lnTo>
                  <a:pt x="0" y="35"/>
                </a:lnTo>
                <a:lnTo>
                  <a:pt x="0" y="30"/>
                </a:lnTo>
                <a:lnTo>
                  <a:pt x="0" y="25"/>
                </a:lnTo>
                <a:lnTo>
                  <a:pt x="0" y="25"/>
                </a:lnTo>
                <a:lnTo>
                  <a:pt x="0" y="20"/>
                </a:lnTo>
                <a:lnTo>
                  <a:pt x="5" y="15"/>
                </a:lnTo>
                <a:lnTo>
                  <a:pt x="5" y="15"/>
                </a:lnTo>
                <a:lnTo>
                  <a:pt x="5" y="10"/>
                </a:lnTo>
                <a:lnTo>
                  <a:pt x="10" y="10"/>
                </a:lnTo>
                <a:lnTo>
                  <a:pt x="10" y="5"/>
                </a:lnTo>
                <a:lnTo>
                  <a:pt x="15" y="5"/>
                </a:lnTo>
                <a:lnTo>
                  <a:pt x="15" y="5"/>
                </a:lnTo>
                <a:lnTo>
                  <a:pt x="20" y="0"/>
                </a:lnTo>
                <a:lnTo>
                  <a:pt x="25" y="0"/>
                </a:lnTo>
                <a:lnTo>
                  <a:pt x="25" y="0"/>
                </a:lnTo>
                <a:lnTo>
                  <a:pt x="30" y="0"/>
                </a:lnTo>
                <a:lnTo>
                  <a:pt x="35" y="0"/>
                </a:lnTo>
                <a:lnTo>
                  <a:pt x="35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17960" y="4091040"/>
            <a:ext cx="261720" cy="87120"/>
          </a:xfrm>
          <a:custGeom>
            <a:avLst/>
            <a:gdLst/>
            <a:ahLst/>
            <a:rect l="l" t="t" r="r" b="b"/>
            <a:pathLst>
              <a:path w="165" h="55">
                <a:moveTo>
                  <a:pt x="0" y="40"/>
                </a:moveTo>
                <a:lnTo>
                  <a:pt x="160" y="0"/>
                </a:lnTo>
                <a:lnTo>
                  <a:pt x="165" y="15"/>
                </a:lnTo>
                <a:lnTo>
                  <a:pt x="5" y="55"/>
                </a:lnTo>
                <a:lnTo>
                  <a:pt x="0" y="4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55920" y="4019400"/>
            <a:ext cx="271440" cy="95400"/>
          </a:xfrm>
          <a:custGeom>
            <a:avLst/>
            <a:gdLst/>
            <a:ahLst/>
            <a:rect l="l" t="t" r="r" b="b"/>
            <a:pathLst>
              <a:path w="171" h="60">
                <a:moveTo>
                  <a:pt x="0" y="45"/>
                </a:moveTo>
                <a:lnTo>
                  <a:pt x="166" y="0"/>
                </a:lnTo>
                <a:lnTo>
                  <a:pt x="171" y="15"/>
                </a:lnTo>
                <a:lnTo>
                  <a:pt x="5" y="60"/>
                </a:lnTo>
                <a:lnTo>
                  <a:pt x="0" y="4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956040"/>
            <a:ext cx="262080" cy="87480"/>
          </a:xfrm>
          <a:custGeom>
            <a:avLst/>
            <a:gdLst/>
            <a:ahLst/>
            <a:rect l="l" t="t" r="r" b="b"/>
            <a:pathLst>
              <a:path w="165" h="55">
                <a:moveTo>
                  <a:pt x="0" y="40"/>
                </a:moveTo>
                <a:lnTo>
                  <a:pt x="160" y="0"/>
                </a:lnTo>
                <a:lnTo>
                  <a:pt x="165" y="15"/>
                </a:lnTo>
                <a:lnTo>
                  <a:pt x="5" y="55"/>
                </a:lnTo>
                <a:lnTo>
                  <a:pt x="0" y="4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41920" y="3900600"/>
            <a:ext cx="261720" cy="79200"/>
          </a:xfrm>
          <a:custGeom>
            <a:avLst/>
            <a:gdLst/>
            <a:ahLst/>
            <a:rect l="l" t="t" r="r" b="b"/>
            <a:pathLst>
              <a:path w="165" h="50">
                <a:moveTo>
                  <a:pt x="0" y="35"/>
                </a:moveTo>
                <a:lnTo>
                  <a:pt x="160" y="0"/>
                </a:lnTo>
                <a:lnTo>
                  <a:pt x="165" y="15"/>
                </a:lnTo>
                <a:lnTo>
                  <a:pt x="5" y="50"/>
                </a:lnTo>
                <a:lnTo>
                  <a:pt x="0" y="35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79880" y="3852720"/>
            <a:ext cx="263520" cy="71640"/>
          </a:xfrm>
          <a:custGeom>
            <a:avLst/>
            <a:gdLst/>
            <a:ahLst/>
            <a:rect l="l" t="t" r="r" b="b"/>
            <a:pathLst>
              <a:path w="166" h="45">
                <a:moveTo>
                  <a:pt x="0" y="30"/>
                </a:moveTo>
                <a:lnTo>
                  <a:pt x="161" y="0"/>
                </a:lnTo>
                <a:lnTo>
                  <a:pt x="166" y="15"/>
                </a:lnTo>
                <a:lnTo>
                  <a:pt x="5" y="45"/>
                </a:lnTo>
                <a:lnTo>
                  <a:pt x="0" y="3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17840" y="3813120"/>
            <a:ext cx="263520" cy="63720"/>
          </a:xfrm>
          <a:custGeom>
            <a:avLst/>
            <a:gdLst/>
            <a:ahLst/>
            <a:rect l="l" t="t" r="r" b="b"/>
            <a:pathLst>
              <a:path w="166" h="40">
                <a:moveTo>
                  <a:pt x="0" y="25"/>
                </a:moveTo>
                <a:lnTo>
                  <a:pt x="161" y="0"/>
                </a:lnTo>
                <a:lnTo>
                  <a:pt x="166" y="15"/>
                </a:lnTo>
                <a:lnTo>
                  <a:pt x="5" y="40"/>
                </a:lnTo>
                <a:lnTo>
                  <a:pt x="0" y="25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57600" y="3741840"/>
            <a:ext cx="500040" cy="95040"/>
          </a:xfrm>
          <a:custGeom>
            <a:avLst/>
            <a:gdLst/>
            <a:ahLst/>
            <a:rect l="l" t="t" r="r" b="b"/>
            <a:pathLst>
              <a:path w="315" h="60">
                <a:moveTo>
                  <a:pt x="0" y="45"/>
                </a:moveTo>
                <a:lnTo>
                  <a:pt x="310" y="0"/>
                </a:lnTo>
                <a:lnTo>
                  <a:pt x="315" y="15"/>
                </a:lnTo>
                <a:lnTo>
                  <a:pt x="5" y="60"/>
                </a:lnTo>
                <a:lnTo>
                  <a:pt x="0" y="45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33880" y="3718080"/>
            <a:ext cx="263520" cy="47520"/>
          </a:xfrm>
          <a:custGeom>
            <a:avLst/>
            <a:gdLst/>
            <a:ahLst/>
            <a:rect l="l" t="t" r="r" b="b"/>
            <a:pathLst>
              <a:path w="166" h="30">
                <a:moveTo>
                  <a:pt x="0" y="15"/>
                </a:moveTo>
                <a:lnTo>
                  <a:pt x="161" y="0"/>
                </a:lnTo>
                <a:lnTo>
                  <a:pt x="166" y="15"/>
                </a:lnTo>
                <a:lnTo>
                  <a:pt x="5" y="30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73640" y="3700440"/>
            <a:ext cx="262080" cy="41400"/>
          </a:xfrm>
          <a:custGeom>
            <a:avLst/>
            <a:gdLst/>
            <a:ahLst/>
            <a:rect l="l" t="t" r="r" b="b"/>
            <a:pathLst>
              <a:path w="165" h="26">
                <a:moveTo>
                  <a:pt x="0" y="11"/>
                </a:moveTo>
                <a:lnTo>
                  <a:pt x="160" y="0"/>
                </a:lnTo>
                <a:lnTo>
                  <a:pt x="165" y="16"/>
                </a:lnTo>
                <a:lnTo>
                  <a:pt x="5" y="26"/>
                </a:lnTo>
                <a:lnTo>
                  <a:pt x="0" y="11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11960" y="3668760"/>
            <a:ext cx="509400" cy="57240"/>
          </a:xfrm>
          <a:custGeom>
            <a:avLst/>
            <a:gdLst/>
            <a:ahLst/>
            <a:rect l="l" t="t" r="r" b="b"/>
            <a:pathLst>
              <a:path w="321" h="36">
                <a:moveTo>
                  <a:pt x="0" y="20"/>
                </a:moveTo>
                <a:lnTo>
                  <a:pt x="316" y="0"/>
                </a:lnTo>
                <a:lnTo>
                  <a:pt x="321" y="15"/>
                </a:lnTo>
                <a:lnTo>
                  <a:pt x="5" y="36"/>
                </a:lnTo>
                <a:lnTo>
                  <a:pt x="0" y="2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78000" y="4106880"/>
            <a:ext cx="103320" cy="103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78000" y="4106880"/>
            <a:ext cx="103320" cy="103320"/>
          </a:xfrm>
          <a:custGeom>
            <a:avLst/>
            <a:gdLst/>
            <a:ahLst/>
            <a:rect l="l" t="t" r="r" b="b"/>
            <a:pathLst>
              <a:path w="65" h="65">
                <a:moveTo>
                  <a:pt x="35" y="0"/>
                </a:moveTo>
                <a:lnTo>
                  <a:pt x="35" y="0"/>
                </a:lnTo>
                <a:lnTo>
                  <a:pt x="40" y="0"/>
                </a:lnTo>
                <a:lnTo>
                  <a:pt x="40" y="0"/>
                </a:lnTo>
                <a:lnTo>
                  <a:pt x="45" y="0"/>
                </a:lnTo>
                <a:lnTo>
                  <a:pt x="50" y="5"/>
                </a:lnTo>
                <a:lnTo>
                  <a:pt x="50" y="5"/>
                </a:lnTo>
                <a:lnTo>
                  <a:pt x="55" y="5"/>
                </a:lnTo>
                <a:lnTo>
                  <a:pt x="55" y="10"/>
                </a:lnTo>
                <a:lnTo>
                  <a:pt x="60" y="10"/>
                </a:lnTo>
                <a:lnTo>
                  <a:pt x="60" y="15"/>
                </a:lnTo>
                <a:lnTo>
                  <a:pt x="60" y="15"/>
                </a:lnTo>
                <a:lnTo>
                  <a:pt x="65" y="20"/>
                </a:lnTo>
                <a:lnTo>
                  <a:pt x="65" y="25"/>
                </a:lnTo>
                <a:lnTo>
                  <a:pt x="65" y="25"/>
                </a:lnTo>
                <a:lnTo>
                  <a:pt x="65" y="30"/>
                </a:lnTo>
                <a:lnTo>
                  <a:pt x="65" y="35"/>
                </a:lnTo>
                <a:lnTo>
                  <a:pt x="65" y="35"/>
                </a:lnTo>
                <a:lnTo>
                  <a:pt x="65" y="40"/>
                </a:lnTo>
                <a:lnTo>
                  <a:pt x="65" y="40"/>
                </a:lnTo>
                <a:lnTo>
                  <a:pt x="65" y="45"/>
                </a:lnTo>
                <a:lnTo>
                  <a:pt x="60" y="50"/>
                </a:lnTo>
                <a:lnTo>
                  <a:pt x="60" y="50"/>
                </a:lnTo>
                <a:lnTo>
                  <a:pt x="60" y="55"/>
                </a:lnTo>
                <a:lnTo>
                  <a:pt x="55" y="55"/>
                </a:lnTo>
                <a:lnTo>
                  <a:pt x="55" y="60"/>
                </a:lnTo>
                <a:lnTo>
                  <a:pt x="50" y="60"/>
                </a:lnTo>
                <a:lnTo>
                  <a:pt x="50" y="60"/>
                </a:lnTo>
                <a:lnTo>
                  <a:pt x="45" y="65"/>
                </a:lnTo>
                <a:lnTo>
                  <a:pt x="40" y="65"/>
                </a:lnTo>
                <a:lnTo>
                  <a:pt x="40" y="65"/>
                </a:lnTo>
                <a:lnTo>
                  <a:pt x="35" y="65"/>
                </a:lnTo>
                <a:lnTo>
                  <a:pt x="35" y="65"/>
                </a:lnTo>
                <a:lnTo>
                  <a:pt x="30" y="65"/>
                </a:lnTo>
                <a:lnTo>
                  <a:pt x="25" y="65"/>
                </a:lnTo>
                <a:lnTo>
                  <a:pt x="25" y="65"/>
                </a:lnTo>
                <a:lnTo>
                  <a:pt x="20" y="65"/>
                </a:lnTo>
                <a:lnTo>
                  <a:pt x="15" y="60"/>
                </a:lnTo>
                <a:lnTo>
                  <a:pt x="15" y="60"/>
                </a:lnTo>
                <a:lnTo>
                  <a:pt x="10" y="60"/>
                </a:lnTo>
                <a:lnTo>
                  <a:pt x="10" y="55"/>
                </a:lnTo>
                <a:lnTo>
                  <a:pt x="5" y="55"/>
                </a:lnTo>
                <a:lnTo>
                  <a:pt x="5" y="50"/>
                </a:lnTo>
                <a:lnTo>
                  <a:pt x="5" y="50"/>
                </a:lnTo>
                <a:lnTo>
                  <a:pt x="0" y="45"/>
                </a:lnTo>
                <a:lnTo>
                  <a:pt x="0" y="40"/>
                </a:lnTo>
                <a:lnTo>
                  <a:pt x="0" y="40"/>
                </a:lnTo>
                <a:lnTo>
                  <a:pt x="0" y="35"/>
                </a:lnTo>
                <a:lnTo>
                  <a:pt x="0" y="35"/>
                </a:lnTo>
                <a:lnTo>
                  <a:pt x="0" y="30"/>
                </a:lnTo>
                <a:lnTo>
                  <a:pt x="0" y="25"/>
                </a:lnTo>
                <a:lnTo>
                  <a:pt x="0" y="25"/>
                </a:lnTo>
                <a:lnTo>
                  <a:pt x="0" y="20"/>
                </a:lnTo>
                <a:lnTo>
                  <a:pt x="5" y="15"/>
                </a:lnTo>
                <a:lnTo>
                  <a:pt x="5" y="15"/>
                </a:lnTo>
                <a:lnTo>
                  <a:pt x="5" y="10"/>
                </a:lnTo>
                <a:lnTo>
                  <a:pt x="10" y="10"/>
                </a:lnTo>
                <a:lnTo>
                  <a:pt x="10" y="5"/>
                </a:lnTo>
                <a:lnTo>
                  <a:pt x="15" y="5"/>
                </a:lnTo>
                <a:lnTo>
                  <a:pt x="15" y="5"/>
                </a:lnTo>
                <a:lnTo>
                  <a:pt x="20" y="0"/>
                </a:lnTo>
                <a:lnTo>
                  <a:pt x="25" y="0"/>
                </a:lnTo>
                <a:lnTo>
                  <a:pt x="25" y="0"/>
                </a:lnTo>
                <a:lnTo>
                  <a:pt x="30" y="0"/>
                </a:lnTo>
                <a:lnTo>
                  <a:pt x="35" y="0"/>
                </a:lnTo>
                <a:lnTo>
                  <a:pt x="35" y="0"/>
                </a:lnTo>
                <a:close/>
              </a:path>
            </a:pathLst>
          </a:custGeom>
          <a:noFill/>
          <a:ln w="7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40280" y="3852720"/>
            <a:ext cx="102960" cy="103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40280" y="3852720"/>
            <a:ext cx="102960" cy="103320"/>
          </a:xfrm>
          <a:custGeom>
            <a:avLst/>
            <a:gdLst/>
            <a:ahLst/>
            <a:rect l="l" t="t" r="r" b="b"/>
            <a:pathLst>
              <a:path w="65" h="65">
                <a:moveTo>
                  <a:pt x="35" y="0"/>
                </a:moveTo>
                <a:lnTo>
                  <a:pt x="35" y="0"/>
                </a:lnTo>
                <a:lnTo>
                  <a:pt x="40" y="0"/>
                </a:lnTo>
                <a:lnTo>
                  <a:pt x="40" y="0"/>
                </a:lnTo>
                <a:lnTo>
                  <a:pt x="45" y="0"/>
                </a:lnTo>
                <a:lnTo>
                  <a:pt x="50" y="5"/>
                </a:lnTo>
                <a:lnTo>
                  <a:pt x="50" y="5"/>
                </a:lnTo>
                <a:lnTo>
                  <a:pt x="55" y="5"/>
                </a:lnTo>
                <a:lnTo>
                  <a:pt x="55" y="10"/>
                </a:lnTo>
                <a:lnTo>
                  <a:pt x="60" y="10"/>
                </a:lnTo>
                <a:lnTo>
                  <a:pt x="60" y="15"/>
                </a:lnTo>
                <a:lnTo>
                  <a:pt x="60" y="15"/>
                </a:lnTo>
                <a:lnTo>
                  <a:pt x="65" y="20"/>
                </a:lnTo>
                <a:lnTo>
                  <a:pt x="65" y="25"/>
                </a:lnTo>
                <a:lnTo>
                  <a:pt x="65" y="25"/>
                </a:lnTo>
                <a:lnTo>
                  <a:pt x="65" y="30"/>
                </a:lnTo>
                <a:lnTo>
                  <a:pt x="65" y="35"/>
                </a:lnTo>
                <a:lnTo>
                  <a:pt x="65" y="35"/>
                </a:lnTo>
                <a:lnTo>
                  <a:pt x="65" y="40"/>
                </a:lnTo>
                <a:lnTo>
                  <a:pt x="65" y="40"/>
                </a:lnTo>
                <a:lnTo>
                  <a:pt x="65" y="45"/>
                </a:lnTo>
                <a:lnTo>
                  <a:pt x="60" y="50"/>
                </a:lnTo>
                <a:lnTo>
                  <a:pt x="60" y="50"/>
                </a:lnTo>
                <a:lnTo>
                  <a:pt x="60" y="55"/>
                </a:lnTo>
                <a:lnTo>
                  <a:pt x="55" y="55"/>
                </a:lnTo>
                <a:lnTo>
                  <a:pt x="55" y="60"/>
                </a:lnTo>
                <a:lnTo>
                  <a:pt x="50" y="60"/>
                </a:lnTo>
                <a:lnTo>
                  <a:pt x="50" y="60"/>
                </a:lnTo>
                <a:lnTo>
                  <a:pt x="45" y="65"/>
                </a:lnTo>
                <a:lnTo>
                  <a:pt x="40" y="65"/>
                </a:lnTo>
                <a:lnTo>
                  <a:pt x="40" y="65"/>
                </a:lnTo>
                <a:lnTo>
                  <a:pt x="35" y="65"/>
                </a:lnTo>
                <a:lnTo>
                  <a:pt x="35" y="65"/>
                </a:lnTo>
                <a:lnTo>
                  <a:pt x="30" y="65"/>
                </a:lnTo>
                <a:lnTo>
                  <a:pt x="25" y="65"/>
                </a:lnTo>
                <a:lnTo>
                  <a:pt x="25" y="65"/>
                </a:lnTo>
                <a:lnTo>
                  <a:pt x="20" y="65"/>
                </a:lnTo>
                <a:lnTo>
                  <a:pt x="15" y="60"/>
                </a:lnTo>
                <a:lnTo>
                  <a:pt x="15" y="60"/>
                </a:lnTo>
                <a:lnTo>
                  <a:pt x="10" y="60"/>
                </a:lnTo>
                <a:lnTo>
                  <a:pt x="10" y="55"/>
                </a:lnTo>
                <a:lnTo>
                  <a:pt x="5" y="55"/>
                </a:lnTo>
                <a:lnTo>
                  <a:pt x="5" y="50"/>
                </a:lnTo>
                <a:lnTo>
                  <a:pt x="5" y="50"/>
                </a:lnTo>
                <a:lnTo>
                  <a:pt x="0" y="45"/>
                </a:lnTo>
                <a:lnTo>
                  <a:pt x="0" y="40"/>
                </a:lnTo>
                <a:lnTo>
                  <a:pt x="0" y="40"/>
                </a:lnTo>
                <a:lnTo>
                  <a:pt x="0" y="35"/>
                </a:lnTo>
                <a:lnTo>
                  <a:pt x="0" y="35"/>
                </a:lnTo>
                <a:lnTo>
                  <a:pt x="0" y="30"/>
                </a:lnTo>
                <a:lnTo>
                  <a:pt x="0" y="25"/>
                </a:lnTo>
                <a:lnTo>
                  <a:pt x="0" y="25"/>
                </a:lnTo>
                <a:lnTo>
                  <a:pt x="0" y="20"/>
                </a:lnTo>
                <a:lnTo>
                  <a:pt x="5" y="15"/>
                </a:lnTo>
                <a:lnTo>
                  <a:pt x="5" y="15"/>
                </a:lnTo>
                <a:lnTo>
                  <a:pt x="5" y="10"/>
                </a:lnTo>
                <a:lnTo>
                  <a:pt x="10" y="10"/>
                </a:lnTo>
                <a:lnTo>
                  <a:pt x="10" y="5"/>
                </a:lnTo>
                <a:lnTo>
                  <a:pt x="15" y="5"/>
                </a:lnTo>
                <a:lnTo>
                  <a:pt x="15" y="5"/>
                </a:lnTo>
                <a:lnTo>
                  <a:pt x="20" y="0"/>
                </a:lnTo>
                <a:lnTo>
                  <a:pt x="25" y="0"/>
                </a:lnTo>
                <a:lnTo>
                  <a:pt x="25" y="0"/>
                </a:lnTo>
                <a:lnTo>
                  <a:pt x="30" y="0"/>
                </a:lnTo>
                <a:lnTo>
                  <a:pt x="35" y="0"/>
                </a:lnTo>
                <a:lnTo>
                  <a:pt x="35" y="0"/>
                </a:lnTo>
                <a:close/>
              </a:path>
            </a:pathLst>
          </a:custGeom>
          <a:noFill/>
          <a:ln w="7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94280" y="3692520"/>
            <a:ext cx="104760" cy="104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94280" y="3692520"/>
            <a:ext cx="1047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5" y="0"/>
                </a:moveTo>
                <a:lnTo>
                  <a:pt x="35" y="0"/>
                </a:lnTo>
                <a:lnTo>
                  <a:pt x="40" y="0"/>
                </a:lnTo>
                <a:lnTo>
                  <a:pt x="40" y="0"/>
                </a:lnTo>
                <a:lnTo>
                  <a:pt x="46" y="0"/>
                </a:lnTo>
                <a:lnTo>
                  <a:pt x="51" y="5"/>
                </a:lnTo>
                <a:lnTo>
                  <a:pt x="51" y="5"/>
                </a:lnTo>
                <a:lnTo>
                  <a:pt x="56" y="5"/>
                </a:lnTo>
                <a:lnTo>
                  <a:pt x="56" y="11"/>
                </a:lnTo>
                <a:lnTo>
                  <a:pt x="61" y="11"/>
                </a:lnTo>
                <a:lnTo>
                  <a:pt x="61" y="16"/>
                </a:lnTo>
                <a:lnTo>
                  <a:pt x="61" y="16"/>
                </a:lnTo>
                <a:lnTo>
                  <a:pt x="66" y="21"/>
                </a:lnTo>
                <a:lnTo>
                  <a:pt x="66" y="26"/>
                </a:lnTo>
                <a:lnTo>
                  <a:pt x="66" y="26"/>
                </a:lnTo>
                <a:lnTo>
                  <a:pt x="66" y="31"/>
                </a:lnTo>
                <a:lnTo>
                  <a:pt x="66" y="36"/>
                </a:lnTo>
                <a:lnTo>
                  <a:pt x="66" y="36"/>
                </a:lnTo>
                <a:lnTo>
                  <a:pt x="66" y="41"/>
                </a:lnTo>
                <a:lnTo>
                  <a:pt x="66" y="41"/>
                </a:lnTo>
                <a:lnTo>
                  <a:pt x="66" y="46"/>
                </a:lnTo>
                <a:lnTo>
                  <a:pt x="61" y="51"/>
                </a:lnTo>
                <a:lnTo>
                  <a:pt x="61" y="51"/>
                </a:lnTo>
                <a:lnTo>
                  <a:pt x="61" y="56"/>
                </a:lnTo>
                <a:lnTo>
                  <a:pt x="56" y="56"/>
                </a:lnTo>
                <a:lnTo>
                  <a:pt x="56" y="61"/>
                </a:lnTo>
                <a:lnTo>
                  <a:pt x="51" y="61"/>
                </a:lnTo>
                <a:lnTo>
                  <a:pt x="51" y="61"/>
                </a:lnTo>
                <a:lnTo>
                  <a:pt x="46" y="66"/>
                </a:lnTo>
                <a:lnTo>
                  <a:pt x="40" y="66"/>
                </a:lnTo>
                <a:lnTo>
                  <a:pt x="40" y="66"/>
                </a:lnTo>
                <a:lnTo>
                  <a:pt x="35" y="66"/>
                </a:lnTo>
                <a:lnTo>
                  <a:pt x="35" y="66"/>
                </a:lnTo>
                <a:lnTo>
                  <a:pt x="30" y="66"/>
                </a:lnTo>
                <a:lnTo>
                  <a:pt x="25" y="66"/>
                </a:lnTo>
                <a:lnTo>
                  <a:pt x="25" y="66"/>
                </a:lnTo>
                <a:lnTo>
                  <a:pt x="20" y="66"/>
                </a:lnTo>
                <a:lnTo>
                  <a:pt x="15" y="61"/>
                </a:lnTo>
                <a:lnTo>
                  <a:pt x="15" y="61"/>
                </a:lnTo>
                <a:lnTo>
                  <a:pt x="10" y="61"/>
                </a:lnTo>
                <a:lnTo>
                  <a:pt x="10" y="56"/>
                </a:lnTo>
                <a:lnTo>
                  <a:pt x="5" y="56"/>
                </a:lnTo>
                <a:lnTo>
                  <a:pt x="5" y="51"/>
                </a:lnTo>
                <a:lnTo>
                  <a:pt x="5" y="51"/>
                </a:lnTo>
                <a:lnTo>
                  <a:pt x="0" y="46"/>
                </a:lnTo>
                <a:lnTo>
                  <a:pt x="0" y="41"/>
                </a:lnTo>
                <a:lnTo>
                  <a:pt x="0" y="41"/>
                </a:lnTo>
                <a:lnTo>
                  <a:pt x="0" y="36"/>
                </a:lnTo>
                <a:lnTo>
                  <a:pt x="0" y="36"/>
                </a:lnTo>
                <a:lnTo>
                  <a:pt x="0" y="31"/>
                </a:lnTo>
                <a:lnTo>
                  <a:pt x="0" y="26"/>
                </a:lnTo>
                <a:lnTo>
                  <a:pt x="0" y="26"/>
                </a:lnTo>
                <a:lnTo>
                  <a:pt x="0" y="21"/>
                </a:lnTo>
                <a:lnTo>
                  <a:pt x="5" y="16"/>
                </a:lnTo>
                <a:lnTo>
                  <a:pt x="5" y="16"/>
                </a:lnTo>
                <a:lnTo>
                  <a:pt x="5" y="11"/>
                </a:lnTo>
                <a:lnTo>
                  <a:pt x="10" y="11"/>
                </a:lnTo>
                <a:lnTo>
                  <a:pt x="10" y="5"/>
                </a:lnTo>
                <a:lnTo>
                  <a:pt x="15" y="5"/>
                </a:lnTo>
                <a:lnTo>
                  <a:pt x="15" y="5"/>
                </a:lnTo>
                <a:lnTo>
                  <a:pt x="20" y="0"/>
                </a:lnTo>
                <a:lnTo>
                  <a:pt x="25" y="0"/>
                </a:lnTo>
                <a:lnTo>
                  <a:pt x="25" y="0"/>
                </a:lnTo>
                <a:lnTo>
                  <a:pt x="30" y="0"/>
                </a:lnTo>
                <a:lnTo>
                  <a:pt x="35" y="0"/>
                </a:lnTo>
                <a:lnTo>
                  <a:pt x="35" y="0"/>
                </a:lnTo>
                <a:close/>
              </a:path>
            </a:pathLst>
          </a:custGeom>
          <a:noFill/>
          <a:ln w="7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58000" y="3621240"/>
            <a:ext cx="102960" cy="104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58000" y="3621240"/>
            <a:ext cx="102960" cy="104760"/>
          </a:xfrm>
          <a:custGeom>
            <a:avLst/>
            <a:gdLst/>
            <a:ahLst/>
            <a:rect l="l" t="t" r="r" b="b"/>
            <a:pathLst>
              <a:path w="65" h="66">
                <a:moveTo>
                  <a:pt x="35" y="0"/>
                </a:moveTo>
                <a:lnTo>
                  <a:pt x="35" y="0"/>
                </a:lnTo>
                <a:lnTo>
                  <a:pt x="40" y="0"/>
                </a:lnTo>
                <a:lnTo>
                  <a:pt x="40" y="0"/>
                </a:lnTo>
                <a:lnTo>
                  <a:pt x="45" y="0"/>
                </a:lnTo>
                <a:lnTo>
                  <a:pt x="50" y="5"/>
                </a:lnTo>
                <a:lnTo>
                  <a:pt x="50" y="5"/>
                </a:lnTo>
                <a:lnTo>
                  <a:pt x="55" y="5"/>
                </a:lnTo>
                <a:lnTo>
                  <a:pt x="55" y="10"/>
                </a:lnTo>
                <a:lnTo>
                  <a:pt x="60" y="10"/>
                </a:lnTo>
                <a:lnTo>
                  <a:pt x="60" y="15"/>
                </a:lnTo>
                <a:lnTo>
                  <a:pt x="60" y="15"/>
                </a:lnTo>
                <a:lnTo>
                  <a:pt x="65" y="20"/>
                </a:lnTo>
                <a:lnTo>
                  <a:pt x="65" y="25"/>
                </a:lnTo>
                <a:lnTo>
                  <a:pt x="65" y="25"/>
                </a:lnTo>
                <a:lnTo>
                  <a:pt x="65" y="30"/>
                </a:lnTo>
                <a:lnTo>
                  <a:pt x="65" y="35"/>
                </a:lnTo>
                <a:lnTo>
                  <a:pt x="65" y="35"/>
                </a:lnTo>
                <a:lnTo>
                  <a:pt x="65" y="40"/>
                </a:lnTo>
                <a:lnTo>
                  <a:pt x="65" y="40"/>
                </a:lnTo>
                <a:lnTo>
                  <a:pt x="65" y="45"/>
                </a:lnTo>
                <a:lnTo>
                  <a:pt x="60" y="50"/>
                </a:lnTo>
                <a:lnTo>
                  <a:pt x="60" y="50"/>
                </a:lnTo>
                <a:lnTo>
                  <a:pt x="60" y="56"/>
                </a:lnTo>
                <a:lnTo>
                  <a:pt x="55" y="56"/>
                </a:lnTo>
                <a:lnTo>
                  <a:pt x="55" y="61"/>
                </a:lnTo>
                <a:lnTo>
                  <a:pt x="50" y="61"/>
                </a:lnTo>
                <a:lnTo>
                  <a:pt x="50" y="61"/>
                </a:lnTo>
                <a:lnTo>
                  <a:pt x="45" y="66"/>
                </a:lnTo>
                <a:lnTo>
                  <a:pt x="40" y="66"/>
                </a:lnTo>
                <a:lnTo>
                  <a:pt x="40" y="66"/>
                </a:lnTo>
                <a:lnTo>
                  <a:pt x="35" y="66"/>
                </a:lnTo>
                <a:lnTo>
                  <a:pt x="35" y="66"/>
                </a:lnTo>
                <a:lnTo>
                  <a:pt x="30" y="66"/>
                </a:lnTo>
                <a:lnTo>
                  <a:pt x="25" y="66"/>
                </a:lnTo>
                <a:lnTo>
                  <a:pt x="25" y="66"/>
                </a:lnTo>
                <a:lnTo>
                  <a:pt x="20" y="66"/>
                </a:lnTo>
                <a:lnTo>
                  <a:pt x="15" y="61"/>
                </a:lnTo>
                <a:lnTo>
                  <a:pt x="15" y="61"/>
                </a:lnTo>
                <a:lnTo>
                  <a:pt x="10" y="61"/>
                </a:lnTo>
                <a:lnTo>
                  <a:pt x="10" y="56"/>
                </a:lnTo>
                <a:lnTo>
                  <a:pt x="5" y="56"/>
                </a:lnTo>
                <a:lnTo>
                  <a:pt x="5" y="50"/>
                </a:lnTo>
                <a:lnTo>
                  <a:pt x="5" y="50"/>
                </a:lnTo>
                <a:lnTo>
                  <a:pt x="0" y="45"/>
                </a:lnTo>
                <a:lnTo>
                  <a:pt x="0" y="40"/>
                </a:lnTo>
                <a:lnTo>
                  <a:pt x="0" y="40"/>
                </a:lnTo>
                <a:lnTo>
                  <a:pt x="0" y="35"/>
                </a:lnTo>
                <a:lnTo>
                  <a:pt x="0" y="35"/>
                </a:lnTo>
                <a:lnTo>
                  <a:pt x="0" y="30"/>
                </a:lnTo>
                <a:lnTo>
                  <a:pt x="0" y="25"/>
                </a:lnTo>
                <a:lnTo>
                  <a:pt x="0" y="25"/>
                </a:lnTo>
                <a:lnTo>
                  <a:pt x="0" y="20"/>
                </a:lnTo>
                <a:lnTo>
                  <a:pt x="5" y="15"/>
                </a:lnTo>
                <a:lnTo>
                  <a:pt x="5" y="15"/>
                </a:lnTo>
                <a:lnTo>
                  <a:pt x="5" y="10"/>
                </a:lnTo>
                <a:lnTo>
                  <a:pt x="10" y="10"/>
                </a:lnTo>
                <a:lnTo>
                  <a:pt x="10" y="5"/>
                </a:lnTo>
                <a:lnTo>
                  <a:pt x="15" y="5"/>
                </a:lnTo>
                <a:lnTo>
                  <a:pt x="15" y="5"/>
                </a:lnTo>
                <a:lnTo>
                  <a:pt x="20" y="0"/>
                </a:lnTo>
                <a:lnTo>
                  <a:pt x="25" y="0"/>
                </a:lnTo>
                <a:lnTo>
                  <a:pt x="25" y="0"/>
                </a:lnTo>
                <a:lnTo>
                  <a:pt x="30" y="0"/>
                </a:lnTo>
                <a:lnTo>
                  <a:pt x="35" y="0"/>
                </a:lnTo>
                <a:lnTo>
                  <a:pt x="35" y="0"/>
                </a:lnTo>
                <a:close/>
              </a:path>
            </a:pathLst>
          </a:custGeom>
          <a:noFill/>
          <a:ln w="7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22400" y="4386240"/>
            <a:ext cx="621000" cy="24624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56240" y="4437000"/>
            <a:ext cx="56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9.647.0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46520" y="4138560"/>
            <a:ext cx="692280" cy="2476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80000" y="4189320"/>
            <a:ext cx="63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11.830.6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00520" y="3987720"/>
            <a:ext cx="692280" cy="24624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34000" y="4038480"/>
            <a:ext cx="63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13.199.7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54520" y="3916440"/>
            <a:ext cx="692280" cy="2458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88000" y="3967200"/>
            <a:ext cx="63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13.859.7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35800" y="387180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98080" y="361800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52080" y="345744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15800" y="345744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92160" y="5575320"/>
            <a:ext cx="68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ño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55520" y="5575320"/>
            <a:ext cx="68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ño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09880" y="5575320"/>
            <a:ext cx="68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ño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71800" y="5575320"/>
            <a:ext cx="68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ño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56320" y="5761080"/>
            <a:ext cx="116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 Narrow"/>
              </a:rPr>
              <a:t>(Proyectada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68320" y="6095880"/>
            <a:ext cx="199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 Narrow"/>
              </a:rPr>
              <a:t>Fuente: DAP/MINSAL, año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28600" y="4572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DIFICULTADES PARA FUNCIONAR EN 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1905120"/>
            <a:ext cx="8610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Administración de Hospitales (Servicios de Salud) diferente a la de Consultorios (Municip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Insuficiente número de especi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Concentración de la complejidad en grandes </a:t>
            </a: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ur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Falta de información a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Deficiente uso del sistema de regist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Deficiente protocolización de criterios de deriv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Insuficiente claridad en el Sistema, respecto de polos de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Insuficiente complementariedad Público/Pri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4495680" y="838080"/>
            <a:ext cx="4084560" cy="5580000"/>
            <a:chOff x="4495680" y="838080"/>
            <a:chExt cx="4084560" cy="5580000"/>
          </a:xfrm>
        </p:grpSpPr>
        <p:sp>
          <p:nvSpPr>
            <p:cNvPr id="44" name=""/>
            <p:cNvSpPr/>
            <p:nvPr/>
          </p:nvSpPr>
          <p:spPr>
            <a:xfrm>
              <a:off x="4495680" y="2835360"/>
              <a:ext cx="184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35360"/>
              <a:ext cx="184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86280" y="2019240"/>
              <a:ext cx="1041480" cy="1494000"/>
            </a:xfrm>
            <a:custGeom>
              <a:avLst/>
              <a:gdLst/>
              <a:ahLst/>
              <a:rect l="l" t="t" r="r" b="b"/>
              <a:pathLst>
                <a:path w="1311" h="1883">
                  <a:moveTo>
                    <a:pt x="1140" y="1883"/>
                  </a:moveTo>
                  <a:lnTo>
                    <a:pt x="1115" y="1841"/>
                  </a:lnTo>
                  <a:lnTo>
                    <a:pt x="1096" y="1816"/>
                  </a:lnTo>
                  <a:lnTo>
                    <a:pt x="1048" y="1770"/>
                  </a:lnTo>
                  <a:lnTo>
                    <a:pt x="1000" y="1737"/>
                  </a:lnTo>
                  <a:lnTo>
                    <a:pt x="915" y="1690"/>
                  </a:lnTo>
                  <a:lnTo>
                    <a:pt x="701" y="1590"/>
                  </a:lnTo>
                  <a:lnTo>
                    <a:pt x="603" y="1528"/>
                  </a:lnTo>
                  <a:lnTo>
                    <a:pt x="555" y="1473"/>
                  </a:lnTo>
                  <a:lnTo>
                    <a:pt x="540" y="1439"/>
                  </a:lnTo>
                  <a:lnTo>
                    <a:pt x="537" y="1407"/>
                  </a:lnTo>
                  <a:lnTo>
                    <a:pt x="530" y="1382"/>
                  </a:lnTo>
                  <a:lnTo>
                    <a:pt x="518" y="1368"/>
                  </a:lnTo>
                  <a:lnTo>
                    <a:pt x="490" y="1343"/>
                  </a:lnTo>
                  <a:lnTo>
                    <a:pt x="455" y="1288"/>
                  </a:lnTo>
                  <a:lnTo>
                    <a:pt x="407" y="1210"/>
                  </a:lnTo>
                  <a:lnTo>
                    <a:pt x="392" y="1164"/>
                  </a:lnTo>
                  <a:lnTo>
                    <a:pt x="370" y="1101"/>
                  </a:lnTo>
                  <a:lnTo>
                    <a:pt x="227" y="829"/>
                  </a:lnTo>
                  <a:lnTo>
                    <a:pt x="181" y="763"/>
                  </a:lnTo>
                  <a:lnTo>
                    <a:pt x="140" y="695"/>
                  </a:lnTo>
                  <a:lnTo>
                    <a:pt x="101" y="679"/>
                  </a:lnTo>
                  <a:lnTo>
                    <a:pt x="82" y="654"/>
                  </a:lnTo>
                  <a:lnTo>
                    <a:pt x="66" y="633"/>
                  </a:lnTo>
                  <a:lnTo>
                    <a:pt x="41" y="612"/>
                  </a:lnTo>
                  <a:lnTo>
                    <a:pt x="25" y="608"/>
                  </a:lnTo>
                  <a:lnTo>
                    <a:pt x="19" y="592"/>
                  </a:lnTo>
                  <a:lnTo>
                    <a:pt x="29" y="578"/>
                  </a:lnTo>
                  <a:lnTo>
                    <a:pt x="38" y="566"/>
                  </a:lnTo>
                  <a:lnTo>
                    <a:pt x="33" y="528"/>
                  </a:lnTo>
                  <a:lnTo>
                    <a:pt x="19" y="524"/>
                  </a:lnTo>
                  <a:lnTo>
                    <a:pt x="4" y="519"/>
                  </a:lnTo>
                  <a:lnTo>
                    <a:pt x="0" y="503"/>
                  </a:lnTo>
                  <a:lnTo>
                    <a:pt x="0" y="483"/>
                  </a:lnTo>
                  <a:lnTo>
                    <a:pt x="19" y="390"/>
                  </a:lnTo>
                  <a:lnTo>
                    <a:pt x="52" y="343"/>
                  </a:lnTo>
                  <a:lnTo>
                    <a:pt x="63" y="343"/>
                  </a:lnTo>
                  <a:lnTo>
                    <a:pt x="93" y="373"/>
                  </a:lnTo>
                  <a:lnTo>
                    <a:pt x="104" y="420"/>
                  </a:lnTo>
                  <a:lnTo>
                    <a:pt x="96" y="469"/>
                  </a:lnTo>
                  <a:lnTo>
                    <a:pt x="101" y="494"/>
                  </a:lnTo>
                  <a:lnTo>
                    <a:pt x="118" y="503"/>
                  </a:lnTo>
                  <a:lnTo>
                    <a:pt x="137" y="487"/>
                  </a:lnTo>
                  <a:lnTo>
                    <a:pt x="162" y="499"/>
                  </a:lnTo>
                  <a:lnTo>
                    <a:pt x="173" y="516"/>
                  </a:lnTo>
                  <a:lnTo>
                    <a:pt x="186" y="546"/>
                  </a:lnTo>
                  <a:lnTo>
                    <a:pt x="211" y="549"/>
                  </a:lnTo>
                  <a:lnTo>
                    <a:pt x="244" y="528"/>
                  </a:lnTo>
                  <a:lnTo>
                    <a:pt x="274" y="491"/>
                  </a:lnTo>
                  <a:lnTo>
                    <a:pt x="288" y="427"/>
                  </a:lnTo>
                  <a:lnTo>
                    <a:pt x="296" y="365"/>
                  </a:lnTo>
                  <a:lnTo>
                    <a:pt x="315" y="336"/>
                  </a:lnTo>
                  <a:lnTo>
                    <a:pt x="333" y="318"/>
                  </a:lnTo>
                  <a:lnTo>
                    <a:pt x="407" y="290"/>
                  </a:lnTo>
                  <a:lnTo>
                    <a:pt x="482" y="272"/>
                  </a:lnTo>
                  <a:lnTo>
                    <a:pt x="504" y="252"/>
                  </a:lnTo>
                  <a:lnTo>
                    <a:pt x="515" y="214"/>
                  </a:lnTo>
                  <a:lnTo>
                    <a:pt x="534" y="197"/>
                  </a:lnTo>
                  <a:lnTo>
                    <a:pt x="567" y="177"/>
                  </a:lnTo>
                  <a:lnTo>
                    <a:pt x="582" y="144"/>
                  </a:lnTo>
                  <a:lnTo>
                    <a:pt x="582" y="115"/>
                  </a:lnTo>
                  <a:lnTo>
                    <a:pt x="570" y="68"/>
                  </a:lnTo>
                  <a:lnTo>
                    <a:pt x="551" y="35"/>
                  </a:lnTo>
                  <a:lnTo>
                    <a:pt x="559" y="0"/>
                  </a:lnTo>
                  <a:lnTo>
                    <a:pt x="655" y="68"/>
                  </a:lnTo>
                  <a:lnTo>
                    <a:pt x="745" y="105"/>
                  </a:lnTo>
                  <a:lnTo>
                    <a:pt x="778" y="151"/>
                  </a:lnTo>
                  <a:lnTo>
                    <a:pt x="800" y="206"/>
                  </a:lnTo>
                  <a:lnTo>
                    <a:pt x="818" y="227"/>
                  </a:lnTo>
                  <a:lnTo>
                    <a:pt x="837" y="227"/>
                  </a:lnTo>
                  <a:lnTo>
                    <a:pt x="871" y="206"/>
                  </a:lnTo>
                  <a:lnTo>
                    <a:pt x="911" y="214"/>
                  </a:lnTo>
                  <a:lnTo>
                    <a:pt x="945" y="227"/>
                  </a:lnTo>
                  <a:lnTo>
                    <a:pt x="964" y="227"/>
                  </a:lnTo>
                  <a:lnTo>
                    <a:pt x="981" y="227"/>
                  </a:lnTo>
                  <a:lnTo>
                    <a:pt x="997" y="206"/>
                  </a:lnTo>
                  <a:lnTo>
                    <a:pt x="1029" y="202"/>
                  </a:lnTo>
                  <a:lnTo>
                    <a:pt x="1052" y="202"/>
                  </a:lnTo>
                  <a:lnTo>
                    <a:pt x="1071" y="224"/>
                  </a:lnTo>
                  <a:lnTo>
                    <a:pt x="1100" y="239"/>
                  </a:lnTo>
                  <a:lnTo>
                    <a:pt x="1159" y="244"/>
                  </a:lnTo>
                  <a:lnTo>
                    <a:pt x="1163" y="302"/>
                  </a:lnTo>
                  <a:lnTo>
                    <a:pt x="1145" y="381"/>
                  </a:lnTo>
                  <a:lnTo>
                    <a:pt x="1122" y="411"/>
                  </a:lnTo>
                  <a:lnTo>
                    <a:pt x="1107" y="423"/>
                  </a:lnTo>
                  <a:lnTo>
                    <a:pt x="1096" y="427"/>
                  </a:lnTo>
                  <a:lnTo>
                    <a:pt x="1008" y="427"/>
                  </a:lnTo>
                  <a:lnTo>
                    <a:pt x="964" y="437"/>
                  </a:lnTo>
                  <a:lnTo>
                    <a:pt x="926" y="462"/>
                  </a:lnTo>
                  <a:lnTo>
                    <a:pt x="896" y="491"/>
                  </a:lnTo>
                  <a:lnTo>
                    <a:pt x="852" y="511"/>
                  </a:lnTo>
                  <a:lnTo>
                    <a:pt x="837" y="557"/>
                  </a:lnTo>
                  <a:lnTo>
                    <a:pt x="844" y="619"/>
                  </a:lnTo>
                  <a:lnTo>
                    <a:pt x="859" y="662"/>
                  </a:lnTo>
                  <a:lnTo>
                    <a:pt x="852" y="674"/>
                  </a:lnTo>
                  <a:lnTo>
                    <a:pt x="822" y="683"/>
                  </a:lnTo>
                  <a:lnTo>
                    <a:pt x="781" y="695"/>
                  </a:lnTo>
                  <a:lnTo>
                    <a:pt x="759" y="729"/>
                  </a:lnTo>
                  <a:lnTo>
                    <a:pt x="753" y="783"/>
                  </a:lnTo>
                  <a:lnTo>
                    <a:pt x="766" y="838"/>
                  </a:lnTo>
                  <a:lnTo>
                    <a:pt x="793" y="868"/>
                  </a:lnTo>
                  <a:lnTo>
                    <a:pt x="837" y="879"/>
                  </a:lnTo>
                  <a:lnTo>
                    <a:pt x="849" y="889"/>
                  </a:lnTo>
                  <a:lnTo>
                    <a:pt x="827" y="930"/>
                  </a:lnTo>
                  <a:lnTo>
                    <a:pt x="837" y="959"/>
                  </a:lnTo>
                  <a:lnTo>
                    <a:pt x="863" y="963"/>
                  </a:lnTo>
                  <a:lnTo>
                    <a:pt x="904" y="971"/>
                  </a:lnTo>
                  <a:lnTo>
                    <a:pt x="926" y="1019"/>
                  </a:lnTo>
                  <a:lnTo>
                    <a:pt x="960" y="1060"/>
                  </a:lnTo>
                  <a:lnTo>
                    <a:pt x="1016" y="1060"/>
                  </a:lnTo>
                  <a:lnTo>
                    <a:pt x="1044" y="1019"/>
                  </a:lnTo>
                  <a:lnTo>
                    <a:pt x="1066" y="1019"/>
                  </a:lnTo>
                  <a:lnTo>
                    <a:pt x="1081" y="1026"/>
                  </a:lnTo>
                  <a:lnTo>
                    <a:pt x="1085" y="1067"/>
                  </a:lnTo>
                  <a:lnTo>
                    <a:pt x="1104" y="1127"/>
                  </a:lnTo>
                  <a:lnTo>
                    <a:pt x="1134" y="1151"/>
                  </a:lnTo>
                  <a:lnTo>
                    <a:pt x="1167" y="1135"/>
                  </a:lnTo>
                  <a:lnTo>
                    <a:pt x="1211" y="1127"/>
                  </a:lnTo>
                  <a:lnTo>
                    <a:pt x="1248" y="1169"/>
                  </a:lnTo>
                  <a:lnTo>
                    <a:pt x="1285" y="1247"/>
                  </a:lnTo>
                  <a:lnTo>
                    <a:pt x="1285" y="1288"/>
                  </a:lnTo>
                  <a:lnTo>
                    <a:pt x="1274" y="1323"/>
                  </a:lnTo>
                  <a:lnTo>
                    <a:pt x="1255" y="1356"/>
                  </a:lnTo>
                  <a:lnTo>
                    <a:pt x="1274" y="1424"/>
                  </a:lnTo>
                  <a:lnTo>
                    <a:pt x="1277" y="1461"/>
                  </a:lnTo>
                  <a:lnTo>
                    <a:pt x="1252" y="1516"/>
                  </a:lnTo>
                  <a:lnTo>
                    <a:pt x="1248" y="1562"/>
                  </a:lnTo>
                  <a:lnTo>
                    <a:pt x="1260" y="1603"/>
                  </a:lnTo>
                  <a:lnTo>
                    <a:pt x="1277" y="1628"/>
                  </a:lnTo>
                  <a:lnTo>
                    <a:pt x="1304" y="1667"/>
                  </a:lnTo>
                  <a:lnTo>
                    <a:pt x="1311" y="1699"/>
                  </a:lnTo>
                  <a:lnTo>
                    <a:pt x="1307" y="1725"/>
                  </a:lnTo>
                  <a:lnTo>
                    <a:pt x="1304" y="1729"/>
                  </a:lnTo>
                  <a:lnTo>
                    <a:pt x="1290" y="1737"/>
                  </a:lnTo>
                  <a:lnTo>
                    <a:pt x="1237" y="1745"/>
                  </a:lnTo>
                  <a:lnTo>
                    <a:pt x="1237" y="1804"/>
                  </a:lnTo>
                  <a:lnTo>
                    <a:pt x="1140" y="1883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805360" y="6238800"/>
              <a:ext cx="139680" cy="179280"/>
            </a:xfrm>
            <a:custGeom>
              <a:avLst/>
              <a:gdLst/>
              <a:ahLst/>
              <a:rect l="l" t="t" r="r" b="b"/>
              <a:pathLst>
                <a:path w="177" h="226">
                  <a:moveTo>
                    <a:pt x="172" y="187"/>
                  </a:moveTo>
                  <a:lnTo>
                    <a:pt x="133" y="213"/>
                  </a:lnTo>
                  <a:lnTo>
                    <a:pt x="85" y="226"/>
                  </a:lnTo>
                  <a:lnTo>
                    <a:pt x="25" y="208"/>
                  </a:lnTo>
                  <a:lnTo>
                    <a:pt x="3" y="196"/>
                  </a:lnTo>
                  <a:lnTo>
                    <a:pt x="0" y="171"/>
                  </a:lnTo>
                  <a:lnTo>
                    <a:pt x="7" y="150"/>
                  </a:lnTo>
                  <a:lnTo>
                    <a:pt x="19" y="138"/>
                  </a:lnTo>
                  <a:lnTo>
                    <a:pt x="52" y="133"/>
                  </a:lnTo>
                  <a:lnTo>
                    <a:pt x="81" y="146"/>
                  </a:lnTo>
                  <a:lnTo>
                    <a:pt x="98" y="142"/>
                  </a:lnTo>
                  <a:lnTo>
                    <a:pt x="103" y="112"/>
                  </a:lnTo>
                  <a:lnTo>
                    <a:pt x="77" y="101"/>
                  </a:lnTo>
                  <a:lnTo>
                    <a:pt x="77" y="88"/>
                  </a:lnTo>
                  <a:lnTo>
                    <a:pt x="98" y="72"/>
                  </a:lnTo>
                  <a:lnTo>
                    <a:pt x="71" y="67"/>
                  </a:lnTo>
                  <a:lnTo>
                    <a:pt x="63" y="46"/>
                  </a:lnTo>
                  <a:lnTo>
                    <a:pt x="74" y="35"/>
                  </a:lnTo>
                  <a:lnTo>
                    <a:pt x="133" y="0"/>
                  </a:lnTo>
                  <a:lnTo>
                    <a:pt x="169" y="0"/>
                  </a:lnTo>
                  <a:lnTo>
                    <a:pt x="177" y="64"/>
                  </a:lnTo>
                  <a:lnTo>
                    <a:pt x="177" y="128"/>
                  </a:lnTo>
                  <a:lnTo>
                    <a:pt x="172" y="187"/>
                  </a:lnTo>
                  <a:close/>
                </a:path>
              </a:pathLst>
            </a:custGeom>
            <a:solidFill>
              <a:srgbClr val="c2ffff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10080" y="4606920"/>
              <a:ext cx="369720" cy="1608120"/>
            </a:xfrm>
            <a:custGeom>
              <a:avLst/>
              <a:gdLst/>
              <a:ahLst/>
              <a:rect l="l" t="t" r="r" b="b"/>
              <a:pathLst>
                <a:path w="466" h="2027">
                  <a:moveTo>
                    <a:pt x="403" y="0"/>
                  </a:moveTo>
                  <a:lnTo>
                    <a:pt x="406" y="94"/>
                  </a:lnTo>
                  <a:lnTo>
                    <a:pt x="441" y="158"/>
                  </a:lnTo>
                  <a:lnTo>
                    <a:pt x="450" y="183"/>
                  </a:lnTo>
                  <a:lnTo>
                    <a:pt x="455" y="204"/>
                  </a:lnTo>
                  <a:lnTo>
                    <a:pt x="447" y="233"/>
                  </a:lnTo>
                  <a:lnTo>
                    <a:pt x="425" y="274"/>
                  </a:lnTo>
                  <a:lnTo>
                    <a:pt x="425" y="404"/>
                  </a:lnTo>
                  <a:lnTo>
                    <a:pt x="381" y="413"/>
                  </a:lnTo>
                  <a:lnTo>
                    <a:pt x="351" y="434"/>
                  </a:lnTo>
                  <a:lnTo>
                    <a:pt x="340" y="446"/>
                  </a:lnTo>
                  <a:lnTo>
                    <a:pt x="336" y="471"/>
                  </a:lnTo>
                  <a:lnTo>
                    <a:pt x="336" y="488"/>
                  </a:lnTo>
                  <a:lnTo>
                    <a:pt x="348" y="509"/>
                  </a:lnTo>
                  <a:lnTo>
                    <a:pt x="373" y="550"/>
                  </a:lnTo>
                  <a:lnTo>
                    <a:pt x="378" y="601"/>
                  </a:lnTo>
                  <a:lnTo>
                    <a:pt x="354" y="644"/>
                  </a:lnTo>
                  <a:lnTo>
                    <a:pt x="321" y="676"/>
                  </a:lnTo>
                  <a:lnTo>
                    <a:pt x="310" y="710"/>
                  </a:lnTo>
                  <a:lnTo>
                    <a:pt x="303" y="756"/>
                  </a:lnTo>
                  <a:lnTo>
                    <a:pt x="310" y="806"/>
                  </a:lnTo>
                  <a:lnTo>
                    <a:pt x="307" y="861"/>
                  </a:lnTo>
                  <a:lnTo>
                    <a:pt x="291" y="886"/>
                  </a:lnTo>
                  <a:lnTo>
                    <a:pt x="273" y="902"/>
                  </a:lnTo>
                  <a:lnTo>
                    <a:pt x="266" y="923"/>
                  </a:lnTo>
                  <a:lnTo>
                    <a:pt x="269" y="945"/>
                  </a:lnTo>
                  <a:lnTo>
                    <a:pt x="288" y="966"/>
                  </a:lnTo>
                  <a:lnTo>
                    <a:pt x="291" y="986"/>
                  </a:lnTo>
                  <a:lnTo>
                    <a:pt x="288" y="1002"/>
                  </a:lnTo>
                  <a:lnTo>
                    <a:pt x="273" y="1032"/>
                  </a:lnTo>
                  <a:lnTo>
                    <a:pt x="266" y="1074"/>
                  </a:lnTo>
                  <a:lnTo>
                    <a:pt x="277" y="1111"/>
                  </a:lnTo>
                  <a:lnTo>
                    <a:pt x="291" y="1128"/>
                  </a:lnTo>
                  <a:lnTo>
                    <a:pt x="291" y="1169"/>
                  </a:lnTo>
                  <a:lnTo>
                    <a:pt x="329" y="1173"/>
                  </a:lnTo>
                  <a:lnTo>
                    <a:pt x="348" y="1190"/>
                  </a:lnTo>
                  <a:lnTo>
                    <a:pt x="340" y="1229"/>
                  </a:lnTo>
                  <a:lnTo>
                    <a:pt x="326" y="1229"/>
                  </a:lnTo>
                  <a:lnTo>
                    <a:pt x="291" y="1212"/>
                  </a:lnTo>
                  <a:lnTo>
                    <a:pt x="266" y="1225"/>
                  </a:lnTo>
                  <a:lnTo>
                    <a:pt x="258" y="1253"/>
                  </a:lnTo>
                  <a:lnTo>
                    <a:pt x="261" y="1295"/>
                  </a:lnTo>
                  <a:lnTo>
                    <a:pt x="277" y="1334"/>
                  </a:lnTo>
                  <a:lnTo>
                    <a:pt x="313" y="1342"/>
                  </a:lnTo>
                  <a:lnTo>
                    <a:pt x="332" y="1375"/>
                  </a:lnTo>
                  <a:lnTo>
                    <a:pt x="326" y="1425"/>
                  </a:lnTo>
                  <a:lnTo>
                    <a:pt x="295" y="1459"/>
                  </a:lnTo>
                  <a:lnTo>
                    <a:pt x="258" y="1480"/>
                  </a:lnTo>
                  <a:lnTo>
                    <a:pt x="244" y="1521"/>
                  </a:lnTo>
                  <a:lnTo>
                    <a:pt x="244" y="1564"/>
                  </a:lnTo>
                  <a:lnTo>
                    <a:pt x="261" y="1589"/>
                  </a:lnTo>
                  <a:lnTo>
                    <a:pt x="261" y="1617"/>
                  </a:lnTo>
                  <a:lnTo>
                    <a:pt x="244" y="1642"/>
                  </a:lnTo>
                  <a:lnTo>
                    <a:pt x="214" y="1646"/>
                  </a:lnTo>
                  <a:lnTo>
                    <a:pt x="198" y="1664"/>
                  </a:lnTo>
                  <a:lnTo>
                    <a:pt x="192" y="1685"/>
                  </a:lnTo>
                  <a:lnTo>
                    <a:pt x="192" y="1747"/>
                  </a:lnTo>
                  <a:lnTo>
                    <a:pt x="195" y="1772"/>
                  </a:lnTo>
                  <a:lnTo>
                    <a:pt x="206" y="1788"/>
                  </a:lnTo>
                  <a:lnTo>
                    <a:pt x="214" y="1793"/>
                  </a:lnTo>
                  <a:lnTo>
                    <a:pt x="225" y="1788"/>
                  </a:lnTo>
                  <a:lnTo>
                    <a:pt x="244" y="1781"/>
                  </a:lnTo>
                  <a:lnTo>
                    <a:pt x="254" y="1788"/>
                  </a:lnTo>
                  <a:lnTo>
                    <a:pt x="261" y="1870"/>
                  </a:lnTo>
                  <a:lnTo>
                    <a:pt x="277" y="1890"/>
                  </a:lnTo>
                  <a:lnTo>
                    <a:pt x="348" y="1886"/>
                  </a:lnTo>
                  <a:lnTo>
                    <a:pt x="466" y="1890"/>
                  </a:lnTo>
                  <a:lnTo>
                    <a:pt x="466" y="1911"/>
                  </a:lnTo>
                  <a:lnTo>
                    <a:pt x="463" y="1927"/>
                  </a:lnTo>
                  <a:lnTo>
                    <a:pt x="447" y="1932"/>
                  </a:lnTo>
                  <a:lnTo>
                    <a:pt x="373" y="1961"/>
                  </a:lnTo>
                  <a:lnTo>
                    <a:pt x="351" y="1982"/>
                  </a:lnTo>
                  <a:lnTo>
                    <a:pt x="332" y="2002"/>
                  </a:lnTo>
                  <a:lnTo>
                    <a:pt x="313" y="2023"/>
                  </a:lnTo>
                  <a:lnTo>
                    <a:pt x="295" y="2027"/>
                  </a:lnTo>
                  <a:lnTo>
                    <a:pt x="258" y="2006"/>
                  </a:lnTo>
                  <a:lnTo>
                    <a:pt x="217" y="2002"/>
                  </a:lnTo>
                  <a:lnTo>
                    <a:pt x="195" y="1986"/>
                  </a:lnTo>
                  <a:lnTo>
                    <a:pt x="181" y="1978"/>
                  </a:lnTo>
                  <a:lnTo>
                    <a:pt x="178" y="1964"/>
                  </a:lnTo>
                  <a:lnTo>
                    <a:pt x="173" y="1939"/>
                  </a:lnTo>
                  <a:lnTo>
                    <a:pt x="158" y="1923"/>
                  </a:lnTo>
                  <a:lnTo>
                    <a:pt x="137" y="1914"/>
                  </a:lnTo>
                  <a:lnTo>
                    <a:pt x="118" y="1918"/>
                  </a:lnTo>
                  <a:lnTo>
                    <a:pt x="102" y="1898"/>
                  </a:lnTo>
                  <a:lnTo>
                    <a:pt x="96" y="1881"/>
                  </a:lnTo>
                  <a:lnTo>
                    <a:pt x="73" y="1860"/>
                  </a:lnTo>
                  <a:lnTo>
                    <a:pt x="63" y="1852"/>
                  </a:lnTo>
                  <a:lnTo>
                    <a:pt x="55" y="1815"/>
                  </a:lnTo>
                  <a:lnTo>
                    <a:pt x="55" y="1793"/>
                  </a:lnTo>
                  <a:lnTo>
                    <a:pt x="55" y="1768"/>
                  </a:lnTo>
                  <a:lnTo>
                    <a:pt x="50" y="1726"/>
                  </a:lnTo>
                  <a:lnTo>
                    <a:pt x="36" y="1701"/>
                  </a:lnTo>
                  <a:lnTo>
                    <a:pt x="39" y="1685"/>
                  </a:lnTo>
                  <a:lnTo>
                    <a:pt x="50" y="1680"/>
                  </a:lnTo>
                  <a:lnTo>
                    <a:pt x="69" y="1659"/>
                  </a:lnTo>
                  <a:lnTo>
                    <a:pt x="77" y="1642"/>
                  </a:lnTo>
                  <a:lnTo>
                    <a:pt x="80" y="1635"/>
                  </a:lnTo>
                  <a:lnTo>
                    <a:pt x="66" y="1617"/>
                  </a:lnTo>
                  <a:lnTo>
                    <a:pt x="63" y="1572"/>
                  </a:lnTo>
                  <a:lnTo>
                    <a:pt x="69" y="1546"/>
                  </a:lnTo>
                  <a:lnTo>
                    <a:pt x="84" y="1526"/>
                  </a:lnTo>
                  <a:lnTo>
                    <a:pt x="91" y="1509"/>
                  </a:lnTo>
                  <a:lnTo>
                    <a:pt x="99" y="1505"/>
                  </a:lnTo>
                  <a:lnTo>
                    <a:pt x="84" y="1488"/>
                  </a:lnTo>
                  <a:lnTo>
                    <a:pt x="66" y="1480"/>
                  </a:lnTo>
                  <a:lnTo>
                    <a:pt x="55" y="1459"/>
                  </a:lnTo>
                  <a:lnTo>
                    <a:pt x="80" y="1438"/>
                  </a:lnTo>
                  <a:lnTo>
                    <a:pt x="63" y="1416"/>
                  </a:lnTo>
                  <a:lnTo>
                    <a:pt x="25" y="1413"/>
                  </a:lnTo>
                  <a:lnTo>
                    <a:pt x="10" y="1408"/>
                  </a:lnTo>
                  <a:lnTo>
                    <a:pt x="3" y="1396"/>
                  </a:lnTo>
                  <a:lnTo>
                    <a:pt x="0" y="1375"/>
                  </a:lnTo>
                  <a:lnTo>
                    <a:pt x="3" y="1350"/>
                  </a:lnTo>
                  <a:lnTo>
                    <a:pt x="10" y="1334"/>
                  </a:lnTo>
                  <a:lnTo>
                    <a:pt x="22" y="1334"/>
                  </a:lnTo>
                  <a:lnTo>
                    <a:pt x="39" y="1334"/>
                  </a:lnTo>
                  <a:lnTo>
                    <a:pt x="47" y="1350"/>
                  </a:lnTo>
                  <a:lnTo>
                    <a:pt x="77" y="1350"/>
                  </a:lnTo>
                  <a:lnTo>
                    <a:pt x="99" y="1350"/>
                  </a:lnTo>
                  <a:lnTo>
                    <a:pt x="115" y="1342"/>
                  </a:lnTo>
                  <a:lnTo>
                    <a:pt x="118" y="1303"/>
                  </a:lnTo>
                  <a:lnTo>
                    <a:pt x="115" y="1258"/>
                  </a:lnTo>
                  <a:lnTo>
                    <a:pt x="118" y="1240"/>
                  </a:lnTo>
                  <a:lnTo>
                    <a:pt x="137" y="1212"/>
                  </a:lnTo>
                  <a:lnTo>
                    <a:pt x="151" y="1204"/>
                  </a:lnTo>
                  <a:lnTo>
                    <a:pt x="129" y="1158"/>
                  </a:lnTo>
                  <a:lnTo>
                    <a:pt x="124" y="1107"/>
                  </a:lnTo>
                  <a:lnTo>
                    <a:pt x="137" y="1061"/>
                  </a:lnTo>
                  <a:lnTo>
                    <a:pt x="147" y="1016"/>
                  </a:lnTo>
                  <a:lnTo>
                    <a:pt x="143" y="970"/>
                  </a:lnTo>
                  <a:lnTo>
                    <a:pt x="140" y="948"/>
                  </a:lnTo>
                  <a:lnTo>
                    <a:pt x="147" y="927"/>
                  </a:lnTo>
                  <a:lnTo>
                    <a:pt x="143" y="918"/>
                  </a:lnTo>
                  <a:lnTo>
                    <a:pt x="133" y="923"/>
                  </a:lnTo>
                  <a:lnTo>
                    <a:pt x="118" y="940"/>
                  </a:lnTo>
                  <a:lnTo>
                    <a:pt x="88" y="948"/>
                  </a:lnTo>
                  <a:lnTo>
                    <a:pt x="77" y="945"/>
                  </a:lnTo>
                  <a:lnTo>
                    <a:pt x="73" y="902"/>
                  </a:lnTo>
                  <a:lnTo>
                    <a:pt x="73" y="861"/>
                  </a:lnTo>
                  <a:lnTo>
                    <a:pt x="77" y="818"/>
                  </a:lnTo>
                  <a:lnTo>
                    <a:pt x="84" y="777"/>
                  </a:lnTo>
                  <a:lnTo>
                    <a:pt x="88" y="756"/>
                  </a:lnTo>
                  <a:lnTo>
                    <a:pt x="96" y="744"/>
                  </a:lnTo>
                  <a:lnTo>
                    <a:pt x="99" y="731"/>
                  </a:lnTo>
                  <a:lnTo>
                    <a:pt x="102" y="706"/>
                  </a:lnTo>
                  <a:lnTo>
                    <a:pt x="118" y="664"/>
                  </a:lnTo>
                  <a:lnTo>
                    <a:pt x="110" y="630"/>
                  </a:lnTo>
                  <a:lnTo>
                    <a:pt x="102" y="596"/>
                  </a:lnTo>
                  <a:lnTo>
                    <a:pt x="96" y="564"/>
                  </a:lnTo>
                  <a:lnTo>
                    <a:pt x="96" y="534"/>
                  </a:lnTo>
                  <a:lnTo>
                    <a:pt x="102" y="505"/>
                  </a:lnTo>
                  <a:lnTo>
                    <a:pt x="115" y="484"/>
                  </a:lnTo>
                  <a:lnTo>
                    <a:pt x="133" y="466"/>
                  </a:lnTo>
                  <a:lnTo>
                    <a:pt x="151" y="463"/>
                  </a:lnTo>
                  <a:lnTo>
                    <a:pt x="170" y="397"/>
                  </a:lnTo>
                  <a:lnTo>
                    <a:pt x="173" y="375"/>
                  </a:lnTo>
                  <a:lnTo>
                    <a:pt x="192" y="313"/>
                  </a:lnTo>
                  <a:lnTo>
                    <a:pt x="202" y="295"/>
                  </a:lnTo>
                  <a:lnTo>
                    <a:pt x="221" y="242"/>
                  </a:lnTo>
                  <a:lnTo>
                    <a:pt x="233" y="162"/>
                  </a:lnTo>
                  <a:lnTo>
                    <a:pt x="233" y="158"/>
                  </a:lnTo>
                  <a:lnTo>
                    <a:pt x="236" y="87"/>
                  </a:lnTo>
                  <a:lnTo>
                    <a:pt x="23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562360" y="3463920"/>
              <a:ext cx="366840" cy="1197000"/>
            </a:xfrm>
            <a:custGeom>
              <a:avLst/>
              <a:gdLst/>
              <a:ahLst/>
              <a:rect l="l" t="t" r="r" b="b"/>
              <a:pathLst>
                <a:path w="460" h="1507">
                  <a:moveTo>
                    <a:pt x="18" y="1507"/>
                  </a:moveTo>
                  <a:lnTo>
                    <a:pt x="12" y="1418"/>
                  </a:lnTo>
                  <a:lnTo>
                    <a:pt x="4" y="1372"/>
                  </a:lnTo>
                  <a:lnTo>
                    <a:pt x="12" y="1313"/>
                  </a:lnTo>
                  <a:lnTo>
                    <a:pt x="8" y="1313"/>
                  </a:lnTo>
                  <a:lnTo>
                    <a:pt x="23" y="1262"/>
                  </a:lnTo>
                  <a:lnTo>
                    <a:pt x="26" y="1246"/>
                  </a:lnTo>
                  <a:lnTo>
                    <a:pt x="29" y="1226"/>
                  </a:lnTo>
                  <a:lnTo>
                    <a:pt x="29" y="1200"/>
                  </a:lnTo>
                  <a:lnTo>
                    <a:pt x="26" y="1180"/>
                  </a:lnTo>
                  <a:lnTo>
                    <a:pt x="12" y="1155"/>
                  </a:lnTo>
                  <a:lnTo>
                    <a:pt x="0" y="1137"/>
                  </a:lnTo>
                  <a:lnTo>
                    <a:pt x="8" y="1112"/>
                  </a:lnTo>
                  <a:lnTo>
                    <a:pt x="15" y="1101"/>
                  </a:lnTo>
                  <a:lnTo>
                    <a:pt x="23" y="1071"/>
                  </a:lnTo>
                  <a:lnTo>
                    <a:pt x="33" y="1046"/>
                  </a:lnTo>
                  <a:lnTo>
                    <a:pt x="89" y="736"/>
                  </a:lnTo>
                  <a:lnTo>
                    <a:pt x="82" y="614"/>
                  </a:lnTo>
                  <a:lnTo>
                    <a:pt x="97" y="519"/>
                  </a:lnTo>
                  <a:lnTo>
                    <a:pt x="105" y="426"/>
                  </a:lnTo>
                  <a:lnTo>
                    <a:pt x="115" y="272"/>
                  </a:lnTo>
                  <a:lnTo>
                    <a:pt x="115" y="167"/>
                  </a:lnTo>
                  <a:lnTo>
                    <a:pt x="92" y="79"/>
                  </a:lnTo>
                  <a:lnTo>
                    <a:pt x="193" y="0"/>
                  </a:lnTo>
                  <a:lnTo>
                    <a:pt x="226" y="41"/>
                  </a:lnTo>
                  <a:lnTo>
                    <a:pt x="245" y="84"/>
                  </a:lnTo>
                  <a:lnTo>
                    <a:pt x="256" y="138"/>
                  </a:lnTo>
                  <a:lnTo>
                    <a:pt x="281" y="163"/>
                  </a:lnTo>
                  <a:lnTo>
                    <a:pt x="315" y="192"/>
                  </a:lnTo>
                  <a:lnTo>
                    <a:pt x="322" y="243"/>
                  </a:lnTo>
                  <a:lnTo>
                    <a:pt x="308" y="263"/>
                  </a:lnTo>
                  <a:lnTo>
                    <a:pt x="303" y="306"/>
                  </a:lnTo>
                  <a:lnTo>
                    <a:pt x="352" y="368"/>
                  </a:lnTo>
                  <a:lnTo>
                    <a:pt x="374" y="426"/>
                  </a:lnTo>
                  <a:lnTo>
                    <a:pt x="401" y="507"/>
                  </a:lnTo>
                  <a:lnTo>
                    <a:pt x="434" y="527"/>
                  </a:lnTo>
                  <a:lnTo>
                    <a:pt x="452" y="507"/>
                  </a:lnTo>
                  <a:lnTo>
                    <a:pt x="452" y="527"/>
                  </a:lnTo>
                  <a:lnTo>
                    <a:pt x="452" y="590"/>
                  </a:lnTo>
                  <a:lnTo>
                    <a:pt x="460" y="653"/>
                  </a:lnTo>
                  <a:lnTo>
                    <a:pt x="456" y="664"/>
                  </a:lnTo>
                  <a:lnTo>
                    <a:pt x="445" y="678"/>
                  </a:lnTo>
                  <a:lnTo>
                    <a:pt x="418" y="695"/>
                  </a:lnTo>
                  <a:lnTo>
                    <a:pt x="352" y="715"/>
                  </a:lnTo>
                  <a:lnTo>
                    <a:pt x="337" y="728"/>
                  </a:lnTo>
                  <a:lnTo>
                    <a:pt x="330" y="749"/>
                  </a:lnTo>
                  <a:lnTo>
                    <a:pt x="349" y="783"/>
                  </a:lnTo>
                  <a:lnTo>
                    <a:pt x="355" y="799"/>
                  </a:lnTo>
                  <a:lnTo>
                    <a:pt x="355" y="811"/>
                  </a:lnTo>
                  <a:lnTo>
                    <a:pt x="352" y="825"/>
                  </a:lnTo>
                  <a:lnTo>
                    <a:pt x="330" y="870"/>
                  </a:lnTo>
                  <a:lnTo>
                    <a:pt x="349" y="899"/>
                  </a:lnTo>
                  <a:lnTo>
                    <a:pt x="374" y="920"/>
                  </a:lnTo>
                  <a:lnTo>
                    <a:pt x="355" y="945"/>
                  </a:lnTo>
                  <a:lnTo>
                    <a:pt x="327" y="961"/>
                  </a:lnTo>
                  <a:lnTo>
                    <a:pt x="345" y="1007"/>
                  </a:lnTo>
                  <a:lnTo>
                    <a:pt x="278" y="1004"/>
                  </a:lnTo>
                  <a:lnTo>
                    <a:pt x="263" y="1050"/>
                  </a:lnTo>
                  <a:lnTo>
                    <a:pt x="271" y="1071"/>
                  </a:lnTo>
                  <a:lnTo>
                    <a:pt x="281" y="1096"/>
                  </a:lnTo>
                  <a:lnTo>
                    <a:pt x="281" y="1108"/>
                  </a:lnTo>
                  <a:lnTo>
                    <a:pt x="263" y="1130"/>
                  </a:lnTo>
                  <a:lnTo>
                    <a:pt x="245" y="1150"/>
                  </a:lnTo>
                  <a:lnTo>
                    <a:pt x="220" y="1171"/>
                  </a:lnTo>
                  <a:lnTo>
                    <a:pt x="207" y="1238"/>
                  </a:lnTo>
                  <a:lnTo>
                    <a:pt x="215" y="1329"/>
                  </a:lnTo>
                  <a:lnTo>
                    <a:pt x="196" y="1397"/>
                  </a:lnTo>
                  <a:lnTo>
                    <a:pt x="179" y="1507"/>
                  </a:lnTo>
                  <a:lnTo>
                    <a:pt x="18" y="150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43560" y="863640"/>
              <a:ext cx="1039680" cy="1049400"/>
            </a:xfrm>
            <a:custGeom>
              <a:avLst/>
              <a:gdLst/>
              <a:ahLst/>
              <a:rect l="l" t="t" r="r" b="b"/>
              <a:pathLst>
                <a:path w="1310" h="1322">
                  <a:moveTo>
                    <a:pt x="1277" y="732"/>
                  </a:moveTo>
                  <a:lnTo>
                    <a:pt x="1251" y="749"/>
                  </a:lnTo>
                  <a:lnTo>
                    <a:pt x="1266" y="779"/>
                  </a:lnTo>
                  <a:lnTo>
                    <a:pt x="1266" y="812"/>
                  </a:lnTo>
                  <a:lnTo>
                    <a:pt x="1247" y="832"/>
                  </a:lnTo>
                  <a:lnTo>
                    <a:pt x="1225" y="857"/>
                  </a:lnTo>
                  <a:lnTo>
                    <a:pt x="1211" y="912"/>
                  </a:lnTo>
                  <a:lnTo>
                    <a:pt x="1195" y="937"/>
                  </a:lnTo>
                  <a:lnTo>
                    <a:pt x="1158" y="955"/>
                  </a:lnTo>
                  <a:lnTo>
                    <a:pt x="1080" y="971"/>
                  </a:lnTo>
                  <a:lnTo>
                    <a:pt x="1006" y="971"/>
                  </a:lnTo>
                  <a:lnTo>
                    <a:pt x="948" y="950"/>
                  </a:lnTo>
                  <a:lnTo>
                    <a:pt x="943" y="967"/>
                  </a:lnTo>
                  <a:lnTo>
                    <a:pt x="951" y="1003"/>
                  </a:lnTo>
                  <a:lnTo>
                    <a:pt x="981" y="1029"/>
                  </a:lnTo>
                  <a:lnTo>
                    <a:pt x="1014" y="1038"/>
                  </a:lnTo>
                  <a:lnTo>
                    <a:pt x="1039" y="1059"/>
                  </a:lnTo>
                  <a:lnTo>
                    <a:pt x="1047" y="1088"/>
                  </a:lnTo>
                  <a:lnTo>
                    <a:pt x="1028" y="1129"/>
                  </a:lnTo>
                  <a:lnTo>
                    <a:pt x="978" y="1151"/>
                  </a:lnTo>
                  <a:lnTo>
                    <a:pt x="959" y="1172"/>
                  </a:lnTo>
                  <a:lnTo>
                    <a:pt x="937" y="1205"/>
                  </a:lnTo>
                  <a:lnTo>
                    <a:pt x="910" y="1252"/>
                  </a:lnTo>
                  <a:lnTo>
                    <a:pt x="888" y="1273"/>
                  </a:lnTo>
                  <a:lnTo>
                    <a:pt x="844" y="1280"/>
                  </a:lnTo>
                  <a:lnTo>
                    <a:pt x="807" y="1297"/>
                  </a:lnTo>
                  <a:lnTo>
                    <a:pt x="776" y="1318"/>
                  </a:lnTo>
                  <a:lnTo>
                    <a:pt x="748" y="1322"/>
                  </a:lnTo>
                  <a:lnTo>
                    <a:pt x="718" y="1302"/>
                  </a:lnTo>
                  <a:lnTo>
                    <a:pt x="710" y="1255"/>
                  </a:lnTo>
                  <a:lnTo>
                    <a:pt x="702" y="1188"/>
                  </a:lnTo>
                  <a:lnTo>
                    <a:pt x="677" y="1133"/>
                  </a:lnTo>
                  <a:lnTo>
                    <a:pt x="643" y="1088"/>
                  </a:lnTo>
                  <a:lnTo>
                    <a:pt x="633" y="1024"/>
                  </a:lnTo>
                  <a:lnTo>
                    <a:pt x="666" y="996"/>
                  </a:lnTo>
                  <a:lnTo>
                    <a:pt x="650" y="967"/>
                  </a:lnTo>
                  <a:lnTo>
                    <a:pt x="625" y="958"/>
                  </a:lnTo>
                  <a:lnTo>
                    <a:pt x="600" y="937"/>
                  </a:lnTo>
                  <a:lnTo>
                    <a:pt x="592" y="891"/>
                  </a:lnTo>
                  <a:lnTo>
                    <a:pt x="610" y="832"/>
                  </a:lnTo>
                  <a:lnTo>
                    <a:pt x="610" y="787"/>
                  </a:lnTo>
                  <a:lnTo>
                    <a:pt x="592" y="745"/>
                  </a:lnTo>
                  <a:lnTo>
                    <a:pt x="518" y="724"/>
                  </a:lnTo>
                  <a:lnTo>
                    <a:pt x="466" y="749"/>
                  </a:lnTo>
                  <a:lnTo>
                    <a:pt x="421" y="732"/>
                  </a:lnTo>
                  <a:lnTo>
                    <a:pt x="392" y="686"/>
                  </a:lnTo>
                  <a:lnTo>
                    <a:pt x="355" y="645"/>
                  </a:lnTo>
                  <a:lnTo>
                    <a:pt x="315" y="611"/>
                  </a:lnTo>
                  <a:lnTo>
                    <a:pt x="284" y="611"/>
                  </a:lnTo>
                  <a:lnTo>
                    <a:pt x="228" y="629"/>
                  </a:lnTo>
                  <a:lnTo>
                    <a:pt x="176" y="619"/>
                  </a:lnTo>
                  <a:lnTo>
                    <a:pt x="126" y="590"/>
                  </a:lnTo>
                  <a:lnTo>
                    <a:pt x="96" y="549"/>
                  </a:lnTo>
                  <a:lnTo>
                    <a:pt x="80" y="448"/>
                  </a:lnTo>
                  <a:lnTo>
                    <a:pt x="65" y="427"/>
                  </a:lnTo>
                  <a:lnTo>
                    <a:pt x="17" y="444"/>
                  </a:lnTo>
                  <a:lnTo>
                    <a:pt x="0" y="440"/>
                  </a:lnTo>
                  <a:lnTo>
                    <a:pt x="0" y="423"/>
                  </a:lnTo>
                  <a:lnTo>
                    <a:pt x="44" y="343"/>
                  </a:lnTo>
                  <a:lnTo>
                    <a:pt x="61" y="231"/>
                  </a:lnTo>
                  <a:lnTo>
                    <a:pt x="96" y="177"/>
                  </a:lnTo>
                  <a:lnTo>
                    <a:pt x="143" y="147"/>
                  </a:lnTo>
                  <a:lnTo>
                    <a:pt x="170" y="117"/>
                  </a:lnTo>
                  <a:lnTo>
                    <a:pt x="176" y="147"/>
                  </a:lnTo>
                  <a:lnTo>
                    <a:pt x="203" y="167"/>
                  </a:lnTo>
                  <a:lnTo>
                    <a:pt x="228" y="156"/>
                  </a:lnTo>
                  <a:lnTo>
                    <a:pt x="244" y="131"/>
                  </a:lnTo>
                  <a:lnTo>
                    <a:pt x="273" y="62"/>
                  </a:lnTo>
                  <a:lnTo>
                    <a:pt x="299" y="17"/>
                  </a:lnTo>
                  <a:lnTo>
                    <a:pt x="310" y="5"/>
                  </a:lnTo>
                  <a:lnTo>
                    <a:pt x="332" y="0"/>
                  </a:lnTo>
                  <a:lnTo>
                    <a:pt x="343" y="8"/>
                  </a:lnTo>
                  <a:lnTo>
                    <a:pt x="351" y="8"/>
                  </a:lnTo>
                  <a:lnTo>
                    <a:pt x="362" y="21"/>
                  </a:lnTo>
                  <a:lnTo>
                    <a:pt x="370" y="37"/>
                  </a:lnTo>
                  <a:lnTo>
                    <a:pt x="373" y="58"/>
                  </a:lnTo>
                  <a:lnTo>
                    <a:pt x="392" y="62"/>
                  </a:lnTo>
                  <a:lnTo>
                    <a:pt x="429" y="62"/>
                  </a:lnTo>
                  <a:lnTo>
                    <a:pt x="452" y="83"/>
                  </a:lnTo>
                  <a:lnTo>
                    <a:pt x="491" y="122"/>
                  </a:lnTo>
                  <a:lnTo>
                    <a:pt x="532" y="163"/>
                  </a:lnTo>
                  <a:lnTo>
                    <a:pt x="551" y="167"/>
                  </a:lnTo>
                  <a:lnTo>
                    <a:pt x="647" y="138"/>
                  </a:lnTo>
                  <a:lnTo>
                    <a:pt x="674" y="134"/>
                  </a:lnTo>
                  <a:lnTo>
                    <a:pt x="699" y="147"/>
                  </a:lnTo>
                  <a:lnTo>
                    <a:pt x="706" y="163"/>
                  </a:lnTo>
                  <a:lnTo>
                    <a:pt x="748" y="181"/>
                  </a:lnTo>
                  <a:lnTo>
                    <a:pt x="765" y="198"/>
                  </a:lnTo>
                  <a:lnTo>
                    <a:pt x="784" y="202"/>
                  </a:lnTo>
                  <a:lnTo>
                    <a:pt x="839" y="198"/>
                  </a:lnTo>
                  <a:lnTo>
                    <a:pt x="866" y="181"/>
                  </a:lnTo>
                  <a:lnTo>
                    <a:pt x="881" y="172"/>
                  </a:lnTo>
                  <a:lnTo>
                    <a:pt x="925" y="109"/>
                  </a:lnTo>
                  <a:lnTo>
                    <a:pt x="940" y="104"/>
                  </a:lnTo>
                  <a:lnTo>
                    <a:pt x="1036" y="104"/>
                  </a:lnTo>
                  <a:lnTo>
                    <a:pt x="1055" y="104"/>
                  </a:lnTo>
                  <a:lnTo>
                    <a:pt x="1070" y="126"/>
                  </a:lnTo>
                  <a:lnTo>
                    <a:pt x="1077" y="147"/>
                  </a:lnTo>
                  <a:lnTo>
                    <a:pt x="1074" y="167"/>
                  </a:lnTo>
                  <a:lnTo>
                    <a:pt x="1084" y="202"/>
                  </a:lnTo>
                  <a:lnTo>
                    <a:pt x="1117" y="209"/>
                  </a:lnTo>
                  <a:lnTo>
                    <a:pt x="1136" y="213"/>
                  </a:lnTo>
                  <a:lnTo>
                    <a:pt x="1173" y="213"/>
                  </a:lnTo>
                  <a:lnTo>
                    <a:pt x="1211" y="231"/>
                  </a:lnTo>
                  <a:lnTo>
                    <a:pt x="1232" y="252"/>
                  </a:lnTo>
                  <a:lnTo>
                    <a:pt x="1236" y="273"/>
                  </a:lnTo>
                  <a:lnTo>
                    <a:pt x="1247" y="293"/>
                  </a:lnTo>
                  <a:lnTo>
                    <a:pt x="1259" y="314"/>
                  </a:lnTo>
                  <a:lnTo>
                    <a:pt x="1310" y="323"/>
                  </a:lnTo>
                  <a:lnTo>
                    <a:pt x="1307" y="339"/>
                  </a:lnTo>
                  <a:lnTo>
                    <a:pt x="1307" y="385"/>
                  </a:lnTo>
                  <a:lnTo>
                    <a:pt x="1288" y="402"/>
                  </a:lnTo>
                  <a:lnTo>
                    <a:pt x="1263" y="414"/>
                  </a:lnTo>
                  <a:lnTo>
                    <a:pt x="1236" y="427"/>
                  </a:lnTo>
                  <a:lnTo>
                    <a:pt x="1228" y="453"/>
                  </a:lnTo>
                  <a:lnTo>
                    <a:pt x="1236" y="485"/>
                  </a:lnTo>
                  <a:lnTo>
                    <a:pt x="1291" y="506"/>
                  </a:lnTo>
                  <a:lnTo>
                    <a:pt x="1273" y="528"/>
                  </a:lnTo>
                  <a:lnTo>
                    <a:pt x="1217" y="528"/>
                  </a:lnTo>
                  <a:lnTo>
                    <a:pt x="1203" y="549"/>
                  </a:lnTo>
                  <a:lnTo>
                    <a:pt x="1222" y="569"/>
                  </a:lnTo>
                  <a:lnTo>
                    <a:pt x="1228" y="603"/>
                  </a:lnTo>
                  <a:lnTo>
                    <a:pt x="1222" y="652"/>
                  </a:lnTo>
                  <a:lnTo>
                    <a:pt x="1241" y="712"/>
                  </a:lnTo>
                  <a:lnTo>
                    <a:pt x="1277" y="732"/>
                  </a:lnTo>
                  <a:close/>
                </a:path>
              </a:pathLst>
            </a:custGeom>
            <a:solidFill>
              <a:srgbClr val="0099cc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40360" y="838080"/>
              <a:ext cx="969840" cy="1373400"/>
            </a:xfrm>
            <a:custGeom>
              <a:avLst/>
              <a:gdLst/>
              <a:ahLst/>
              <a:rect l="l" t="t" r="r" b="b"/>
              <a:pathLst>
                <a:path w="1224" h="1732">
                  <a:moveTo>
                    <a:pt x="0" y="1271"/>
                  </a:moveTo>
                  <a:lnTo>
                    <a:pt x="8" y="1251"/>
                  </a:lnTo>
                  <a:lnTo>
                    <a:pt x="12" y="1230"/>
                  </a:lnTo>
                  <a:lnTo>
                    <a:pt x="22" y="1205"/>
                  </a:lnTo>
                  <a:lnTo>
                    <a:pt x="38" y="1184"/>
                  </a:lnTo>
                  <a:lnTo>
                    <a:pt x="75" y="1155"/>
                  </a:lnTo>
                  <a:lnTo>
                    <a:pt x="115" y="1134"/>
                  </a:lnTo>
                  <a:lnTo>
                    <a:pt x="141" y="1087"/>
                  </a:lnTo>
                  <a:lnTo>
                    <a:pt x="153" y="1046"/>
                  </a:lnTo>
                  <a:lnTo>
                    <a:pt x="156" y="1020"/>
                  </a:lnTo>
                  <a:lnTo>
                    <a:pt x="153" y="1000"/>
                  </a:lnTo>
                  <a:lnTo>
                    <a:pt x="148" y="979"/>
                  </a:lnTo>
                  <a:lnTo>
                    <a:pt x="127" y="890"/>
                  </a:lnTo>
                  <a:lnTo>
                    <a:pt x="123" y="845"/>
                  </a:lnTo>
                  <a:lnTo>
                    <a:pt x="131" y="820"/>
                  </a:lnTo>
                  <a:lnTo>
                    <a:pt x="145" y="799"/>
                  </a:lnTo>
                  <a:lnTo>
                    <a:pt x="148" y="753"/>
                  </a:lnTo>
                  <a:lnTo>
                    <a:pt x="141" y="712"/>
                  </a:lnTo>
                  <a:lnTo>
                    <a:pt x="123" y="690"/>
                  </a:lnTo>
                  <a:lnTo>
                    <a:pt x="100" y="644"/>
                  </a:lnTo>
                  <a:lnTo>
                    <a:pt x="93" y="623"/>
                  </a:lnTo>
                  <a:lnTo>
                    <a:pt x="93" y="611"/>
                  </a:lnTo>
                  <a:lnTo>
                    <a:pt x="96" y="594"/>
                  </a:lnTo>
                  <a:lnTo>
                    <a:pt x="104" y="582"/>
                  </a:lnTo>
                  <a:lnTo>
                    <a:pt x="119" y="577"/>
                  </a:lnTo>
                  <a:lnTo>
                    <a:pt x="141" y="586"/>
                  </a:lnTo>
                  <a:lnTo>
                    <a:pt x="156" y="582"/>
                  </a:lnTo>
                  <a:lnTo>
                    <a:pt x="156" y="553"/>
                  </a:lnTo>
                  <a:lnTo>
                    <a:pt x="156" y="536"/>
                  </a:lnTo>
                  <a:lnTo>
                    <a:pt x="164" y="514"/>
                  </a:lnTo>
                  <a:lnTo>
                    <a:pt x="186" y="511"/>
                  </a:lnTo>
                  <a:lnTo>
                    <a:pt x="211" y="501"/>
                  </a:lnTo>
                  <a:lnTo>
                    <a:pt x="215" y="465"/>
                  </a:lnTo>
                  <a:lnTo>
                    <a:pt x="246" y="393"/>
                  </a:lnTo>
                  <a:lnTo>
                    <a:pt x="271" y="372"/>
                  </a:lnTo>
                  <a:lnTo>
                    <a:pt x="290" y="367"/>
                  </a:lnTo>
                  <a:lnTo>
                    <a:pt x="304" y="351"/>
                  </a:lnTo>
                  <a:lnTo>
                    <a:pt x="304" y="306"/>
                  </a:lnTo>
                  <a:lnTo>
                    <a:pt x="307" y="285"/>
                  </a:lnTo>
                  <a:lnTo>
                    <a:pt x="323" y="260"/>
                  </a:lnTo>
                  <a:lnTo>
                    <a:pt x="342" y="239"/>
                  </a:lnTo>
                  <a:lnTo>
                    <a:pt x="348" y="217"/>
                  </a:lnTo>
                  <a:lnTo>
                    <a:pt x="363" y="210"/>
                  </a:lnTo>
                  <a:lnTo>
                    <a:pt x="400" y="214"/>
                  </a:lnTo>
                  <a:lnTo>
                    <a:pt x="422" y="231"/>
                  </a:lnTo>
                  <a:lnTo>
                    <a:pt x="441" y="214"/>
                  </a:lnTo>
                  <a:lnTo>
                    <a:pt x="441" y="189"/>
                  </a:lnTo>
                  <a:lnTo>
                    <a:pt x="449" y="176"/>
                  </a:lnTo>
                  <a:lnTo>
                    <a:pt x="459" y="167"/>
                  </a:lnTo>
                  <a:lnTo>
                    <a:pt x="478" y="159"/>
                  </a:lnTo>
                  <a:lnTo>
                    <a:pt x="553" y="116"/>
                  </a:lnTo>
                  <a:lnTo>
                    <a:pt x="630" y="70"/>
                  </a:lnTo>
                  <a:lnTo>
                    <a:pt x="649" y="25"/>
                  </a:lnTo>
                  <a:lnTo>
                    <a:pt x="674" y="8"/>
                  </a:lnTo>
                  <a:lnTo>
                    <a:pt x="704" y="0"/>
                  </a:lnTo>
                  <a:lnTo>
                    <a:pt x="719" y="8"/>
                  </a:lnTo>
                  <a:lnTo>
                    <a:pt x="726" y="25"/>
                  </a:lnTo>
                  <a:lnTo>
                    <a:pt x="723" y="46"/>
                  </a:lnTo>
                  <a:lnTo>
                    <a:pt x="708" y="66"/>
                  </a:lnTo>
                  <a:lnTo>
                    <a:pt x="690" y="84"/>
                  </a:lnTo>
                  <a:lnTo>
                    <a:pt x="682" y="113"/>
                  </a:lnTo>
                  <a:lnTo>
                    <a:pt x="682" y="150"/>
                  </a:lnTo>
                  <a:lnTo>
                    <a:pt x="657" y="184"/>
                  </a:lnTo>
                  <a:lnTo>
                    <a:pt x="608" y="214"/>
                  </a:lnTo>
                  <a:lnTo>
                    <a:pt x="574" y="264"/>
                  </a:lnTo>
                  <a:lnTo>
                    <a:pt x="556" y="381"/>
                  </a:lnTo>
                  <a:lnTo>
                    <a:pt x="512" y="460"/>
                  </a:lnTo>
                  <a:lnTo>
                    <a:pt x="512" y="477"/>
                  </a:lnTo>
                  <a:lnTo>
                    <a:pt x="530" y="481"/>
                  </a:lnTo>
                  <a:lnTo>
                    <a:pt x="574" y="465"/>
                  </a:lnTo>
                  <a:lnTo>
                    <a:pt x="593" y="481"/>
                  </a:lnTo>
                  <a:lnTo>
                    <a:pt x="605" y="586"/>
                  </a:lnTo>
                  <a:lnTo>
                    <a:pt x="638" y="627"/>
                  </a:lnTo>
                  <a:lnTo>
                    <a:pt x="690" y="657"/>
                  </a:lnTo>
                  <a:lnTo>
                    <a:pt x="741" y="666"/>
                  </a:lnTo>
                  <a:lnTo>
                    <a:pt x="797" y="644"/>
                  </a:lnTo>
                  <a:lnTo>
                    <a:pt x="827" y="648"/>
                  </a:lnTo>
                  <a:lnTo>
                    <a:pt x="868" y="678"/>
                  </a:lnTo>
                  <a:lnTo>
                    <a:pt x="901" y="724"/>
                  </a:lnTo>
                  <a:lnTo>
                    <a:pt x="934" y="765"/>
                  </a:lnTo>
                  <a:lnTo>
                    <a:pt x="975" y="787"/>
                  </a:lnTo>
                  <a:lnTo>
                    <a:pt x="1030" y="760"/>
                  </a:lnTo>
                  <a:lnTo>
                    <a:pt x="1104" y="782"/>
                  </a:lnTo>
                  <a:lnTo>
                    <a:pt x="1123" y="824"/>
                  </a:lnTo>
                  <a:lnTo>
                    <a:pt x="1119" y="870"/>
                  </a:lnTo>
                  <a:lnTo>
                    <a:pt x="1104" y="928"/>
                  </a:lnTo>
                  <a:lnTo>
                    <a:pt x="1112" y="974"/>
                  </a:lnTo>
                  <a:lnTo>
                    <a:pt x="1137" y="991"/>
                  </a:lnTo>
                  <a:lnTo>
                    <a:pt x="1164" y="1004"/>
                  </a:lnTo>
                  <a:lnTo>
                    <a:pt x="1178" y="1033"/>
                  </a:lnTo>
                  <a:lnTo>
                    <a:pt x="1145" y="1062"/>
                  </a:lnTo>
                  <a:lnTo>
                    <a:pt x="1156" y="1125"/>
                  </a:lnTo>
                  <a:lnTo>
                    <a:pt x="1189" y="1171"/>
                  </a:lnTo>
                  <a:lnTo>
                    <a:pt x="1211" y="1226"/>
                  </a:lnTo>
                  <a:lnTo>
                    <a:pt x="1224" y="1292"/>
                  </a:lnTo>
                  <a:lnTo>
                    <a:pt x="1183" y="1306"/>
                  </a:lnTo>
                  <a:lnTo>
                    <a:pt x="1171" y="1288"/>
                  </a:lnTo>
                  <a:lnTo>
                    <a:pt x="1164" y="1242"/>
                  </a:lnTo>
                  <a:lnTo>
                    <a:pt x="1156" y="1221"/>
                  </a:lnTo>
                  <a:lnTo>
                    <a:pt x="1134" y="1233"/>
                  </a:lnTo>
                  <a:lnTo>
                    <a:pt x="1127" y="1255"/>
                  </a:lnTo>
                  <a:lnTo>
                    <a:pt x="1109" y="1255"/>
                  </a:lnTo>
                  <a:lnTo>
                    <a:pt x="1090" y="1233"/>
                  </a:lnTo>
                  <a:lnTo>
                    <a:pt x="1056" y="1247"/>
                  </a:lnTo>
                  <a:lnTo>
                    <a:pt x="1045" y="1275"/>
                  </a:lnTo>
                  <a:lnTo>
                    <a:pt x="1027" y="1285"/>
                  </a:lnTo>
                  <a:lnTo>
                    <a:pt x="994" y="1267"/>
                  </a:lnTo>
                  <a:lnTo>
                    <a:pt x="956" y="1271"/>
                  </a:lnTo>
                  <a:lnTo>
                    <a:pt x="938" y="1285"/>
                  </a:lnTo>
                  <a:lnTo>
                    <a:pt x="942" y="1296"/>
                  </a:lnTo>
                  <a:lnTo>
                    <a:pt x="964" y="1301"/>
                  </a:lnTo>
                  <a:lnTo>
                    <a:pt x="994" y="1310"/>
                  </a:lnTo>
                  <a:lnTo>
                    <a:pt x="1008" y="1326"/>
                  </a:lnTo>
                  <a:lnTo>
                    <a:pt x="1004" y="1351"/>
                  </a:lnTo>
                  <a:lnTo>
                    <a:pt x="948" y="1381"/>
                  </a:lnTo>
                  <a:lnTo>
                    <a:pt x="926" y="1401"/>
                  </a:lnTo>
                  <a:lnTo>
                    <a:pt x="920" y="1434"/>
                  </a:lnTo>
                  <a:lnTo>
                    <a:pt x="926" y="1477"/>
                  </a:lnTo>
                  <a:lnTo>
                    <a:pt x="953" y="1523"/>
                  </a:lnTo>
                  <a:lnTo>
                    <a:pt x="986" y="1568"/>
                  </a:lnTo>
                  <a:lnTo>
                    <a:pt x="997" y="1607"/>
                  </a:lnTo>
                  <a:lnTo>
                    <a:pt x="994" y="1653"/>
                  </a:lnTo>
                  <a:lnTo>
                    <a:pt x="979" y="1682"/>
                  </a:lnTo>
                  <a:lnTo>
                    <a:pt x="971" y="1732"/>
                  </a:lnTo>
                  <a:lnTo>
                    <a:pt x="912" y="1727"/>
                  </a:lnTo>
                  <a:lnTo>
                    <a:pt x="882" y="1712"/>
                  </a:lnTo>
                  <a:lnTo>
                    <a:pt x="864" y="1690"/>
                  </a:lnTo>
                  <a:lnTo>
                    <a:pt x="837" y="1690"/>
                  </a:lnTo>
                  <a:lnTo>
                    <a:pt x="808" y="1694"/>
                  </a:lnTo>
                  <a:lnTo>
                    <a:pt x="793" y="1715"/>
                  </a:lnTo>
                  <a:lnTo>
                    <a:pt x="775" y="1715"/>
                  </a:lnTo>
                  <a:lnTo>
                    <a:pt x="756" y="1715"/>
                  </a:lnTo>
                  <a:lnTo>
                    <a:pt x="723" y="1702"/>
                  </a:lnTo>
                  <a:lnTo>
                    <a:pt x="682" y="1694"/>
                  </a:lnTo>
                  <a:lnTo>
                    <a:pt x="649" y="1715"/>
                  </a:lnTo>
                  <a:lnTo>
                    <a:pt x="630" y="1715"/>
                  </a:lnTo>
                  <a:lnTo>
                    <a:pt x="608" y="1694"/>
                  </a:lnTo>
                  <a:lnTo>
                    <a:pt x="586" y="1639"/>
                  </a:lnTo>
                  <a:lnTo>
                    <a:pt x="556" y="1593"/>
                  </a:lnTo>
                  <a:lnTo>
                    <a:pt x="463" y="1556"/>
                  </a:lnTo>
                  <a:lnTo>
                    <a:pt x="372" y="1488"/>
                  </a:lnTo>
                  <a:lnTo>
                    <a:pt x="298" y="1459"/>
                  </a:lnTo>
                  <a:lnTo>
                    <a:pt x="252" y="1456"/>
                  </a:lnTo>
                  <a:lnTo>
                    <a:pt x="215" y="1463"/>
                  </a:lnTo>
                  <a:lnTo>
                    <a:pt x="186" y="1459"/>
                  </a:lnTo>
                  <a:lnTo>
                    <a:pt x="175" y="1438"/>
                  </a:lnTo>
                  <a:lnTo>
                    <a:pt x="175" y="1401"/>
                  </a:lnTo>
                  <a:lnTo>
                    <a:pt x="183" y="1368"/>
                  </a:lnTo>
                  <a:lnTo>
                    <a:pt x="172" y="1363"/>
                  </a:lnTo>
                  <a:lnTo>
                    <a:pt x="119" y="1368"/>
                  </a:lnTo>
                  <a:lnTo>
                    <a:pt x="82" y="1360"/>
                  </a:lnTo>
                  <a:lnTo>
                    <a:pt x="44" y="1330"/>
                  </a:lnTo>
                  <a:lnTo>
                    <a:pt x="8" y="1296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2ff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22640" y="1846080"/>
              <a:ext cx="428760" cy="605160"/>
            </a:xfrm>
            <a:custGeom>
              <a:avLst/>
              <a:gdLst/>
              <a:ahLst/>
              <a:rect l="l" t="t" r="r" b="b"/>
              <a:pathLst>
                <a:path w="542" h="763">
                  <a:moveTo>
                    <a:pt x="12" y="560"/>
                  </a:moveTo>
                  <a:lnTo>
                    <a:pt x="44" y="512"/>
                  </a:lnTo>
                  <a:lnTo>
                    <a:pt x="68" y="489"/>
                  </a:lnTo>
                  <a:lnTo>
                    <a:pt x="85" y="464"/>
                  </a:lnTo>
                  <a:lnTo>
                    <a:pt x="90" y="444"/>
                  </a:lnTo>
                  <a:lnTo>
                    <a:pt x="82" y="423"/>
                  </a:lnTo>
                  <a:lnTo>
                    <a:pt x="68" y="423"/>
                  </a:lnTo>
                  <a:lnTo>
                    <a:pt x="49" y="441"/>
                  </a:lnTo>
                  <a:lnTo>
                    <a:pt x="38" y="448"/>
                  </a:lnTo>
                  <a:lnTo>
                    <a:pt x="22" y="444"/>
                  </a:lnTo>
                  <a:lnTo>
                    <a:pt x="16" y="436"/>
                  </a:lnTo>
                  <a:lnTo>
                    <a:pt x="8" y="427"/>
                  </a:lnTo>
                  <a:lnTo>
                    <a:pt x="0" y="403"/>
                  </a:lnTo>
                  <a:lnTo>
                    <a:pt x="0" y="382"/>
                  </a:lnTo>
                  <a:lnTo>
                    <a:pt x="4" y="361"/>
                  </a:lnTo>
                  <a:lnTo>
                    <a:pt x="16" y="293"/>
                  </a:lnTo>
                  <a:lnTo>
                    <a:pt x="33" y="222"/>
                  </a:lnTo>
                  <a:lnTo>
                    <a:pt x="63" y="134"/>
                  </a:lnTo>
                  <a:lnTo>
                    <a:pt x="74" y="89"/>
                  </a:lnTo>
                  <a:lnTo>
                    <a:pt x="85" y="59"/>
                  </a:lnTo>
                  <a:lnTo>
                    <a:pt x="96" y="46"/>
                  </a:lnTo>
                  <a:lnTo>
                    <a:pt x="123" y="21"/>
                  </a:lnTo>
                  <a:lnTo>
                    <a:pt x="148" y="0"/>
                  </a:lnTo>
                  <a:lnTo>
                    <a:pt x="156" y="21"/>
                  </a:lnTo>
                  <a:lnTo>
                    <a:pt x="192" y="59"/>
                  </a:lnTo>
                  <a:lnTo>
                    <a:pt x="230" y="84"/>
                  </a:lnTo>
                  <a:lnTo>
                    <a:pt x="267" y="92"/>
                  </a:lnTo>
                  <a:lnTo>
                    <a:pt x="315" y="89"/>
                  </a:lnTo>
                  <a:lnTo>
                    <a:pt x="331" y="97"/>
                  </a:lnTo>
                  <a:lnTo>
                    <a:pt x="323" y="126"/>
                  </a:lnTo>
                  <a:lnTo>
                    <a:pt x="320" y="163"/>
                  </a:lnTo>
                  <a:lnTo>
                    <a:pt x="334" y="185"/>
                  </a:lnTo>
                  <a:lnTo>
                    <a:pt x="363" y="188"/>
                  </a:lnTo>
                  <a:lnTo>
                    <a:pt x="400" y="185"/>
                  </a:lnTo>
                  <a:lnTo>
                    <a:pt x="446" y="188"/>
                  </a:lnTo>
                  <a:lnTo>
                    <a:pt x="515" y="213"/>
                  </a:lnTo>
                  <a:lnTo>
                    <a:pt x="507" y="247"/>
                  </a:lnTo>
                  <a:lnTo>
                    <a:pt x="530" y="285"/>
                  </a:lnTo>
                  <a:lnTo>
                    <a:pt x="542" y="327"/>
                  </a:lnTo>
                  <a:lnTo>
                    <a:pt x="538" y="357"/>
                  </a:lnTo>
                  <a:lnTo>
                    <a:pt x="523" y="389"/>
                  </a:lnTo>
                  <a:lnTo>
                    <a:pt x="493" y="414"/>
                  </a:lnTo>
                  <a:lnTo>
                    <a:pt x="474" y="431"/>
                  </a:lnTo>
                  <a:lnTo>
                    <a:pt x="463" y="464"/>
                  </a:lnTo>
                  <a:lnTo>
                    <a:pt x="441" y="486"/>
                  </a:lnTo>
                  <a:lnTo>
                    <a:pt x="363" y="503"/>
                  </a:lnTo>
                  <a:lnTo>
                    <a:pt x="289" y="535"/>
                  </a:lnTo>
                  <a:lnTo>
                    <a:pt x="271" y="549"/>
                  </a:lnTo>
                  <a:lnTo>
                    <a:pt x="257" y="578"/>
                  </a:lnTo>
                  <a:lnTo>
                    <a:pt x="248" y="644"/>
                  </a:lnTo>
                  <a:lnTo>
                    <a:pt x="230" y="708"/>
                  </a:lnTo>
                  <a:lnTo>
                    <a:pt x="205" y="741"/>
                  </a:lnTo>
                  <a:lnTo>
                    <a:pt x="167" y="763"/>
                  </a:lnTo>
                  <a:lnTo>
                    <a:pt x="145" y="758"/>
                  </a:lnTo>
                  <a:lnTo>
                    <a:pt x="133" y="728"/>
                  </a:lnTo>
                  <a:lnTo>
                    <a:pt x="118" y="711"/>
                  </a:lnTo>
                  <a:lnTo>
                    <a:pt x="96" y="704"/>
                  </a:lnTo>
                  <a:lnTo>
                    <a:pt x="74" y="716"/>
                  </a:lnTo>
                  <a:lnTo>
                    <a:pt x="60" y="708"/>
                  </a:lnTo>
                  <a:lnTo>
                    <a:pt x="57" y="683"/>
                  </a:lnTo>
                  <a:lnTo>
                    <a:pt x="63" y="633"/>
                  </a:lnTo>
                  <a:lnTo>
                    <a:pt x="49" y="587"/>
                  </a:lnTo>
                  <a:lnTo>
                    <a:pt x="22" y="560"/>
                  </a:lnTo>
                  <a:lnTo>
                    <a:pt x="12" y="56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99000" y="1122480"/>
              <a:ext cx="357120" cy="664920"/>
            </a:xfrm>
            <a:custGeom>
              <a:avLst/>
              <a:gdLst/>
              <a:ahLst/>
              <a:rect l="l" t="t" r="r" b="b"/>
              <a:pathLst>
                <a:path w="452" h="836">
                  <a:moveTo>
                    <a:pt x="112" y="0"/>
                  </a:moveTo>
                  <a:lnTo>
                    <a:pt x="174" y="3"/>
                  </a:lnTo>
                  <a:lnTo>
                    <a:pt x="192" y="7"/>
                  </a:lnTo>
                  <a:lnTo>
                    <a:pt x="219" y="16"/>
                  </a:lnTo>
                  <a:lnTo>
                    <a:pt x="230" y="28"/>
                  </a:lnTo>
                  <a:lnTo>
                    <a:pt x="274" y="96"/>
                  </a:lnTo>
                  <a:lnTo>
                    <a:pt x="292" y="117"/>
                  </a:lnTo>
                  <a:lnTo>
                    <a:pt x="314" y="141"/>
                  </a:lnTo>
                  <a:lnTo>
                    <a:pt x="326" y="167"/>
                  </a:lnTo>
                  <a:lnTo>
                    <a:pt x="337" y="197"/>
                  </a:lnTo>
                  <a:lnTo>
                    <a:pt x="356" y="226"/>
                  </a:lnTo>
                  <a:lnTo>
                    <a:pt x="362" y="234"/>
                  </a:lnTo>
                  <a:lnTo>
                    <a:pt x="375" y="246"/>
                  </a:lnTo>
                  <a:lnTo>
                    <a:pt x="397" y="263"/>
                  </a:lnTo>
                  <a:lnTo>
                    <a:pt x="385" y="271"/>
                  </a:lnTo>
                  <a:lnTo>
                    <a:pt x="370" y="338"/>
                  </a:lnTo>
                  <a:lnTo>
                    <a:pt x="362" y="364"/>
                  </a:lnTo>
                  <a:lnTo>
                    <a:pt x="345" y="385"/>
                  </a:lnTo>
                  <a:lnTo>
                    <a:pt x="329" y="397"/>
                  </a:lnTo>
                  <a:lnTo>
                    <a:pt x="311" y="400"/>
                  </a:lnTo>
                  <a:lnTo>
                    <a:pt x="301" y="422"/>
                  </a:lnTo>
                  <a:lnTo>
                    <a:pt x="311" y="448"/>
                  </a:lnTo>
                  <a:lnTo>
                    <a:pt x="319" y="477"/>
                  </a:lnTo>
                  <a:lnTo>
                    <a:pt x="319" y="519"/>
                  </a:lnTo>
                  <a:lnTo>
                    <a:pt x="348" y="564"/>
                  </a:lnTo>
                  <a:lnTo>
                    <a:pt x="392" y="603"/>
                  </a:lnTo>
                  <a:lnTo>
                    <a:pt x="416" y="640"/>
                  </a:lnTo>
                  <a:lnTo>
                    <a:pt x="422" y="690"/>
                  </a:lnTo>
                  <a:lnTo>
                    <a:pt x="452" y="711"/>
                  </a:lnTo>
                  <a:lnTo>
                    <a:pt x="388" y="752"/>
                  </a:lnTo>
                  <a:lnTo>
                    <a:pt x="337" y="816"/>
                  </a:lnTo>
                  <a:lnTo>
                    <a:pt x="307" y="836"/>
                  </a:lnTo>
                  <a:lnTo>
                    <a:pt x="244" y="836"/>
                  </a:lnTo>
                  <a:lnTo>
                    <a:pt x="189" y="820"/>
                  </a:lnTo>
                  <a:lnTo>
                    <a:pt x="170" y="790"/>
                  </a:lnTo>
                  <a:lnTo>
                    <a:pt x="153" y="715"/>
                  </a:lnTo>
                  <a:lnTo>
                    <a:pt x="137" y="676"/>
                  </a:lnTo>
                  <a:lnTo>
                    <a:pt x="115" y="656"/>
                  </a:lnTo>
                  <a:lnTo>
                    <a:pt x="118" y="628"/>
                  </a:lnTo>
                  <a:lnTo>
                    <a:pt x="133" y="585"/>
                  </a:lnTo>
                  <a:lnTo>
                    <a:pt x="140" y="535"/>
                  </a:lnTo>
                  <a:lnTo>
                    <a:pt x="126" y="485"/>
                  </a:lnTo>
                  <a:lnTo>
                    <a:pt x="123" y="439"/>
                  </a:lnTo>
                  <a:lnTo>
                    <a:pt x="104" y="410"/>
                  </a:lnTo>
                  <a:lnTo>
                    <a:pt x="74" y="410"/>
                  </a:lnTo>
                  <a:lnTo>
                    <a:pt x="41" y="389"/>
                  </a:lnTo>
                  <a:lnTo>
                    <a:pt x="22" y="325"/>
                  </a:lnTo>
                  <a:lnTo>
                    <a:pt x="25" y="281"/>
                  </a:lnTo>
                  <a:lnTo>
                    <a:pt x="19" y="246"/>
                  </a:lnTo>
                  <a:lnTo>
                    <a:pt x="0" y="226"/>
                  </a:lnTo>
                  <a:lnTo>
                    <a:pt x="19" y="204"/>
                  </a:lnTo>
                  <a:lnTo>
                    <a:pt x="74" y="201"/>
                  </a:lnTo>
                  <a:lnTo>
                    <a:pt x="93" y="179"/>
                  </a:lnTo>
                  <a:lnTo>
                    <a:pt x="38" y="162"/>
                  </a:lnTo>
                  <a:lnTo>
                    <a:pt x="25" y="126"/>
                  </a:lnTo>
                  <a:lnTo>
                    <a:pt x="33" y="100"/>
                  </a:lnTo>
                  <a:lnTo>
                    <a:pt x="60" y="87"/>
                  </a:lnTo>
                  <a:lnTo>
                    <a:pt x="88" y="78"/>
                  </a:lnTo>
                  <a:lnTo>
                    <a:pt x="104" y="63"/>
                  </a:lnTo>
                  <a:lnTo>
                    <a:pt x="107" y="16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634080" y="1298520"/>
              <a:ext cx="322200" cy="385920"/>
            </a:xfrm>
            <a:custGeom>
              <a:avLst/>
              <a:gdLst/>
              <a:ahLst/>
              <a:rect l="l" t="t" r="r" b="b"/>
              <a:pathLst>
                <a:path w="408" h="485">
                  <a:moveTo>
                    <a:pt x="96" y="37"/>
                  </a:moveTo>
                  <a:lnTo>
                    <a:pt x="137" y="45"/>
                  </a:lnTo>
                  <a:lnTo>
                    <a:pt x="194" y="24"/>
                  </a:lnTo>
                  <a:lnTo>
                    <a:pt x="215" y="24"/>
                  </a:lnTo>
                  <a:lnTo>
                    <a:pt x="271" y="16"/>
                  </a:lnTo>
                  <a:lnTo>
                    <a:pt x="329" y="0"/>
                  </a:lnTo>
                  <a:lnTo>
                    <a:pt x="408" y="0"/>
                  </a:lnTo>
                  <a:lnTo>
                    <a:pt x="396" y="0"/>
                  </a:lnTo>
                  <a:lnTo>
                    <a:pt x="378" y="24"/>
                  </a:lnTo>
                  <a:lnTo>
                    <a:pt x="352" y="84"/>
                  </a:lnTo>
                  <a:lnTo>
                    <a:pt x="345" y="103"/>
                  </a:lnTo>
                  <a:lnTo>
                    <a:pt x="345" y="125"/>
                  </a:lnTo>
                  <a:lnTo>
                    <a:pt x="345" y="146"/>
                  </a:lnTo>
                  <a:lnTo>
                    <a:pt x="356" y="171"/>
                  </a:lnTo>
                  <a:lnTo>
                    <a:pt x="378" y="217"/>
                  </a:lnTo>
                  <a:lnTo>
                    <a:pt x="392" y="255"/>
                  </a:lnTo>
                  <a:lnTo>
                    <a:pt x="389" y="292"/>
                  </a:lnTo>
                  <a:lnTo>
                    <a:pt x="370" y="329"/>
                  </a:lnTo>
                  <a:lnTo>
                    <a:pt x="329" y="392"/>
                  </a:lnTo>
                  <a:lnTo>
                    <a:pt x="323" y="376"/>
                  </a:lnTo>
                  <a:lnTo>
                    <a:pt x="304" y="381"/>
                  </a:lnTo>
                  <a:lnTo>
                    <a:pt x="285" y="381"/>
                  </a:lnTo>
                  <a:lnTo>
                    <a:pt x="281" y="413"/>
                  </a:lnTo>
                  <a:lnTo>
                    <a:pt x="260" y="427"/>
                  </a:lnTo>
                  <a:lnTo>
                    <a:pt x="241" y="401"/>
                  </a:lnTo>
                  <a:lnTo>
                    <a:pt x="215" y="401"/>
                  </a:lnTo>
                  <a:lnTo>
                    <a:pt x="197" y="443"/>
                  </a:lnTo>
                  <a:lnTo>
                    <a:pt x="181" y="472"/>
                  </a:lnTo>
                  <a:lnTo>
                    <a:pt x="156" y="485"/>
                  </a:lnTo>
                  <a:lnTo>
                    <a:pt x="126" y="464"/>
                  </a:lnTo>
                  <a:lnTo>
                    <a:pt x="120" y="413"/>
                  </a:lnTo>
                  <a:lnTo>
                    <a:pt x="96" y="376"/>
                  </a:lnTo>
                  <a:lnTo>
                    <a:pt x="52" y="342"/>
                  </a:lnTo>
                  <a:lnTo>
                    <a:pt x="23" y="292"/>
                  </a:lnTo>
                  <a:lnTo>
                    <a:pt x="23" y="255"/>
                  </a:lnTo>
                  <a:lnTo>
                    <a:pt x="11" y="221"/>
                  </a:lnTo>
                  <a:lnTo>
                    <a:pt x="0" y="200"/>
                  </a:lnTo>
                  <a:lnTo>
                    <a:pt x="11" y="178"/>
                  </a:lnTo>
                  <a:lnTo>
                    <a:pt x="33" y="171"/>
                  </a:lnTo>
                  <a:lnTo>
                    <a:pt x="49" y="163"/>
                  </a:lnTo>
                  <a:lnTo>
                    <a:pt x="66" y="137"/>
                  </a:lnTo>
                  <a:lnTo>
                    <a:pt x="71" y="112"/>
                  </a:lnTo>
                  <a:lnTo>
                    <a:pt x="89" y="45"/>
                  </a:lnTo>
                  <a:lnTo>
                    <a:pt x="96" y="37"/>
                  </a:lnTo>
                  <a:close/>
                </a:path>
              </a:pathLst>
            </a:custGeom>
            <a:solidFill>
              <a:srgbClr val="d60093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86440" y="1298520"/>
              <a:ext cx="258840" cy="378000"/>
            </a:xfrm>
            <a:custGeom>
              <a:avLst/>
              <a:gdLst/>
              <a:ahLst/>
              <a:rect l="l" t="t" r="r" b="b"/>
              <a:pathLst>
                <a:path w="328" h="475">
                  <a:moveTo>
                    <a:pt x="90" y="0"/>
                  </a:moveTo>
                  <a:lnTo>
                    <a:pt x="205" y="7"/>
                  </a:lnTo>
                  <a:lnTo>
                    <a:pt x="226" y="7"/>
                  </a:lnTo>
                  <a:lnTo>
                    <a:pt x="245" y="24"/>
                  </a:lnTo>
                  <a:lnTo>
                    <a:pt x="286" y="62"/>
                  </a:lnTo>
                  <a:lnTo>
                    <a:pt x="304" y="70"/>
                  </a:lnTo>
                  <a:lnTo>
                    <a:pt x="322" y="87"/>
                  </a:lnTo>
                  <a:lnTo>
                    <a:pt x="328" y="103"/>
                  </a:lnTo>
                  <a:lnTo>
                    <a:pt x="301" y="153"/>
                  </a:lnTo>
                  <a:lnTo>
                    <a:pt x="257" y="208"/>
                  </a:lnTo>
                  <a:lnTo>
                    <a:pt x="245" y="255"/>
                  </a:lnTo>
                  <a:lnTo>
                    <a:pt x="245" y="329"/>
                  </a:lnTo>
                  <a:lnTo>
                    <a:pt x="226" y="401"/>
                  </a:lnTo>
                  <a:lnTo>
                    <a:pt x="186" y="475"/>
                  </a:lnTo>
                  <a:lnTo>
                    <a:pt x="164" y="475"/>
                  </a:lnTo>
                  <a:lnTo>
                    <a:pt x="142" y="443"/>
                  </a:lnTo>
                  <a:lnTo>
                    <a:pt x="111" y="418"/>
                  </a:lnTo>
                  <a:lnTo>
                    <a:pt x="90" y="427"/>
                  </a:lnTo>
                  <a:lnTo>
                    <a:pt x="52" y="451"/>
                  </a:lnTo>
                  <a:lnTo>
                    <a:pt x="23" y="464"/>
                  </a:lnTo>
                  <a:lnTo>
                    <a:pt x="0" y="447"/>
                  </a:lnTo>
                  <a:lnTo>
                    <a:pt x="16" y="397"/>
                  </a:lnTo>
                  <a:lnTo>
                    <a:pt x="52" y="329"/>
                  </a:lnTo>
                  <a:lnTo>
                    <a:pt x="74" y="297"/>
                  </a:lnTo>
                  <a:lnTo>
                    <a:pt x="78" y="255"/>
                  </a:lnTo>
                  <a:lnTo>
                    <a:pt x="60" y="221"/>
                  </a:lnTo>
                  <a:lnTo>
                    <a:pt x="38" y="175"/>
                  </a:lnTo>
                  <a:lnTo>
                    <a:pt x="30" y="150"/>
                  </a:lnTo>
                  <a:lnTo>
                    <a:pt x="27" y="130"/>
                  </a:lnTo>
                  <a:lnTo>
                    <a:pt x="27" y="108"/>
                  </a:lnTo>
                  <a:lnTo>
                    <a:pt x="34" y="87"/>
                  </a:lnTo>
                  <a:lnTo>
                    <a:pt x="60" y="29"/>
                  </a:lnTo>
                  <a:lnTo>
                    <a:pt x="78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10400" y="4389480"/>
              <a:ext cx="387360" cy="371520"/>
            </a:xfrm>
            <a:custGeom>
              <a:avLst/>
              <a:gdLst/>
              <a:ahLst/>
              <a:rect l="l" t="t" r="r" b="b"/>
              <a:pathLst>
                <a:path w="489" h="468">
                  <a:moveTo>
                    <a:pt x="0" y="436"/>
                  </a:moveTo>
                  <a:lnTo>
                    <a:pt x="8" y="432"/>
                  </a:lnTo>
                  <a:lnTo>
                    <a:pt x="30" y="432"/>
                  </a:lnTo>
                  <a:lnTo>
                    <a:pt x="67" y="443"/>
                  </a:lnTo>
                  <a:lnTo>
                    <a:pt x="108" y="447"/>
                  </a:lnTo>
                  <a:lnTo>
                    <a:pt x="145" y="457"/>
                  </a:lnTo>
                  <a:lnTo>
                    <a:pt x="222" y="465"/>
                  </a:lnTo>
                  <a:lnTo>
                    <a:pt x="268" y="468"/>
                  </a:lnTo>
                  <a:lnTo>
                    <a:pt x="323" y="465"/>
                  </a:lnTo>
                  <a:lnTo>
                    <a:pt x="378" y="443"/>
                  </a:lnTo>
                  <a:lnTo>
                    <a:pt x="424" y="418"/>
                  </a:lnTo>
                  <a:lnTo>
                    <a:pt x="460" y="393"/>
                  </a:lnTo>
                  <a:lnTo>
                    <a:pt x="489" y="372"/>
                  </a:lnTo>
                  <a:lnTo>
                    <a:pt x="460" y="286"/>
                  </a:lnTo>
                  <a:lnTo>
                    <a:pt x="467" y="222"/>
                  </a:lnTo>
                  <a:lnTo>
                    <a:pt x="457" y="194"/>
                  </a:lnTo>
                  <a:lnTo>
                    <a:pt x="420" y="194"/>
                  </a:lnTo>
                  <a:lnTo>
                    <a:pt x="405" y="173"/>
                  </a:lnTo>
                  <a:lnTo>
                    <a:pt x="397" y="139"/>
                  </a:lnTo>
                  <a:lnTo>
                    <a:pt x="371" y="101"/>
                  </a:lnTo>
                  <a:lnTo>
                    <a:pt x="330" y="79"/>
                  </a:lnTo>
                  <a:lnTo>
                    <a:pt x="271" y="79"/>
                  </a:lnTo>
                  <a:lnTo>
                    <a:pt x="245" y="63"/>
                  </a:lnTo>
                  <a:lnTo>
                    <a:pt x="212" y="13"/>
                  </a:lnTo>
                  <a:lnTo>
                    <a:pt x="178" y="0"/>
                  </a:lnTo>
                  <a:lnTo>
                    <a:pt x="93" y="5"/>
                  </a:lnTo>
                  <a:lnTo>
                    <a:pt x="104" y="5"/>
                  </a:lnTo>
                  <a:lnTo>
                    <a:pt x="56" y="105"/>
                  </a:lnTo>
                  <a:lnTo>
                    <a:pt x="41" y="194"/>
                  </a:lnTo>
                  <a:lnTo>
                    <a:pt x="52" y="272"/>
                  </a:lnTo>
                  <a:lnTo>
                    <a:pt x="33" y="294"/>
                  </a:lnTo>
                  <a:lnTo>
                    <a:pt x="0" y="294"/>
                  </a:lnTo>
                  <a:lnTo>
                    <a:pt x="15" y="324"/>
                  </a:lnTo>
                  <a:lnTo>
                    <a:pt x="19" y="381"/>
                  </a:lnTo>
                  <a:lnTo>
                    <a:pt x="5" y="43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48320" y="3503520"/>
              <a:ext cx="573120" cy="650880"/>
            </a:xfrm>
            <a:custGeom>
              <a:avLst/>
              <a:gdLst/>
              <a:ahLst/>
              <a:rect l="l" t="t" r="r" b="b"/>
              <a:pathLst>
                <a:path w="722" h="820">
                  <a:moveTo>
                    <a:pt x="690" y="623"/>
                  </a:moveTo>
                  <a:lnTo>
                    <a:pt x="677" y="661"/>
                  </a:lnTo>
                  <a:lnTo>
                    <a:pt x="682" y="748"/>
                  </a:lnTo>
                  <a:lnTo>
                    <a:pt x="671" y="766"/>
                  </a:lnTo>
                  <a:lnTo>
                    <a:pt x="581" y="790"/>
                  </a:lnTo>
                  <a:lnTo>
                    <a:pt x="541" y="820"/>
                  </a:lnTo>
                  <a:lnTo>
                    <a:pt x="504" y="820"/>
                  </a:lnTo>
                  <a:lnTo>
                    <a:pt x="444" y="812"/>
                  </a:lnTo>
                  <a:lnTo>
                    <a:pt x="348" y="815"/>
                  </a:lnTo>
                  <a:lnTo>
                    <a:pt x="348" y="774"/>
                  </a:lnTo>
                  <a:lnTo>
                    <a:pt x="367" y="732"/>
                  </a:lnTo>
                  <a:lnTo>
                    <a:pt x="419" y="648"/>
                  </a:lnTo>
                  <a:lnTo>
                    <a:pt x="414" y="607"/>
                  </a:lnTo>
                  <a:lnTo>
                    <a:pt x="385" y="577"/>
                  </a:lnTo>
                  <a:lnTo>
                    <a:pt x="293" y="570"/>
                  </a:lnTo>
                  <a:lnTo>
                    <a:pt x="244" y="543"/>
                  </a:lnTo>
                  <a:lnTo>
                    <a:pt x="200" y="488"/>
                  </a:lnTo>
                  <a:lnTo>
                    <a:pt x="167" y="468"/>
                  </a:lnTo>
                  <a:lnTo>
                    <a:pt x="107" y="481"/>
                  </a:lnTo>
                  <a:lnTo>
                    <a:pt x="85" y="460"/>
                  </a:lnTo>
                  <a:lnTo>
                    <a:pt x="66" y="417"/>
                  </a:lnTo>
                  <a:lnTo>
                    <a:pt x="30" y="394"/>
                  </a:lnTo>
                  <a:lnTo>
                    <a:pt x="19" y="369"/>
                  </a:lnTo>
                  <a:lnTo>
                    <a:pt x="19" y="310"/>
                  </a:lnTo>
                  <a:lnTo>
                    <a:pt x="0" y="218"/>
                  </a:lnTo>
                  <a:lnTo>
                    <a:pt x="0" y="188"/>
                  </a:lnTo>
                  <a:lnTo>
                    <a:pt x="33" y="163"/>
                  </a:lnTo>
                  <a:lnTo>
                    <a:pt x="49" y="125"/>
                  </a:lnTo>
                  <a:lnTo>
                    <a:pt x="49" y="42"/>
                  </a:lnTo>
                  <a:lnTo>
                    <a:pt x="66" y="25"/>
                  </a:lnTo>
                  <a:lnTo>
                    <a:pt x="156" y="17"/>
                  </a:lnTo>
                  <a:lnTo>
                    <a:pt x="256" y="0"/>
                  </a:lnTo>
                  <a:lnTo>
                    <a:pt x="334" y="12"/>
                  </a:lnTo>
                  <a:lnTo>
                    <a:pt x="389" y="58"/>
                  </a:lnTo>
                  <a:lnTo>
                    <a:pt x="399" y="141"/>
                  </a:lnTo>
                  <a:lnTo>
                    <a:pt x="396" y="239"/>
                  </a:lnTo>
                  <a:lnTo>
                    <a:pt x="414" y="301"/>
                  </a:lnTo>
                  <a:lnTo>
                    <a:pt x="455" y="322"/>
                  </a:lnTo>
                  <a:lnTo>
                    <a:pt x="488" y="296"/>
                  </a:lnTo>
                  <a:lnTo>
                    <a:pt x="537" y="280"/>
                  </a:lnTo>
                  <a:lnTo>
                    <a:pt x="581" y="276"/>
                  </a:lnTo>
                  <a:lnTo>
                    <a:pt x="592" y="289"/>
                  </a:lnTo>
                  <a:lnTo>
                    <a:pt x="603" y="305"/>
                  </a:lnTo>
                  <a:lnTo>
                    <a:pt x="607" y="322"/>
                  </a:lnTo>
                  <a:lnTo>
                    <a:pt x="603" y="342"/>
                  </a:lnTo>
                  <a:lnTo>
                    <a:pt x="597" y="380"/>
                  </a:lnTo>
                  <a:lnTo>
                    <a:pt x="592" y="394"/>
                  </a:lnTo>
                  <a:lnTo>
                    <a:pt x="592" y="414"/>
                  </a:lnTo>
                  <a:lnTo>
                    <a:pt x="600" y="431"/>
                  </a:lnTo>
                  <a:lnTo>
                    <a:pt x="611" y="440"/>
                  </a:lnTo>
                  <a:lnTo>
                    <a:pt x="655" y="431"/>
                  </a:lnTo>
                  <a:lnTo>
                    <a:pt x="666" y="431"/>
                  </a:lnTo>
                  <a:lnTo>
                    <a:pt x="677" y="431"/>
                  </a:lnTo>
                  <a:lnTo>
                    <a:pt x="700" y="443"/>
                  </a:lnTo>
                  <a:lnTo>
                    <a:pt x="718" y="481"/>
                  </a:lnTo>
                  <a:lnTo>
                    <a:pt x="722" y="523"/>
                  </a:lnTo>
                  <a:lnTo>
                    <a:pt x="712" y="586"/>
                  </a:lnTo>
                  <a:lnTo>
                    <a:pt x="690" y="623"/>
                  </a:lnTo>
                  <a:close/>
                </a:path>
              </a:pathLst>
            </a:custGeom>
            <a:solidFill>
              <a:srgbClr val="ccccff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48200" y="2743200"/>
              <a:ext cx="952560" cy="1135080"/>
            </a:xfrm>
            <a:custGeom>
              <a:avLst/>
              <a:gdLst/>
              <a:ahLst/>
              <a:rect l="l" t="t" r="r" b="b"/>
              <a:pathLst>
                <a:path w="1200" h="1430">
                  <a:moveTo>
                    <a:pt x="1148" y="1012"/>
                  </a:moveTo>
                  <a:lnTo>
                    <a:pt x="1164" y="907"/>
                  </a:lnTo>
                  <a:lnTo>
                    <a:pt x="1189" y="845"/>
                  </a:lnTo>
                  <a:lnTo>
                    <a:pt x="1200" y="791"/>
                  </a:lnTo>
                  <a:lnTo>
                    <a:pt x="1178" y="761"/>
                  </a:lnTo>
                  <a:lnTo>
                    <a:pt x="1137" y="761"/>
                  </a:lnTo>
                  <a:lnTo>
                    <a:pt x="1126" y="724"/>
                  </a:lnTo>
                  <a:lnTo>
                    <a:pt x="1123" y="641"/>
                  </a:lnTo>
                  <a:lnTo>
                    <a:pt x="1109" y="619"/>
                  </a:lnTo>
                  <a:lnTo>
                    <a:pt x="1052" y="645"/>
                  </a:lnTo>
                  <a:lnTo>
                    <a:pt x="981" y="645"/>
                  </a:lnTo>
                  <a:lnTo>
                    <a:pt x="945" y="628"/>
                  </a:lnTo>
                  <a:lnTo>
                    <a:pt x="926" y="565"/>
                  </a:lnTo>
                  <a:lnTo>
                    <a:pt x="871" y="523"/>
                  </a:lnTo>
                  <a:lnTo>
                    <a:pt x="874" y="515"/>
                  </a:lnTo>
                  <a:lnTo>
                    <a:pt x="923" y="501"/>
                  </a:lnTo>
                  <a:lnTo>
                    <a:pt x="926" y="476"/>
                  </a:lnTo>
                  <a:lnTo>
                    <a:pt x="901" y="443"/>
                  </a:lnTo>
                  <a:lnTo>
                    <a:pt x="889" y="375"/>
                  </a:lnTo>
                  <a:lnTo>
                    <a:pt x="833" y="380"/>
                  </a:lnTo>
                  <a:lnTo>
                    <a:pt x="816" y="364"/>
                  </a:lnTo>
                  <a:lnTo>
                    <a:pt x="778" y="360"/>
                  </a:lnTo>
                  <a:lnTo>
                    <a:pt x="726" y="380"/>
                  </a:lnTo>
                  <a:lnTo>
                    <a:pt x="712" y="372"/>
                  </a:lnTo>
                  <a:lnTo>
                    <a:pt x="674" y="309"/>
                  </a:lnTo>
                  <a:lnTo>
                    <a:pt x="644" y="288"/>
                  </a:lnTo>
                  <a:lnTo>
                    <a:pt x="586" y="305"/>
                  </a:lnTo>
                  <a:lnTo>
                    <a:pt x="564" y="297"/>
                  </a:lnTo>
                  <a:lnTo>
                    <a:pt x="545" y="256"/>
                  </a:lnTo>
                  <a:lnTo>
                    <a:pt x="526" y="238"/>
                  </a:lnTo>
                  <a:lnTo>
                    <a:pt x="430" y="231"/>
                  </a:lnTo>
                  <a:lnTo>
                    <a:pt x="400" y="197"/>
                  </a:lnTo>
                  <a:lnTo>
                    <a:pt x="397" y="142"/>
                  </a:lnTo>
                  <a:lnTo>
                    <a:pt x="419" y="50"/>
                  </a:lnTo>
                  <a:lnTo>
                    <a:pt x="411" y="17"/>
                  </a:lnTo>
                  <a:lnTo>
                    <a:pt x="378" y="0"/>
                  </a:lnTo>
                  <a:lnTo>
                    <a:pt x="326" y="17"/>
                  </a:lnTo>
                  <a:lnTo>
                    <a:pt x="263" y="63"/>
                  </a:lnTo>
                  <a:lnTo>
                    <a:pt x="252" y="147"/>
                  </a:lnTo>
                  <a:lnTo>
                    <a:pt x="248" y="172"/>
                  </a:lnTo>
                  <a:lnTo>
                    <a:pt x="238" y="188"/>
                  </a:lnTo>
                  <a:lnTo>
                    <a:pt x="223" y="183"/>
                  </a:lnTo>
                  <a:lnTo>
                    <a:pt x="186" y="168"/>
                  </a:lnTo>
                  <a:lnTo>
                    <a:pt x="164" y="168"/>
                  </a:lnTo>
                  <a:lnTo>
                    <a:pt x="156" y="197"/>
                  </a:lnTo>
                  <a:lnTo>
                    <a:pt x="152" y="214"/>
                  </a:lnTo>
                  <a:lnTo>
                    <a:pt x="145" y="231"/>
                  </a:lnTo>
                  <a:lnTo>
                    <a:pt x="129" y="234"/>
                  </a:lnTo>
                  <a:lnTo>
                    <a:pt x="108" y="234"/>
                  </a:lnTo>
                  <a:lnTo>
                    <a:pt x="93" y="231"/>
                  </a:lnTo>
                  <a:lnTo>
                    <a:pt x="57" y="209"/>
                  </a:lnTo>
                  <a:lnTo>
                    <a:pt x="0" y="214"/>
                  </a:lnTo>
                  <a:lnTo>
                    <a:pt x="41" y="251"/>
                  </a:lnTo>
                  <a:lnTo>
                    <a:pt x="74" y="334"/>
                  </a:lnTo>
                  <a:lnTo>
                    <a:pt x="79" y="372"/>
                  </a:lnTo>
                  <a:lnTo>
                    <a:pt x="66" y="407"/>
                  </a:lnTo>
                  <a:lnTo>
                    <a:pt x="49" y="439"/>
                  </a:lnTo>
                  <a:lnTo>
                    <a:pt x="66" y="511"/>
                  </a:lnTo>
                  <a:lnTo>
                    <a:pt x="71" y="548"/>
                  </a:lnTo>
                  <a:lnTo>
                    <a:pt x="44" y="603"/>
                  </a:lnTo>
                  <a:lnTo>
                    <a:pt x="41" y="645"/>
                  </a:lnTo>
                  <a:lnTo>
                    <a:pt x="52" y="690"/>
                  </a:lnTo>
                  <a:lnTo>
                    <a:pt x="71" y="711"/>
                  </a:lnTo>
                  <a:lnTo>
                    <a:pt x="96" y="749"/>
                  </a:lnTo>
                  <a:lnTo>
                    <a:pt x="104" y="781"/>
                  </a:lnTo>
                  <a:lnTo>
                    <a:pt x="100" y="807"/>
                  </a:lnTo>
                  <a:lnTo>
                    <a:pt x="96" y="816"/>
                  </a:lnTo>
                  <a:lnTo>
                    <a:pt x="82" y="820"/>
                  </a:lnTo>
                  <a:lnTo>
                    <a:pt x="30" y="827"/>
                  </a:lnTo>
                  <a:lnTo>
                    <a:pt x="30" y="891"/>
                  </a:lnTo>
                  <a:lnTo>
                    <a:pt x="66" y="928"/>
                  </a:lnTo>
                  <a:lnTo>
                    <a:pt x="85" y="970"/>
                  </a:lnTo>
                  <a:lnTo>
                    <a:pt x="93" y="1029"/>
                  </a:lnTo>
                  <a:lnTo>
                    <a:pt x="123" y="1051"/>
                  </a:lnTo>
                  <a:lnTo>
                    <a:pt x="156" y="1078"/>
                  </a:lnTo>
                  <a:lnTo>
                    <a:pt x="164" y="1129"/>
                  </a:lnTo>
                  <a:lnTo>
                    <a:pt x="148" y="1151"/>
                  </a:lnTo>
                  <a:lnTo>
                    <a:pt x="145" y="1197"/>
                  </a:lnTo>
                  <a:lnTo>
                    <a:pt x="189" y="1259"/>
                  </a:lnTo>
                  <a:lnTo>
                    <a:pt x="215" y="1313"/>
                  </a:lnTo>
                  <a:lnTo>
                    <a:pt x="238" y="1398"/>
                  </a:lnTo>
                  <a:lnTo>
                    <a:pt x="274" y="1418"/>
                  </a:lnTo>
                  <a:lnTo>
                    <a:pt x="293" y="1398"/>
                  </a:lnTo>
                  <a:lnTo>
                    <a:pt x="307" y="1334"/>
                  </a:lnTo>
                  <a:lnTo>
                    <a:pt x="353" y="1309"/>
                  </a:lnTo>
                  <a:lnTo>
                    <a:pt x="381" y="1317"/>
                  </a:lnTo>
                  <a:lnTo>
                    <a:pt x="408" y="1348"/>
                  </a:lnTo>
                  <a:lnTo>
                    <a:pt x="433" y="1352"/>
                  </a:lnTo>
                  <a:lnTo>
                    <a:pt x="455" y="1313"/>
                  </a:lnTo>
                  <a:lnTo>
                    <a:pt x="490" y="1309"/>
                  </a:lnTo>
                  <a:lnTo>
                    <a:pt x="545" y="1372"/>
                  </a:lnTo>
                  <a:lnTo>
                    <a:pt x="556" y="1414"/>
                  </a:lnTo>
                  <a:lnTo>
                    <a:pt x="564" y="1430"/>
                  </a:lnTo>
                  <a:lnTo>
                    <a:pt x="567" y="1389"/>
                  </a:lnTo>
                  <a:lnTo>
                    <a:pt x="567" y="1327"/>
                  </a:lnTo>
                  <a:lnTo>
                    <a:pt x="578" y="1309"/>
                  </a:lnTo>
                  <a:lnTo>
                    <a:pt x="592" y="1330"/>
                  </a:lnTo>
                  <a:lnTo>
                    <a:pt x="597" y="1355"/>
                  </a:lnTo>
                  <a:lnTo>
                    <a:pt x="619" y="1352"/>
                  </a:lnTo>
                  <a:lnTo>
                    <a:pt x="622" y="1327"/>
                  </a:lnTo>
                  <a:lnTo>
                    <a:pt x="638" y="1297"/>
                  </a:lnTo>
                  <a:lnTo>
                    <a:pt x="678" y="1289"/>
                  </a:lnTo>
                  <a:lnTo>
                    <a:pt x="704" y="1305"/>
                  </a:lnTo>
                  <a:lnTo>
                    <a:pt x="722" y="1327"/>
                  </a:lnTo>
                  <a:lnTo>
                    <a:pt x="741" y="1330"/>
                  </a:lnTo>
                  <a:lnTo>
                    <a:pt x="778" y="1327"/>
                  </a:lnTo>
                  <a:lnTo>
                    <a:pt x="775" y="1263"/>
                  </a:lnTo>
                  <a:lnTo>
                    <a:pt x="756" y="1176"/>
                  </a:lnTo>
                  <a:lnTo>
                    <a:pt x="759" y="1146"/>
                  </a:lnTo>
                  <a:lnTo>
                    <a:pt x="792" y="1121"/>
                  </a:lnTo>
                  <a:lnTo>
                    <a:pt x="808" y="1083"/>
                  </a:lnTo>
                  <a:lnTo>
                    <a:pt x="805" y="1000"/>
                  </a:lnTo>
                  <a:lnTo>
                    <a:pt x="826" y="983"/>
                  </a:lnTo>
                  <a:lnTo>
                    <a:pt x="915" y="975"/>
                  </a:lnTo>
                  <a:lnTo>
                    <a:pt x="1016" y="958"/>
                  </a:lnTo>
                  <a:lnTo>
                    <a:pt x="1093" y="970"/>
                  </a:lnTo>
                  <a:lnTo>
                    <a:pt x="1148" y="1012"/>
                  </a:lnTo>
                  <a:close/>
                </a:path>
              </a:pathLst>
            </a:custGeom>
            <a:solidFill>
              <a:srgbClr val="ff990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40360" y="6238800"/>
              <a:ext cx="158760" cy="179280"/>
            </a:xfrm>
            <a:custGeom>
              <a:avLst/>
              <a:gdLst/>
              <a:ahLst/>
              <a:rect l="l" t="t" r="r" b="b"/>
              <a:pathLst>
                <a:path w="199" h="226">
                  <a:moveTo>
                    <a:pt x="0" y="0"/>
                  </a:moveTo>
                  <a:lnTo>
                    <a:pt x="22" y="17"/>
                  </a:lnTo>
                  <a:lnTo>
                    <a:pt x="41" y="60"/>
                  </a:lnTo>
                  <a:lnTo>
                    <a:pt x="74" y="101"/>
                  </a:lnTo>
                  <a:lnTo>
                    <a:pt x="114" y="133"/>
                  </a:lnTo>
                  <a:lnTo>
                    <a:pt x="173" y="187"/>
                  </a:lnTo>
                  <a:lnTo>
                    <a:pt x="199" y="226"/>
                  </a:lnTo>
                  <a:lnTo>
                    <a:pt x="166" y="226"/>
                  </a:lnTo>
                  <a:lnTo>
                    <a:pt x="114" y="221"/>
                  </a:lnTo>
                  <a:lnTo>
                    <a:pt x="68" y="208"/>
                  </a:lnTo>
                  <a:lnTo>
                    <a:pt x="33" y="192"/>
                  </a:lnTo>
                  <a:lnTo>
                    <a:pt x="3" y="187"/>
                  </a:lnTo>
                  <a:lnTo>
                    <a:pt x="8" y="128"/>
                  </a:lnTo>
                  <a:lnTo>
                    <a:pt x="8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92680" y="3767040"/>
              <a:ext cx="1387440" cy="2376720"/>
            </a:xfrm>
            <a:custGeom>
              <a:avLst/>
              <a:gdLst/>
              <a:ahLst/>
              <a:rect l="l" t="t" r="r" b="b"/>
              <a:pathLst>
                <a:path w="1747" h="2995">
                  <a:moveTo>
                    <a:pt x="1285" y="1221"/>
                  </a:moveTo>
                  <a:lnTo>
                    <a:pt x="1273" y="1221"/>
                  </a:lnTo>
                  <a:lnTo>
                    <a:pt x="1285" y="1253"/>
                  </a:lnTo>
                  <a:lnTo>
                    <a:pt x="1313" y="1296"/>
                  </a:lnTo>
                  <a:lnTo>
                    <a:pt x="1336" y="1317"/>
                  </a:lnTo>
                  <a:lnTo>
                    <a:pt x="1354" y="1337"/>
                  </a:lnTo>
                  <a:lnTo>
                    <a:pt x="1373" y="1363"/>
                  </a:lnTo>
                  <a:lnTo>
                    <a:pt x="1378" y="1383"/>
                  </a:lnTo>
                  <a:lnTo>
                    <a:pt x="1381" y="1404"/>
                  </a:lnTo>
                  <a:lnTo>
                    <a:pt x="1384" y="1446"/>
                  </a:lnTo>
                  <a:lnTo>
                    <a:pt x="1384" y="1472"/>
                  </a:lnTo>
                  <a:lnTo>
                    <a:pt x="1378" y="1493"/>
                  </a:lnTo>
                  <a:lnTo>
                    <a:pt x="1378" y="1513"/>
                  </a:lnTo>
                  <a:lnTo>
                    <a:pt x="1370" y="1539"/>
                  </a:lnTo>
                  <a:lnTo>
                    <a:pt x="1362" y="1560"/>
                  </a:lnTo>
                  <a:lnTo>
                    <a:pt x="1350" y="1584"/>
                  </a:lnTo>
                  <a:lnTo>
                    <a:pt x="1332" y="1605"/>
                  </a:lnTo>
                  <a:lnTo>
                    <a:pt x="1304" y="1627"/>
                  </a:lnTo>
                  <a:lnTo>
                    <a:pt x="1250" y="1652"/>
                  </a:lnTo>
                  <a:lnTo>
                    <a:pt x="1211" y="1677"/>
                  </a:lnTo>
                  <a:lnTo>
                    <a:pt x="1151" y="1702"/>
                  </a:lnTo>
                  <a:lnTo>
                    <a:pt x="1115" y="1723"/>
                  </a:lnTo>
                  <a:lnTo>
                    <a:pt x="1077" y="1743"/>
                  </a:lnTo>
                  <a:lnTo>
                    <a:pt x="1017" y="1753"/>
                  </a:lnTo>
                  <a:lnTo>
                    <a:pt x="981" y="1768"/>
                  </a:lnTo>
                  <a:lnTo>
                    <a:pt x="921" y="1778"/>
                  </a:lnTo>
                  <a:lnTo>
                    <a:pt x="902" y="1773"/>
                  </a:lnTo>
                  <a:lnTo>
                    <a:pt x="885" y="1756"/>
                  </a:lnTo>
                  <a:lnTo>
                    <a:pt x="866" y="1764"/>
                  </a:lnTo>
                  <a:lnTo>
                    <a:pt x="862" y="1803"/>
                  </a:lnTo>
                  <a:lnTo>
                    <a:pt x="862" y="1823"/>
                  </a:lnTo>
                  <a:lnTo>
                    <a:pt x="858" y="1844"/>
                  </a:lnTo>
                  <a:lnTo>
                    <a:pt x="847" y="1865"/>
                  </a:lnTo>
                  <a:lnTo>
                    <a:pt x="847" y="1931"/>
                  </a:lnTo>
                  <a:lnTo>
                    <a:pt x="843" y="1949"/>
                  </a:lnTo>
                  <a:lnTo>
                    <a:pt x="829" y="1952"/>
                  </a:lnTo>
                  <a:lnTo>
                    <a:pt x="792" y="1961"/>
                  </a:lnTo>
                  <a:lnTo>
                    <a:pt x="751" y="1961"/>
                  </a:lnTo>
                  <a:lnTo>
                    <a:pt x="718" y="1956"/>
                  </a:lnTo>
                  <a:lnTo>
                    <a:pt x="691" y="1945"/>
                  </a:lnTo>
                  <a:lnTo>
                    <a:pt x="654" y="1940"/>
                  </a:lnTo>
                  <a:lnTo>
                    <a:pt x="633" y="1945"/>
                  </a:lnTo>
                  <a:lnTo>
                    <a:pt x="622" y="1949"/>
                  </a:lnTo>
                  <a:lnTo>
                    <a:pt x="614" y="1965"/>
                  </a:lnTo>
                  <a:lnTo>
                    <a:pt x="636" y="2054"/>
                  </a:lnTo>
                  <a:lnTo>
                    <a:pt x="644" y="2070"/>
                  </a:lnTo>
                  <a:lnTo>
                    <a:pt x="658" y="2075"/>
                  </a:lnTo>
                  <a:lnTo>
                    <a:pt x="699" y="2075"/>
                  </a:lnTo>
                  <a:lnTo>
                    <a:pt x="713" y="2095"/>
                  </a:lnTo>
                  <a:lnTo>
                    <a:pt x="718" y="2116"/>
                  </a:lnTo>
                  <a:lnTo>
                    <a:pt x="713" y="2132"/>
                  </a:lnTo>
                  <a:lnTo>
                    <a:pt x="699" y="2141"/>
                  </a:lnTo>
                  <a:lnTo>
                    <a:pt x="677" y="2137"/>
                  </a:lnTo>
                  <a:lnTo>
                    <a:pt x="663" y="2141"/>
                  </a:lnTo>
                  <a:lnTo>
                    <a:pt x="640" y="2166"/>
                  </a:lnTo>
                  <a:lnTo>
                    <a:pt x="633" y="2208"/>
                  </a:lnTo>
                  <a:lnTo>
                    <a:pt x="622" y="2228"/>
                  </a:lnTo>
                  <a:lnTo>
                    <a:pt x="617" y="2246"/>
                  </a:lnTo>
                  <a:lnTo>
                    <a:pt x="610" y="2258"/>
                  </a:lnTo>
                  <a:lnTo>
                    <a:pt x="603" y="2274"/>
                  </a:lnTo>
                  <a:lnTo>
                    <a:pt x="603" y="2299"/>
                  </a:lnTo>
                  <a:lnTo>
                    <a:pt x="606" y="2317"/>
                  </a:lnTo>
                  <a:lnTo>
                    <a:pt x="587" y="2342"/>
                  </a:lnTo>
                  <a:lnTo>
                    <a:pt x="576" y="2349"/>
                  </a:lnTo>
                  <a:lnTo>
                    <a:pt x="566" y="2358"/>
                  </a:lnTo>
                  <a:lnTo>
                    <a:pt x="551" y="2367"/>
                  </a:lnTo>
                  <a:lnTo>
                    <a:pt x="529" y="2367"/>
                  </a:lnTo>
                  <a:lnTo>
                    <a:pt x="510" y="2367"/>
                  </a:lnTo>
                  <a:lnTo>
                    <a:pt x="469" y="2367"/>
                  </a:lnTo>
                  <a:lnTo>
                    <a:pt x="450" y="2371"/>
                  </a:lnTo>
                  <a:lnTo>
                    <a:pt x="433" y="2392"/>
                  </a:lnTo>
                  <a:lnTo>
                    <a:pt x="418" y="2429"/>
                  </a:lnTo>
                  <a:lnTo>
                    <a:pt x="418" y="2459"/>
                  </a:lnTo>
                  <a:lnTo>
                    <a:pt x="425" y="2475"/>
                  </a:lnTo>
                  <a:lnTo>
                    <a:pt x="436" y="2500"/>
                  </a:lnTo>
                  <a:lnTo>
                    <a:pt x="477" y="2522"/>
                  </a:lnTo>
                  <a:lnTo>
                    <a:pt x="496" y="2538"/>
                  </a:lnTo>
                  <a:lnTo>
                    <a:pt x="515" y="2547"/>
                  </a:lnTo>
                  <a:lnTo>
                    <a:pt x="518" y="2563"/>
                  </a:lnTo>
                  <a:lnTo>
                    <a:pt x="515" y="2605"/>
                  </a:lnTo>
                  <a:lnTo>
                    <a:pt x="502" y="2614"/>
                  </a:lnTo>
                  <a:lnTo>
                    <a:pt x="480" y="2655"/>
                  </a:lnTo>
                  <a:lnTo>
                    <a:pt x="443" y="2701"/>
                  </a:lnTo>
                  <a:lnTo>
                    <a:pt x="425" y="2723"/>
                  </a:lnTo>
                  <a:lnTo>
                    <a:pt x="406" y="2726"/>
                  </a:lnTo>
                  <a:lnTo>
                    <a:pt x="403" y="2744"/>
                  </a:lnTo>
                  <a:lnTo>
                    <a:pt x="387" y="2764"/>
                  </a:lnTo>
                  <a:lnTo>
                    <a:pt x="384" y="2789"/>
                  </a:lnTo>
                  <a:lnTo>
                    <a:pt x="365" y="2794"/>
                  </a:lnTo>
                  <a:lnTo>
                    <a:pt x="347" y="2789"/>
                  </a:lnTo>
                  <a:lnTo>
                    <a:pt x="332" y="2798"/>
                  </a:lnTo>
                  <a:lnTo>
                    <a:pt x="328" y="2814"/>
                  </a:lnTo>
                  <a:lnTo>
                    <a:pt x="310" y="2860"/>
                  </a:lnTo>
                  <a:lnTo>
                    <a:pt x="299" y="2869"/>
                  </a:lnTo>
                  <a:lnTo>
                    <a:pt x="291" y="2881"/>
                  </a:lnTo>
                  <a:lnTo>
                    <a:pt x="274" y="2906"/>
                  </a:lnTo>
                  <a:lnTo>
                    <a:pt x="274" y="2927"/>
                  </a:lnTo>
                  <a:lnTo>
                    <a:pt x="261" y="2952"/>
                  </a:lnTo>
                  <a:lnTo>
                    <a:pt x="274" y="2974"/>
                  </a:lnTo>
                  <a:lnTo>
                    <a:pt x="274" y="2995"/>
                  </a:lnTo>
                  <a:lnTo>
                    <a:pt x="155" y="2995"/>
                  </a:lnTo>
                  <a:lnTo>
                    <a:pt x="84" y="2995"/>
                  </a:lnTo>
                  <a:lnTo>
                    <a:pt x="69" y="2979"/>
                  </a:lnTo>
                  <a:lnTo>
                    <a:pt x="61" y="2894"/>
                  </a:lnTo>
                  <a:lnTo>
                    <a:pt x="50" y="2885"/>
                  </a:lnTo>
                  <a:lnTo>
                    <a:pt x="32" y="2894"/>
                  </a:lnTo>
                  <a:lnTo>
                    <a:pt x="25" y="2897"/>
                  </a:lnTo>
                  <a:lnTo>
                    <a:pt x="13" y="2894"/>
                  </a:lnTo>
                  <a:lnTo>
                    <a:pt x="3" y="2877"/>
                  </a:lnTo>
                  <a:lnTo>
                    <a:pt x="0" y="2852"/>
                  </a:lnTo>
                  <a:lnTo>
                    <a:pt x="0" y="2794"/>
                  </a:lnTo>
                  <a:lnTo>
                    <a:pt x="6" y="2768"/>
                  </a:lnTo>
                  <a:lnTo>
                    <a:pt x="22" y="2751"/>
                  </a:lnTo>
                  <a:lnTo>
                    <a:pt x="50" y="2751"/>
                  </a:lnTo>
                  <a:lnTo>
                    <a:pt x="69" y="2726"/>
                  </a:lnTo>
                  <a:lnTo>
                    <a:pt x="69" y="2693"/>
                  </a:lnTo>
                  <a:lnTo>
                    <a:pt x="50" y="2668"/>
                  </a:lnTo>
                  <a:lnTo>
                    <a:pt x="50" y="2627"/>
                  </a:lnTo>
                  <a:lnTo>
                    <a:pt x="69" y="2584"/>
                  </a:lnTo>
                  <a:lnTo>
                    <a:pt x="102" y="2563"/>
                  </a:lnTo>
                  <a:lnTo>
                    <a:pt x="132" y="2529"/>
                  </a:lnTo>
                  <a:lnTo>
                    <a:pt x="140" y="2480"/>
                  </a:lnTo>
                  <a:lnTo>
                    <a:pt x="121" y="2451"/>
                  </a:lnTo>
                  <a:lnTo>
                    <a:pt x="84" y="2443"/>
                  </a:lnTo>
                  <a:lnTo>
                    <a:pt x="69" y="2404"/>
                  </a:lnTo>
                  <a:lnTo>
                    <a:pt x="65" y="2358"/>
                  </a:lnTo>
                  <a:lnTo>
                    <a:pt x="77" y="2329"/>
                  </a:lnTo>
                  <a:lnTo>
                    <a:pt x="99" y="2317"/>
                  </a:lnTo>
                  <a:lnTo>
                    <a:pt x="132" y="2334"/>
                  </a:lnTo>
                  <a:lnTo>
                    <a:pt x="147" y="2334"/>
                  </a:lnTo>
                  <a:lnTo>
                    <a:pt x="159" y="2299"/>
                  </a:lnTo>
                  <a:lnTo>
                    <a:pt x="137" y="2282"/>
                  </a:lnTo>
                  <a:lnTo>
                    <a:pt x="99" y="2274"/>
                  </a:lnTo>
                  <a:lnTo>
                    <a:pt x="99" y="2232"/>
                  </a:lnTo>
                  <a:lnTo>
                    <a:pt x="84" y="2216"/>
                  </a:lnTo>
                  <a:lnTo>
                    <a:pt x="77" y="2178"/>
                  </a:lnTo>
                  <a:lnTo>
                    <a:pt x="80" y="2141"/>
                  </a:lnTo>
                  <a:lnTo>
                    <a:pt x="96" y="2111"/>
                  </a:lnTo>
                  <a:lnTo>
                    <a:pt x="102" y="2095"/>
                  </a:lnTo>
                  <a:lnTo>
                    <a:pt x="96" y="2075"/>
                  </a:lnTo>
                  <a:lnTo>
                    <a:pt x="77" y="2049"/>
                  </a:lnTo>
                  <a:lnTo>
                    <a:pt x="77" y="2027"/>
                  </a:lnTo>
                  <a:lnTo>
                    <a:pt x="80" y="2007"/>
                  </a:lnTo>
                  <a:lnTo>
                    <a:pt x="99" y="1990"/>
                  </a:lnTo>
                  <a:lnTo>
                    <a:pt x="114" y="1970"/>
                  </a:lnTo>
                  <a:lnTo>
                    <a:pt x="118" y="1915"/>
                  </a:lnTo>
                  <a:lnTo>
                    <a:pt x="110" y="1865"/>
                  </a:lnTo>
                  <a:lnTo>
                    <a:pt x="118" y="1815"/>
                  </a:lnTo>
                  <a:lnTo>
                    <a:pt x="129" y="1781"/>
                  </a:lnTo>
                  <a:lnTo>
                    <a:pt x="162" y="1748"/>
                  </a:lnTo>
                  <a:lnTo>
                    <a:pt x="184" y="1705"/>
                  </a:lnTo>
                  <a:lnTo>
                    <a:pt x="180" y="1655"/>
                  </a:lnTo>
                  <a:lnTo>
                    <a:pt x="155" y="1614"/>
                  </a:lnTo>
                  <a:lnTo>
                    <a:pt x="147" y="1593"/>
                  </a:lnTo>
                  <a:lnTo>
                    <a:pt x="143" y="1575"/>
                  </a:lnTo>
                  <a:lnTo>
                    <a:pt x="147" y="1550"/>
                  </a:lnTo>
                  <a:lnTo>
                    <a:pt x="159" y="1539"/>
                  </a:lnTo>
                  <a:lnTo>
                    <a:pt x="192" y="1518"/>
                  </a:lnTo>
                  <a:lnTo>
                    <a:pt x="232" y="1509"/>
                  </a:lnTo>
                  <a:lnTo>
                    <a:pt x="232" y="1379"/>
                  </a:lnTo>
                  <a:lnTo>
                    <a:pt x="255" y="1342"/>
                  </a:lnTo>
                  <a:lnTo>
                    <a:pt x="261" y="1308"/>
                  </a:lnTo>
                  <a:lnTo>
                    <a:pt x="258" y="1287"/>
                  </a:lnTo>
                  <a:lnTo>
                    <a:pt x="247" y="1263"/>
                  </a:lnTo>
                  <a:lnTo>
                    <a:pt x="217" y="1200"/>
                  </a:lnTo>
                  <a:lnTo>
                    <a:pt x="211" y="1102"/>
                  </a:lnTo>
                  <a:lnTo>
                    <a:pt x="225" y="994"/>
                  </a:lnTo>
                  <a:lnTo>
                    <a:pt x="247" y="928"/>
                  </a:lnTo>
                  <a:lnTo>
                    <a:pt x="236" y="836"/>
                  </a:lnTo>
                  <a:lnTo>
                    <a:pt x="252" y="769"/>
                  </a:lnTo>
                  <a:lnTo>
                    <a:pt x="277" y="748"/>
                  </a:lnTo>
                  <a:lnTo>
                    <a:pt x="295" y="732"/>
                  </a:lnTo>
                  <a:lnTo>
                    <a:pt x="310" y="707"/>
                  </a:lnTo>
                  <a:lnTo>
                    <a:pt x="313" y="693"/>
                  </a:lnTo>
                  <a:lnTo>
                    <a:pt x="303" y="673"/>
                  </a:lnTo>
                  <a:lnTo>
                    <a:pt x="295" y="652"/>
                  </a:lnTo>
                  <a:lnTo>
                    <a:pt x="310" y="606"/>
                  </a:lnTo>
                  <a:lnTo>
                    <a:pt x="377" y="609"/>
                  </a:lnTo>
                  <a:lnTo>
                    <a:pt x="359" y="563"/>
                  </a:lnTo>
                  <a:lnTo>
                    <a:pt x="387" y="543"/>
                  </a:lnTo>
                  <a:lnTo>
                    <a:pt x="406" y="518"/>
                  </a:lnTo>
                  <a:lnTo>
                    <a:pt x="381" y="501"/>
                  </a:lnTo>
                  <a:lnTo>
                    <a:pt x="362" y="468"/>
                  </a:lnTo>
                  <a:lnTo>
                    <a:pt x="384" y="422"/>
                  </a:lnTo>
                  <a:lnTo>
                    <a:pt x="387" y="413"/>
                  </a:lnTo>
                  <a:lnTo>
                    <a:pt x="384" y="401"/>
                  </a:lnTo>
                  <a:lnTo>
                    <a:pt x="381" y="385"/>
                  </a:lnTo>
                  <a:lnTo>
                    <a:pt x="362" y="351"/>
                  </a:lnTo>
                  <a:lnTo>
                    <a:pt x="369" y="325"/>
                  </a:lnTo>
                  <a:lnTo>
                    <a:pt x="384" y="317"/>
                  </a:lnTo>
                  <a:lnTo>
                    <a:pt x="450" y="292"/>
                  </a:lnTo>
                  <a:lnTo>
                    <a:pt x="477" y="280"/>
                  </a:lnTo>
                  <a:lnTo>
                    <a:pt x="488" y="262"/>
                  </a:lnTo>
                  <a:lnTo>
                    <a:pt x="492" y="251"/>
                  </a:lnTo>
                  <a:lnTo>
                    <a:pt x="484" y="189"/>
                  </a:lnTo>
                  <a:lnTo>
                    <a:pt x="484" y="129"/>
                  </a:lnTo>
                  <a:lnTo>
                    <a:pt x="484" y="109"/>
                  </a:lnTo>
                  <a:lnTo>
                    <a:pt x="502" y="45"/>
                  </a:lnTo>
                  <a:lnTo>
                    <a:pt x="543" y="20"/>
                  </a:lnTo>
                  <a:lnTo>
                    <a:pt x="573" y="28"/>
                  </a:lnTo>
                  <a:lnTo>
                    <a:pt x="598" y="59"/>
                  </a:lnTo>
                  <a:lnTo>
                    <a:pt x="628" y="63"/>
                  </a:lnTo>
                  <a:lnTo>
                    <a:pt x="650" y="24"/>
                  </a:lnTo>
                  <a:lnTo>
                    <a:pt x="681" y="20"/>
                  </a:lnTo>
                  <a:lnTo>
                    <a:pt x="737" y="83"/>
                  </a:lnTo>
                  <a:lnTo>
                    <a:pt x="747" y="125"/>
                  </a:lnTo>
                  <a:lnTo>
                    <a:pt x="755" y="141"/>
                  </a:lnTo>
                  <a:lnTo>
                    <a:pt x="759" y="100"/>
                  </a:lnTo>
                  <a:lnTo>
                    <a:pt x="759" y="38"/>
                  </a:lnTo>
                  <a:lnTo>
                    <a:pt x="773" y="20"/>
                  </a:lnTo>
                  <a:lnTo>
                    <a:pt x="784" y="41"/>
                  </a:lnTo>
                  <a:lnTo>
                    <a:pt x="792" y="66"/>
                  </a:lnTo>
                  <a:lnTo>
                    <a:pt x="811" y="63"/>
                  </a:lnTo>
                  <a:lnTo>
                    <a:pt x="814" y="38"/>
                  </a:lnTo>
                  <a:lnTo>
                    <a:pt x="829" y="8"/>
                  </a:lnTo>
                  <a:lnTo>
                    <a:pt x="869" y="0"/>
                  </a:lnTo>
                  <a:lnTo>
                    <a:pt x="896" y="16"/>
                  </a:lnTo>
                  <a:lnTo>
                    <a:pt x="913" y="38"/>
                  </a:lnTo>
                  <a:lnTo>
                    <a:pt x="932" y="41"/>
                  </a:lnTo>
                  <a:lnTo>
                    <a:pt x="970" y="38"/>
                  </a:lnTo>
                  <a:lnTo>
                    <a:pt x="981" y="63"/>
                  </a:lnTo>
                  <a:lnTo>
                    <a:pt x="1017" y="86"/>
                  </a:lnTo>
                  <a:lnTo>
                    <a:pt x="1036" y="129"/>
                  </a:lnTo>
                  <a:lnTo>
                    <a:pt x="1058" y="146"/>
                  </a:lnTo>
                  <a:lnTo>
                    <a:pt x="1118" y="137"/>
                  </a:lnTo>
                  <a:lnTo>
                    <a:pt x="1151" y="154"/>
                  </a:lnTo>
                  <a:lnTo>
                    <a:pt x="1195" y="212"/>
                  </a:lnTo>
                  <a:lnTo>
                    <a:pt x="1244" y="234"/>
                  </a:lnTo>
                  <a:lnTo>
                    <a:pt x="1336" y="241"/>
                  </a:lnTo>
                  <a:lnTo>
                    <a:pt x="1365" y="276"/>
                  </a:lnTo>
                  <a:lnTo>
                    <a:pt x="1370" y="317"/>
                  </a:lnTo>
                  <a:lnTo>
                    <a:pt x="1313" y="396"/>
                  </a:lnTo>
                  <a:lnTo>
                    <a:pt x="1299" y="443"/>
                  </a:lnTo>
                  <a:lnTo>
                    <a:pt x="1299" y="481"/>
                  </a:lnTo>
                  <a:lnTo>
                    <a:pt x="1395" y="476"/>
                  </a:lnTo>
                  <a:lnTo>
                    <a:pt x="1452" y="489"/>
                  </a:lnTo>
                  <a:lnTo>
                    <a:pt x="1492" y="484"/>
                  </a:lnTo>
                  <a:lnTo>
                    <a:pt x="1532" y="454"/>
                  </a:lnTo>
                  <a:lnTo>
                    <a:pt x="1622" y="435"/>
                  </a:lnTo>
                  <a:lnTo>
                    <a:pt x="1633" y="413"/>
                  </a:lnTo>
                  <a:lnTo>
                    <a:pt x="1628" y="330"/>
                  </a:lnTo>
                  <a:lnTo>
                    <a:pt x="1641" y="292"/>
                  </a:lnTo>
                  <a:lnTo>
                    <a:pt x="1728" y="308"/>
                  </a:lnTo>
                  <a:lnTo>
                    <a:pt x="1743" y="338"/>
                  </a:lnTo>
                  <a:lnTo>
                    <a:pt x="1747" y="371"/>
                  </a:lnTo>
                  <a:lnTo>
                    <a:pt x="1732" y="413"/>
                  </a:lnTo>
                  <a:lnTo>
                    <a:pt x="1732" y="451"/>
                  </a:lnTo>
                  <a:lnTo>
                    <a:pt x="1725" y="463"/>
                  </a:lnTo>
                  <a:lnTo>
                    <a:pt x="1658" y="476"/>
                  </a:lnTo>
                  <a:lnTo>
                    <a:pt x="1580" y="534"/>
                  </a:lnTo>
                  <a:lnTo>
                    <a:pt x="1474" y="648"/>
                  </a:lnTo>
                  <a:lnTo>
                    <a:pt x="1373" y="790"/>
                  </a:lnTo>
                  <a:lnTo>
                    <a:pt x="1384" y="790"/>
                  </a:lnTo>
                  <a:lnTo>
                    <a:pt x="1336" y="890"/>
                  </a:lnTo>
                  <a:lnTo>
                    <a:pt x="1321" y="979"/>
                  </a:lnTo>
                  <a:lnTo>
                    <a:pt x="1332" y="1057"/>
                  </a:lnTo>
                  <a:lnTo>
                    <a:pt x="1313" y="1079"/>
                  </a:lnTo>
                  <a:lnTo>
                    <a:pt x="1280" y="1079"/>
                  </a:lnTo>
                  <a:lnTo>
                    <a:pt x="1295" y="1109"/>
                  </a:lnTo>
                  <a:lnTo>
                    <a:pt x="1299" y="1166"/>
                  </a:lnTo>
                  <a:lnTo>
                    <a:pt x="1285" y="1221"/>
                  </a:lnTo>
                  <a:close/>
                </a:path>
              </a:pathLst>
            </a:custGeom>
            <a:solidFill>
              <a:srgbClr val="00cc99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99000" y="6110280"/>
              <a:ext cx="81000" cy="92160"/>
            </a:xfrm>
            <a:custGeom>
              <a:avLst/>
              <a:gdLst/>
              <a:ahLst/>
              <a:rect l="l" t="t" r="r" b="b"/>
              <a:pathLst>
                <a:path w="103" h="118">
                  <a:moveTo>
                    <a:pt x="11" y="118"/>
                  </a:moveTo>
                  <a:lnTo>
                    <a:pt x="0" y="105"/>
                  </a:lnTo>
                  <a:lnTo>
                    <a:pt x="0" y="75"/>
                  </a:lnTo>
                  <a:lnTo>
                    <a:pt x="18" y="58"/>
                  </a:lnTo>
                  <a:lnTo>
                    <a:pt x="33" y="32"/>
                  </a:lnTo>
                  <a:lnTo>
                    <a:pt x="43" y="10"/>
                  </a:lnTo>
                  <a:lnTo>
                    <a:pt x="87" y="0"/>
                  </a:lnTo>
                  <a:lnTo>
                    <a:pt x="103" y="10"/>
                  </a:lnTo>
                  <a:lnTo>
                    <a:pt x="103" y="32"/>
                  </a:lnTo>
                  <a:lnTo>
                    <a:pt x="77" y="59"/>
                  </a:lnTo>
                  <a:lnTo>
                    <a:pt x="59" y="71"/>
                  </a:lnTo>
                  <a:lnTo>
                    <a:pt x="47" y="96"/>
                  </a:lnTo>
                  <a:lnTo>
                    <a:pt x="37" y="113"/>
                  </a:lnTo>
                  <a:lnTo>
                    <a:pt x="11" y="118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84680" y="6099120"/>
              <a:ext cx="81000" cy="66600"/>
            </a:xfrm>
            <a:custGeom>
              <a:avLst/>
              <a:gdLst/>
              <a:ahLst/>
              <a:rect l="l" t="t" r="r" b="b"/>
              <a:pathLst>
                <a:path w="103" h="83">
                  <a:moveTo>
                    <a:pt x="0" y="83"/>
                  </a:moveTo>
                  <a:lnTo>
                    <a:pt x="5" y="75"/>
                  </a:lnTo>
                  <a:lnTo>
                    <a:pt x="26" y="62"/>
                  </a:lnTo>
                  <a:lnTo>
                    <a:pt x="51" y="21"/>
                  </a:lnTo>
                  <a:lnTo>
                    <a:pt x="70" y="7"/>
                  </a:lnTo>
                  <a:lnTo>
                    <a:pt x="88" y="0"/>
                  </a:lnTo>
                  <a:lnTo>
                    <a:pt x="103" y="12"/>
                  </a:lnTo>
                  <a:lnTo>
                    <a:pt x="103" y="42"/>
                  </a:lnTo>
                  <a:lnTo>
                    <a:pt x="88" y="62"/>
                  </a:lnTo>
                  <a:lnTo>
                    <a:pt x="51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86400" y="1365120"/>
              <a:ext cx="3093840" cy="3319560"/>
            </a:xfrm>
            <a:custGeom>
              <a:avLst/>
              <a:gdLst/>
              <a:ahLst/>
              <a:rect l="l" t="t" r="r" b="b"/>
              <a:pathLst>
                <a:path w="3896" h="4181">
                  <a:moveTo>
                    <a:pt x="866" y="1747"/>
                  </a:moveTo>
                  <a:lnTo>
                    <a:pt x="833" y="1735"/>
                  </a:lnTo>
                  <a:lnTo>
                    <a:pt x="781" y="1752"/>
                  </a:lnTo>
                  <a:lnTo>
                    <a:pt x="718" y="1798"/>
                  </a:lnTo>
                  <a:lnTo>
                    <a:pt x="707" y="1882"/>
                  </a:lnTo>
                  <a:lnTo>
                    <a:pt x="703" y="1903"/>
                  </a:lnTo>
                  <a:lnTo>
                    <a:pt x="693" y="1923"/>
                  </a:lnTo>
                  <a:lnTo>
                    <a:pt x="678" y="1918"/>
                  </a:lnTo>
                  <a:lnTo>
                    <a:pt x="641" y="1903"/>
                  </a:lnTo>
                  <a:lnTo>
                    <a:pt x="619" y="1903"/>
                  </a:lnTo>
                  <a:lnTo>
                    <a:pt x="611" y="1932"/>
                  </a:lnTo>
                  <a:lnTo>
                    <a:pt x="607" y="1949"/>
                  </a:lnTo>
                  <a:lnTo>
                    <a:pt x="600" y="1966"/>
                  </a:lnTo>
                  <a:lnTo>
                    <a:pt x="584" y="1969"/>
                  </a:lnTo>
                  <a:lnTo>
                    <a:pt x="563" y="1969"/>
                  </a:lnTo>
                  <a:lnTo>
                    <a:pt x="551" y="1966"/>
                  </a:lnTo>
                  <a:lnTo>
                    <a:pt x="512" y="1944"/>
                  </a:lnTo>
                  <a:lnTo>
                    <a:pt x="455" y="1949"/>
                  </a:lnTo>
                  <a:lnTo>
                    <a:pt x="415" y="1957"/>
                  </a:lnTo>
                  <a:lnTo>
                    <a:pt x="381" y="1969"/>
                  </a:lnTo>
                  <a:lnTo>
                    <a:pt x="348" y="1944"/>
                  </a:lnTo>
                  <a:lnTo>
                    <a:pt x="329" y="1889"/>
                  </a:lnTo>
                  <a:lnTo>
                    <a:pt x="329" y="1844"/>
                  </a:lnTo>
                  <a:lnTo>
                    <a:pt x="315" y="1836"/>
                  </a:lnTo>
                  <a:lnTo>
                    <a:pt x="292" y="1836"/>
                  </a:lnTo>
                  <a:lnTo>
                    <a:pt x="260" y="1882"/>
                  </a:lnTo>
                  <a:lnTo>
                    <a:pt x="208" y="1877"/>
                  </a:lnTo>
                  <a:lnTo>
                    <a:pt x="170" y="1841"/>
                  </a:lnTo>
                  <a:lnTo>
                    <a:pt x="151" y="1790"/>
                  </a:lnTo>
                  <a:lnTo>
                    <a:pt x="110" y="1781"/>
                  </a:lnTo>
                  <a:lnTo>
                    <a:pt x="85" y="1777"/>
                  </a:lnTo>
                  <a:lnTo>
                    <a:pt x="74" y="1747"/>
                  </a:lnTo>
                  <a:lnTo>
                    <a:pt x="96" y="1706"/>
                  </a:lnTo>
                  <a:lnTo>
                    <a:pt x="85" y="1697"/>
                  </a:lnTo>
                  <a:lnTo>
                    <a:pt x="41" y="1685"/>
                  </a:lnTo>
                  <a:lnTo>
                    <a:pt x="14" y="1656"/>
                  </a:lnTo>
                  <a:lnTo>
                    <a:pt x="0" y="1605"/>
                  </a:lnTo>
                  <a:lnTo>
                    <a:pt x="6" y="1547"/>
                  </a:lnTo>
                  <a:lnTo>
                    <a:pt x="25" y="1514"/>
                  </a:lnTo>
                  <a:lnTo>
                    <a:pt x="71" y="1505"/>
                  </a:lnTo>
                  <a:lnTo>
                    <a:pt x="99" y="1492"/>
                  </a:lnTo>
                  <a:lnTo>
                    <a:pt x="107" y="1480"/>
                  </a:lnTo>
                  <a:lnTo>
                    <a:pt x="88" y="1438"/>
                  </a:lnTo>
                  <a:lnTo>
                    <a:pt x="85" y="1375"/>
                  </a:lnTo>
                  <a:lnTo>
                    <a:pt x="99" y="1329"/>
                  </a:lnTo>
                  <a:lnTo>
                    <a:pt x="144" y="1309"/>
                  </a:lnTo>
                  <a:lnTo>
                    <a:pt x="173" y="1279"/>
                  </a:lnTo>
                  <a:lnTo>
                    <a:pt x="211" y="1254"/>
                  </a:lnTo>
                  <a:lnTo>
                    <a:pt x="255" y="1245"/>
                  </a:lnTo>
                  <a:lnTo>
                    <a:pt x="340" y="1245"/>
                  </a:lnTo>
                  <a:lnTo>
                    <a:pt x="356" y="1245"/>
                  </a:lnTo>
                  <a:lnTo>
                    <a:pt x="370" y="1233"/>
                  </a:lnTo>
                  <a:lnTo>
                    <a:pt x="392" y="1199"/>
                  </a:lnTo>
                  <a:lnTo>
                    <a:pt x="407" y="1124"/>
                  </a:lnTo>
                  <a:lnTo>
                    <a:pt x="407" y="1061"/>
                  </a:lnTo>
                  <a:lnTo>
                    <a:pt x="415" y="1012"/>
                  </a:lnTo>
                  <a:lnTo>
                    <a:pt x="430" y="982"/>
                  </a:lnTo>
                  <a:lnTo>
                    <a:pt x="433" y="937"/>
                  </a:lnTo>
                  <a:lnTo>
                    <a:pt x="422" y="898"/>
                  </a:lnTo>
                  <a:lnTo>
                    <a:pt x="389" y="857"/>
                  </a:lnTo>
                  <a:lnTo>
                    <a:pt x="362" y="807"/>
                  </a:lnTo>
                  <a:lnTo>
                    <a:pt x="356" y="765"/>
                  </a:lnTo>
                  <a:lnTo>
                    <a:pt x="362" y="731"/>
                  </a:lnTo>
                  <a:lnTo>
                    <a:pt x="384" y="710"/>
                  </a:lnTo>
                  <a:lnTo>
                    <a:pt x="440" y="681"/>
                  </a:lnTo>
                  <a:lnTo>
                    <a:pt x="444" y="656"/>
                  </a:lnTo>
                  <a:lnTo>
                    <a:pt x="430" y="640"/>
                  </a:lnTo>
                  <a:lnTo>
                    <a:pt x="400" y="635"/>
                  </a:lnTo>
                  <a:lnTo>
                    <a:pt x="378" y="626"/>
                  </a:lnTo>
                  <a:lnTo>
                    <a:pt x="374" y="614"/>
                  </a:lnTo>
                  <a:lnTo>
                    <a:pt x="392" y="601"/>
                  </a:lnTo>
                  <a:lnTo>
                    <a:pt x="430" y="597"/>
                  </a:lnTo>
                  <a:lnTo>
                    <a:pt x="463" y="614"/>
                  </a:lnTo>
                  <a:lnTo>
                    <a:pt x="481" y="605"/>
                  </a:lnTo>
                  <a:lnTo>
                    <a:pt x="492" y="576"/>
                  </a:lnTo>
                  <a:lnTo>
                    <a:pt x="526" y="567"/>
                  </a:lnTo>
                  <a:lnTo>
                    <a:pt x="545" y="585"/>
                  </a:lnTo>
                  <a:lnTo>
                    <a:pt x="563" y="585"/>
                  </a:lnTo>
                  <a:lnTo>
                    <a:pt x="570" y="564"/>
                  </a:lnTo>
                  <a:lnTo>
                    <a:pt x="592" y="551"/>
                  </a:lnTo>
                  <a:lnTo>
                    <a:pt x="600" y="572"/>
                  </a:lnTo>
                  <a:lnTo>
                    <a:pt x="607" y="619"/>
                  </a:lnTo>
                  <a:lnTo>
                    <a:pt x="619" y="635"/>
                  </a:lnTo>
                  <a:lnTo>
                    <a:pt x="660" y="622"/>
                  </a:lnTo>
                  <a:lnTo>
                    <a:pt x="666" y="669"/>
                  </a:lnTo>
                  <a:lnTo>
                    <a:pt x="693" y="689"/>
                  </a:lnTo>
                  <a:lnTo>
                    <a:pt x="726" y="685"/>
                  </a:lnTo>
                  <a:lnTo>
                    <a:pt x="756" y="664"/>
                  </a:lnTo>
                  <a:lnTo>
                    <a:pt x="792" y="647"/>
                  </a:lnTo>
                  <a:lnTo>
                    <a:pt x="836" y="640"/>
                  </a:lnTo>
                  <a:lnTo>
                    <a:pt x="858" y="619"/>
                  </a:lnTo>
                  <a:lnTo>
                    <a:pt x="885" y="572"/>
                  </a:lnTo>
                  <a:lnTo>
                    <a:pt x="904" y="539"/>
                  </a:lnTo>
                  <a:lnTo>
                    <a:pt x="923" y="518"/>
                  </a:lnTo>
                  <a:lnTo>
                    <a:pt x="978" y="496"/>
                  </a:lnTo>
                  <a:lnTo>
                    <a:pt x="992" y="455"/>
                  </a:lnTo>
                  <a:lnTo>
                    <a:pt x="984" y="426"/>
                  </a:lnTo>
                  <a:lnTo>
                    <a:pt x="959" y="405"/>
                  </a:lnTo>
                  <a:lnTo>
                    <a:pt x="926" y="396"/>
                  </a:lnTo>
                  <a:lnTo>
                    <a:pt x="896" y="370"/>
                  </a:lnTo>
                  <a:lnTo>
                    <a:pt x="893" y="334"/>
                  </a:lnTo>
                  <a:lnTo>
                    <a:pt x="893" y="317"/>
                  </a:lnTo>
                  <a:lnTo>
                    <a:pt x="956" y="338"/>
                  </a:lnTo>
                  <a:lnTo>
                    <a:pt x="1029" y="338"/>
                  </a:lnTo>
                  <a:lnTo>
                    <a:pt x="1103" y="322"/>
                  </a:lnTo>
                  <a:lnTo>
                    <a:pt x="1140" y="304"/>
                  </a:lnTo>
                  <a:lnTo>
                    <a:pt x="1159" y="279"/>
                  </a:lnTo>
                  <a:lnTo>
                    <a:pt x="1170" y="224"/>
                  </a:lnTo>
                  <a:lnTo>
                    <a:pt x="1196" y="199"/>
                  </a:lnTo>
                  <a:lnTo>
                    <a:pt x="1214" y="179"/>
                  </a:lnTo>
                  <a:lnTo>
                    <a:pt x="1214" y="142"/>
                  </a:lnTo>
                  <a:lnTo>
                    <a:pt x="1200" y="116"/>
                  </a:lnTo>
                  <a:lnTo>
                    <a:pt x="1226" y="99"/>
                  </a:lnTo>
                  <a:lnTo>
                    <a:pt x="1252" y="99"/>
                  </a:lnTo>
                  <a:lnTo>
                    <a:pt x="1271" y="128"/>
                  </a:lnTo>
                  <a:lnTo>
                    <a:pt x="1274" y="176"/>
                  </a:lnTo>
                  <a:lnTo>
                    <a:pt x="1288" y="229"/>
                  </a:lnTo>
                  <a:lnTo>
                    <a:pt x="1285" y="275"/>
                  </a:lnTo>
                  <a:lnTo>
                    <a:pt x="1266" y="317"/>
                  </a:lnTo>
                  <a:lnTo>
                    <a:pt x="1263" y="347"/>
                  </a:lnTo>
                  <a:lnTo>
                    <a:pt x="1288" y="367"/>
                  </a:lnTo>
                  <a:lnTo>
                    <a:pt x="1301" y="409"/>
                  </a:lnTo>
                  <a:lnTo>
                    <a:pt x="1318" y="484"/>
                  </a:lnTo>
                  <a:lnTo>
                    <a:pt x="1337" y="510"/>
                  </a:lnTo>
                  <a:lnTo>
                    <a:pt x="1392" y="526"/>
                  </a:lnTo>
                  <a:lnTo>
                    <a:pt x="1455" y="526"/>
                  </a:lnTo>
                  <a:lnTo>
                    <a:pt x="1485" y="505"/>
                  </a:lnTo>
                  <a:lnTo>
                    <a:pt x="1536" y="443"/>
                  </a:lnTo>
                  <a:lnTo>
                    <a:pt x="1600" y="401"/>
                  </a:lnTo>
                  <a:lnTo>
                    <a:pt x="1625" y="388"/>
                  </a:lnTo>
                  <a:lnTo>
                    <a:pt x="1641" y="359"/>
                  </a:lnTo>
                  <a:lnTo>
                    <a:pt x="1659" y="317"/>
                  </a:lnTo>
                  <a:lnTo>
                    <a:pt x="1685" y="317"/>
                  </a:lnTo>
                  <a:lnTo>
                    <a:pt x="1704" y="343"/>
                  </a:lnTo>
                  <a:lnTo>
                    <a:pt x="1725" y="329"/>
                  </a:lnTo>
                  <a:lnTo>
                    <a:pt x="1729" y="297"/>
                  </a:lnTo>
                  <a:lnTo>
                    <a:pt x="1748" y="297"/>
                  </a:lnTo>
                  <a:lnTo>
                    <a:pt x="1767" y="292"/>
                  </a:lnTo>
                  <a:lnTo>
                    <a:pt x="1778" y="308"/>
                  </a:lnTo>
                  <a:lnTo>
                    <a:pt x="1762" y="363"/>
                  </a:lnTo>
                  <a:lnTo>
                    <a:pt x="1785" y="375"/>
                  </a:lnTo>
                  <a:lnTo>
                    <a:pt x="1814" y="367"/>
                  </a:lnTo>
                  <a:lnTo>
                    <a:pt x="1852" y="338"/>
                  </a:lnTo>
                  <a:lnTo>
                    <a:pt x="1873" y="334"/>
                  </a:lnTo>
                  <a:lnTo>
                    <a:pt x="1904" y="354"/>
                  </a:lnTo>
                  <a:lnTo>
                    <a:pt x="1926" y="388"/>
                  </a:lnTo>
                  <a:lnTo>
                    <a:pt x="1948" y="388"/>
                  </a:lnTo>
                  <a:lnTo>
                    <a:pt x="1988" y="317"/>
                  </a:lnTo>
                  <a:lnTo>
                    <a:pt x="2007" y="245"/>
                  </a:lnTo>
                  <a:lnTo>
                    <a:pt x="2007" y="171"/>
                  </a:lnTo>
                  <a:lnTo>
                    <a:pt x="2019" y="124"/>
                  </a:lnTo>
                  <a:lnTo>
                    <a:pt x="2063" y="69"/>
                  </a:lnTo>
                  <a:lnTo>
                    <a:pt x="2090" y="16"/>
                  </a:lnTo>
                  <a:lnTo>
                    <a:pt x="2084" y="0"/>
                  </a:lnTo>
                  <a:lnTo>
                    <a:pt x="2112" y="7"/>
                  </a:lnTo>
                  <a:lnTo>
                    <a:pt x="2126" y="24"/>
                  </a:lnTo>
                  <a:lnTo>
                    <a:pt x="2148" y="46"/>
                  </a:lnTo>
                  <a:lnTo>
                    <a:pt x="2167" y="66"/>
                  </a:lnTo>
                  <a:lnTo>
                    <a:pt x="2192" y="133"/>
                  </a:lnTo>
                  <a:lnTo>
                    <a:pt x="2208" y="154"/>
                  </a:lnTo>
                  <a:lnTo>
                    <a:pt x="2248" y="220"/>
                  </a:lnTo>
                  <a:lnTo>
                    <a:pt x="2266" y="262"/>
                  </a:lnTo>
                  <a:lnTo>
                    <a:pt x="2273" y="283"/>
                  </a:lnTo>
                  <a:lnTo>
                    <a:pt x="2279" y="297"/>
                  </a:lnTo>
                  <a:lnTo>
                    <a:pt x="2318" y="317"/>
                  </a:lnTo>
                  <a:lnTo>
                    <a:pt x="2326" y="354"/>
                  </a:lnTo>
                  <a:lnTo>
                    <a:pt x="2326" y="384"/>
                  </a:lnTo>
                  <a:lnTo>
                    <a:pt x="2318" y="446"/>
                  </a:lnTo>
                  <a:lnTo>
                    <a:pt x="2285" y="493"/>
                  </a:lnTo>
                  <a:lnTo>
                    <a:pt x="2260" y="543"/>
                  </a:lnTo>
                  <a:lnTo>
                    <a:pt x="2248" y="589"/>
                  </a:lnTo>
                  <a:lnTo>
                    <a:pt x="2255" y="614"/>
                  </a:lnTo>
                  <a:lnTo>
                    <a:pt x="2285" y="614"/>
                  </a:lnTo>
                  <a:lnTo>
                    <a:pt x="2307" y="605"/>
                  </a:lnTo>
                  <a:lnTo>
                    <a:pt x="2318" y="572"/>
                  </a:lnTo>
                  <a:lnTo>
                    <a:pt x="2337" y="543"/>
                  </a:lnTo>
                  <a:lnTo>
                    <a:pt x="2370" y="535"/>
                  </a:lnTo>
                  <a:lnTo>
                    <a:pt x="2407" y="530"/>
                  </a:lnTo>
                  <a:lnTo>
                    <a:pt x="2441" y="526"/>
                  </a:lnTo>
                  <a:lnTo>
                    <a:pt x="2477" y="518"/>
                  </a:lnTo>
                  <a:lnTo>
                    <a:pt x="2507" y="526"/>
                  </a:lnTo>
                  <a:lnTo>
                    <a:pt x="2518" y="546"/>
                  </a:lnTo>
                  <a:lnTo>
                    <a:pt x="2511" y="572"/>
                  </a:lnTo>
                  <a:lnTo>
                    <a:pt x="2523" y="594"/>
                  </a:lnTo>
                  <a:lnTo>
                    <a:pt x="2533" y="597"/>
                  </a:lnTo>
                  <a:lnTo>
                    <a:pt x="2548" y="594"/>
                  </a:lnTo>
                  <a:lnTo>
                    <a:pt x="2567" y="555"/>
                  </a:lnTo>
                  <a:lnTo>
                    <a:pt x="2586" y="539"/>
                  </a:lnTo>
                  <a:lnTo>
                    <a:pt x="2614" y="535"/>
                  </a:lnTo>
                  <a:lnTo>
                    <a:pt x="2682" y="539"/>
                  </a:lnTo>
                  <a:lnTo>
                    <a:pt x="2748" y="543"/>
                  </a:lnTo>
                  <a:lnTo>
                    <a:pt x="2811" y="543"/>
                  </a:lnTo>
                  <a:lnTo>
                    <a:pt x="2874" y="555"/>
                  </a:lnTo>
                  <a:lnTo>
                    <a:pt x="2911" y="564"/>
                  </a:lnTo>
                  <a:lnTo>
                    <a:pt x="2926" y="589"/>
                  </a:lnTo>
                  <a:lnTo>
                    <a:pt x="2926" y="619"/>
                  </a:lnTo>
                  <a:lnTo>
                    <a:pt x="2933" y="635"/>
                  </a:lnTo>
                  <a:lnTo>
                    <a:pt x="2956" y="640"/>
                  </a:lnTo>
                  <a:lnTo>
                    <a:pt x="2985" y="630"/>
                  </a:lnTo>
                  <a:lnTo>
                    <a:pt x="3003" y="614"/>
                  </a:lnTo>
                  <a:lnTo>
                    <a:pt x="3033" y="605"/>
                  </a:lnTo>
                  <a:lnTo>
                    <a:pt x="3085" y="622"/>
                  </a:lnTo>
                  <a:lnTo>
                    <a:pt x="3148" y="626"/>
                  </a:lnTo>
                  <a:lnTo>
                    <a:pt x="3227" y="626"/>
                  </a:lnTo>
                  <a:lnTo>
                    <a:pt x="3303" y="619"/>
                  </a:lnTo>
                  <a:lnTo>
                    <a:pt x="3363" y="619"/>
                  </a:lnTo>
                  <a:lnTo>
                    <a:pt x="3400" y="614"/>
                  </a:lnTo>
                  <a:lnTo>
                    <a:pt x="3418" y="605"/>
                  </a:lnTo>
                  <a:lnTo>
                    <a:pt x="3441" y="605"/>
                  </a:lnTo>
                  <a:lnTo>
                    <a:pt x="3459" y="605"/>
                  </a:lnTo>
                  <a:lnTo>
                    <a:pt x="3478" y="614"/>
                  </a:lnTo>
                  <a:lnTo>
                    <a:pt x="3619" y="739"/>
                  </a:lnTo>
                  <a:lnTo>
                    <a:pt x="3638" y="752"/>
                  </a:lnTo>
                  <a:lnTo>
                    <a:pt x="3660" y="760"/>
                  </a:lnTo>
                  <a:lnTo>
                    <a:pt x="3678" y="756"/>
                  </a:lnTo>
                  <a:lnTo>
                    <a:pt x="3715" y="756"/>
                  </a:lnTo>
                  <a:lnTo>
                    <a:pt x="3833" y="748"/>
                  </a:lnTo>
                  <a:lnTo>
                    <a:pt x="3848" y="752"/>
                  </a:lnTo>
                  <a:lnTo>
                    <a:pt x="3863" y="756"/>
                  </a:lnTo>
                  <a:lnTo>
                    <a:pt x="3874" y="776"/>
                  </a:lnTo>
                  <a:lnTo>
                    <a:pt x="3878" y="793"/>
                  </a:lnTo>
                  <a:lnTo>
                    <a:pt x="3885" y="811"/>
                  </a:lnTo>
                  <a:lnTo>
                    <a:pt x="3889" y="832"/>
                  </a:lnTo>
                  <a:lnTo>
                    <a:pt x="3892" y="840"/>
                  </a:lnTo>
                  <a:lnTo>
                    <a:pt x="3892" y="857"/>
                  </a:lnTo>
                  <a:lnTo>
                    <a:pt x="3896" y="882"/>
                  </a:lnTo>
                  <a:lnTo>
                    <a:pt x="3896" y="902"/>
                  </a:lnTo>
                  <a:lnTo>
                    <a:pt x="3896" y="923"/>
                  </a:lnTo>
                  <a:lnTo>
                    <a:pt x="3896" y="948"/>
                  </a:lnTo>
                  <a:lnTo>
                    <a:pt x="3896" y="991"/>
                  </a:lnTo>
                  <a:lnTo>
                    <a:pt x="3889" y="1036"/>
                  </a:lnTo>
                  <a:lnTo>
                    <a:pt x="3878" y="1082"/>
                  </a:lnTo>
                  <a:lnTo>
                    <a:pt x="3863" y="1124"/>
                  </a:lnTo>
                  <a:lnTo>
                    <a:pt x="3844" y="1170"/>
                  </a:lnTo>
                  <a:lnTo>
                    <a:pt x="3827" y="1217"/>
                  </a:lnTo>
                  <a:lnTo>
                    <a:pt x="3818" y="1238"/>
                  </a:lnTo>
                  <a:lnTo>
                    <a:pt x="3792" y="1284"/>
                  </a:lnTo>
                  <a:lnTo>
                    <a:pt x="3781" y="1309"/>
                  </a:lnTo>
                  <a:lnTo>
                    <a:pt x="3734" y="1375"/>
                  </a:lnTo>
                  <a:lnTo>
                    <a:pt x="3704" y="1418"/>
                  </a:lnTo>
                  <a:lnTo>
                    <a:pt x="3678" y="1463"/>
                  </a:lnTo>
                  <a:lnTo>
                    <a:pt x="3641" y="1530"/>
                  </a:lnTo>
                  <a:lnTo>
                    <a:pt x="3622" y="1576"/>
                  </a:lnTo>
                  <a:lnTo>
                    <a:pt x="3605" y="1622"/>
                  </a:lnTo>
                  <a:lnTo>
                    <a:pt x="3585" y="1644"/>
                  </a:lnTo>
                  <a:lnTo>
                    <a:pt x="3567" y="1668"/>
                  </a:lnTo>
                  <a:lnTo>
                    <a:pt x="3548" y="1668"/>
                  </a:lnTo>
                  <a:lnTo>
                    <a:pt x="3533" y="1690"/>
                  </a:lnTo>
                  <a:lnTo>
                    <a:pt x="3529" y="1711"/>
                  </a:lnTo>
                  <a:lnTo>
                    <a:pt x="3526" y="1731"/>
                  </a:lnTo>
                  <a:lnTo>
                    <a:pt x="3514" y="1743"/>
                  </a:lnTo>
                  <a:lnTo>
                    <a:pt x="3511" y="1756"/>
                  </a:lnTo>
                  <a:lnTo>
                    <a:pt x="3511" y="1777"/>
                  </a:lnTo>
                  <a:lnTo>
                    <a:pt x="3500" y="1790"/>
                  </a:lnTo>
                  <a:lnTo>
                    <a:pt x="3511" y="1864"/>
                  </a:lnTo>
                  <a:lnTo>
                    <a:pt x="3514" y="1936"/>
                  </a:lnTo>
                  <a:lnTo>
                    <a:pt x="3518" y="1998"/>
                  </a:lnTo>
                  <a:lnTo>
                    <a:pt x="3514" y="2062"/>
                  </a:lnTo>
                  <a:lnTo>
                    <a:pt x="3504" y="2087"/>
                  </a:lnTo>
                  <a:lnTo>
                    <a:pt x="3504" y="2110"/>
                  </a:lnTo>
                  <a:lnTo>
                    <a:pt x="3514" y="2153"/>
                  </a:lnTo>
                  <a:lnTo>
                    <a:pt x="3504" y="2199"/>
                  </a:lnTo>
                  <a:lnTo>
                    <a:pt x="3468" y="2246"/>
                  </a:lnTo>
                  <a:lnTo>
                    <a:pt x="3452" y="2270"/>
                  </a:lnTo>
                  <a:lnTo>
                    <a:pt x="3449" y="2309"/>
                  </a:lnTo>
                  <a:lnTo>
                    <a:pt x="3449" y="2350"/>
                  </a:lnTo>
                  <a:lnTo>
                    <a:pt x="3437" y="2376"/>
                  </a:lnTo>
                  <a:lnTo>
                    <a:pt x="3433" y="2421"/>
                  </a:lnTo>
                  <a:lnTo>
                    <a:pt x="3418" y="2462"/>
                  </a:lnTo>
                  <a:lnTo>
                    <a:pt x="3415" y="2489"/>
                  </a:lnTo>
                  <a:lnTo>
                    <a:pt x="3394" y="2526"/>
                  </a:lnTo>
                  <a:lnTo>
                    <a:pt x="3363" y="2559"/>
                  </a:lnTo>
                  <a:lnTo>
                    <a:pt x="3340" y="2601"/>
                  </a:lnTo>
                  <a:lnTo>
                    <a:pt x="3322" y="2646"/>
                  </a:lnTo>
                  <a:lnTo>
                    <a:pt x="3285" y="2713"/>
                  </a:lnTo>
                  <a:lnTo>
                    <a:pt x="3266" y="2759"/>
                  </a:lnTo>
                  <a:lnTo>
                    <a:pt x="3248" y="2781"/>
                  </a:lnTo>
                  <a:lnTo>
                    <a:pt x="3230" y="2802"/>
                  </a:lnTo>
                  <a:lnTo>
                    <a:pt x="3211" y="2827"/>
                  </a:lnTo>
                  <a:lnTo>
                    <a:pt x="3155" y="2873"/>
                  </a:lnTo>
                  <a:lnTo>
                    <a:pt x="3131" y="2881"/>
                  </a:lnTo>
                  <a:lnTo>
                    <a:pt x="3126" y="2881"/>
                  </a:lnTo>
                  <a:lnTo>
                    <a:pt x="3090" y="2881"/>
                  </a:lnTo>
                  <a:lnTo>
                    <a:pt x="3071" y="2881"/>
                  </a:lnTo>
                  <a:lnTo>
                    <a:pt x="3040" y="2889"/>
                  </a:lnTo>
                  <a:lnTo>
                    <a:pt x="3030" y="2906"/>
                  </a:lnTo>
                  <a:lnTo>
                    <a:pt x="2992" y="2889"/>
                  </a:lnTo>
                  <a:lnTo>
                    <a:pt x="2951" y="2889"/>
                  </a:lnTo>
                  <a:lnTo>
                    <a:pt x="2926" y="2911"/>
                  </a:lnTo>
                  <a:lnTo>
                    <a:pt x="2918" y="2935"/>
                  </a:lnTo>
                  <a:lnTo>
                    <a:pt x="2896" y="2960"/>
                  </a:lnTo>
                  <a:lnTo>
                    <a:pt x="2841" y="2982"/>
                  </a:lnTo>
                  <a:lnTo>
                    <a:pt x="2781" y="3028"/>
                  </a:lnTo>
                  <a:lnTo>
                    <a:pt x="2722" y="3052"/>
                  </a:lnTo>
                  <a:lnTo>
                    <a:pt x="2685" y="3073"/>
                  </a:lnTo>
                  <a:lnTo>
                    <a:pt x="2638" y="3119"/>
                  </a:lnTo>
                  <a:lnTo>
                    <a:pt x="2607" y="3165"/>
                  </a:lnTo>
                  <a:lnTo>
                    <a:pt x="2574" y="3208"/>
                  </a:lnTo>
                  <a:lnTo>
                    <a:pt x="2555" y="3216"/>
                  </a:lnTo>
                  <a:lnTo>
                    <a:pt x="2533" y="3233"/>
                  </a:lnTo>
                  <a:lnTo>
                    <a:pt x="2514" y="3258"/>
                  </a:lnTo>
                  <a:lnTo>
                    <a:pt x="2507" y="3265"/>
                  </a:lnTo>
                  <a:lnTo>
                    <a:pt x="2496" y="3283"/>
                  </a:lnTo>
                  <a:lnTo>
                    <a:pt x="2496" y="3300"/>
                  </a:lnTo>
                  <a:lnTo>
                    <a:pt x="2496" y="3325"/>
                  </a:lnTo>
                  <a:lnTo>
                    <a:pt x="2500" y="3345"/>
                  </a:lnTo>
                  <a:lnTo>
                    <a:pt x="2518" y="3366"/>
                  </a:lnTo>
                  <a:lnTo>
                    <a:pt x="2518" y="3391"/>
                  </a:lnTo>
                  <a:lnTo>
                    <a:pt x="2485" y="3567"/>
                  </a:lnTo>
                  <a:lnTo>
                    <a:pt x="2466" y="3592"/>
                  </a:lnTo>
                  <a:lnTo>
                    <a:pt x="2449" y="3613"/>
                  </a:lnTo>
                  <a:lnTo>
                    <a:pt x="2337" y="3748"/>
                  </a:lnTo>
                  <a:lnTo>
                    <a:pt x="2279" y="3818"/>
                  </a:lnTo>
                  <a:lnTo>
                    <a:pt x="2251" y="3860"/>
                  </a:lnTo>
                  <a:lnTo>
                    <a:pt x="2241" y="3905"/>
                  </a:lnTo>
                  <a:lnTo>
                    <a:pt x="2227" y="3930"/>
                  </a:lnTo>
                  <a:lnTo>
                    <a:pt x="2223" y="3952"/>
                  </a:lnTo>
                  <a:lnTo>
                    <a:pt x="2208" y="3969"/>
                  </a:lnTo>
                  <a:lnTo>
                    <a:pt x="2186" y="3977"/>
                  </a:lnTo>
                  <a:lnTo>
                    <a:pt x="2170" y="3977"/>
                  </a:lnTo>
                  <a:lnTo>
                    <a:pt x="2148" y="3998"/>
                  </a:lnTo>
                  <a:lnTo>
                    <a:pt x="2133" y="4018"/>
                  </a:lnTo>
                  <a:lnTo>
                    <a:pt x="2129" y="4044"/>
                  </a:lnTo>
                  <a:lnTo>
                    <a:pt x="2129" y="4064"/>
                  </a:lnTo>
                  <a:lnTo>
                    <a:pt x="2122" y="4073"/>
                  </a:lnTo>
                  <a:lnTo>
                    <a:pt x="2115" y="4090"/>
                  </a:lnTo>
                  <a:lnTo>
                    <a:pt x="2107" y="4106"/>
                  </a:lnTo>
                  <a:lnTo>
                    <a:pt x="2096" y="4115"/>
                  </a:lnTo>
                  <a:lnTo>
                    <a:pt x="2033" y="4181"/>
                  </a:lnTo>
                  <a:lnTo>
                    <a:pt x="2003" y="4095"/>
                  </a:lnTo>
                  <a:lnTo>
                    <a:pt x="2007" y="4031"/>
                  </a:lnTo>
                  <a:lnTo>
                    <a:pt x="1997" y="3998"/>
                  </a:lnTo>
                  <a:lnTo>
                    <a:pt x="1964" y="3998"/>
                  </a:lnTo>
                  <a:lnTo>
                    <a:pt x="1948" y="3977"/>
                  </a:lnTo>
                  <a:lnTo>
                    <a:pt x="1940" y="3944"/>
                  </a:lnTo>
                  <a:lnTo>
                    <a:pt x="1914" y="3905"/>
                  </a:lnTo>
                  <a:lnTo>
                    <a:pt x="1873" y="3888"/>
                  </a:lnTo>
                  <a:lnTo>
                    <a:pt x="1814" y="3888"/>
                  </a:lnTo>
                  <a:lnTo>
                    <a:pt x="1789" y="3872"/>
                  </a:lnTo>
                  <a:lnTo>
                    <a:pt x="1756" y="3818"/>
                  </a:lnTo>
                  <a:lnTo>
                    <a:pt x="1718" y="3809"/>
                  </a:lnTo>
                  <a:lnTo>
                    <a:pt x="1638" y="3814"/>
                  </a:lnTo>
                  <a:lnTo>
                    <a:pt x="1734" y="3672"/>
                  </a:lnTo>
                  <a:lnTo>
                    <a:pt x="1845" y="3558"/>
                  </a:lnTo>
                  <a:lnTo>
                    <a:pt x="1923" y="3500"/>
                  </a:lnTo>
                  <a:lnTo>
                    <a:pt x="1988" y="3487"/>
                  </a:lnTo>
                  <a:lnTo>
                    <a:pt x="1997" y="3475"/>
                  </a:lnTo>
                  <a:lnTo>
                    <a:pt x="1992" y="3437"/>
                  </a:lnTo>
                  <a:lnTo>
                    <a:pt x="2011" y="3391"/>
                  </a:lnTo>
                  <a:lnTo>
                    <a:pt x="2007" y="3362"/>
                  </a:lnTo>
                  <a:lnTo>
                    <a:pt x="1988" y="3332"/>
                  </a:lnTo>
                  <a:lnTo>
                    <a:pt x="1904" y="3316"/>
                  </a:lnTo>
                  <a:lnTo>
                    <a:pt x="1926" y="3279"/>
                  </a:lnTo>
                  <a:lnTo>
                    <a:pt x="1933" y="3213"/>
                  </a:lnTo>
                  <a:lnTo>
                    <a:pt x="1933" y="3170"/>
                  </a:lnTo>
                  <a:lnTo>
                    <a:pt x="1911" y="3136"/>
                  </a:lnTo>
                  <a:lnTo>
                    <a:pt x="1893" y="3124"/>
                  </a:lnTo>
                  <a:lnTo>
                    <a:pt x="1882" y="3119"/>
                  </a:lnTo>
                  <a:lnTo>
                    <a:pt x="1870" y="3119"/>
                  </a:lnTo>
                  <a:lnTo>
                    <a:pt x="1827" y="3128"/>
                  </a:lnTo>
                  <a:lnTo>
                    <a:pt x="1814" y="3119"/>
                  </a:lnTo>
                  <a:lnTo>
                    <a:pt x="1808" y="3103"/>
                  </a:lnTo>
                  <a:lnTo>
                    <a:pt x="1808" y="3083"/>
                  </a:lnTo>
                  <a:lnTo>
                    <a:pt x="1811" y="3069"/>
                  </a:lnTo>
                  <a:lnTo>
                    <a:pt x="1818" y="3032"/>
                  </a:lnTo>
                  <a:lnTo>
                    <a:pt x="1822" y="3015"/>
                  </a:lnTo>
                  <a:lnTo>
                    <a:pt x="1818" y="2994"/>
                  </a:lnTo>
                  <a:lnTo>
                    <a:pt x="1808" y="2978"/>
                  </a:lnTo>
                  <a:lnTo>
                    <a:pt x="1792" y="2969"/>
                  </a:lnTo>
                  <a:lnTo>
                    <a:pt x="1752" y="2973"/>
                  </a:lnTo>
                  <a:lnTo>
                    <a:pt x="1704" y="2989"/>
                  </a:lnTo>
                  <a:lnTo>
                    <a:pt x="1666" y="3015"/>
                  </a:lnTo>
                  <a:lnTo>
                    <a:pt x="1630" y="2994"/>
                  </a:lnTo>
                  <a:lnTo>
                    <a:pt x="1610" y="2927"/>
                  </a:lnTo>
                  <a:lnTo>
                    <a:pt x="1614" y="2831"/>
                  </a:lnTo>
                  <a:lnTo>
                    <a:pt x="1603" y="2747"/>
                  </a:lnTo>
                  <a:lnTo>
                    <a:pt x="1548" y="2705"/>
                  </a:lnTo>
                  <a:lnTo>
                    <a:pt x="1603" y="2747"/>
                  </a:lnTo>
                  <a:lnTo>
                    <a:pt x="1619" y="2642"/>
                  </a:lnTo>
                  <a:lnTo>
                    <a:pt x="1644" y="2580"/>
                  </a:lnTo>
                  <a:lnTo>
                    <a:pt x="1655" y="2526"/>
                  </a:lnTo>
                  <a:lnTo>
                    <a:pt x="1633" y="2496"/>
                  </a:lnTo>
                  <a:lnTo>
                    <a:pt x="1592" y="2496"/>
                  </a:lnTo>
                  <a:lnTo>
                    <a:pt x="1581" y="2459"/>
                  </a:lnTo>
                  <a:lnTo>
                    <a:pt x="1578" y="2376"/>
                  </a:lnTo>
                  <a:lnTo>
                    <a:pt x="1564" y="2354"/>
                  </a:lnTo>
                  <a:lnTo>
                    <a:pt x="1507" y="2376"/>
                  </a:lnTo>
                  <a:lnTo>
                    <a:pt x="1436" y="2380"/>
                  </a:lnTo>
                  <a:lnTo>
                    <a:pt x="1400" y="2359"/>
                  </a:lnTo>
                  <a:lnTo>
                    <a:pt x="1381" y="2300"/>
                  </a:lnTo>
                  <a:lnTo>
                    <a:pt x="1326" y="2258"/>
                  </a:lnTo>
                  <a:lnTo>
                    <a:pt x="1329" y="2250"/>
                  </a:lnTo>
                  <a:lnTo>
                    <a:pt x="1378" y="2236"/>
                  </a:lnTo>
                  <a:lnTo>
                    <a:pt x="1381" y="2211"/>
                  </a:lnTo>
                  <a:lnTo>
                    <a:pt x="1356" y="2178"/>
                  </a:lnTo>
                  <a:lnTo>
                    <a:pt x="1344" y="2110"/>
                  </a:lnTo>
                  <a:lnTo>
                    <a:pt x="1288" y="2115"/>
                  </a:lnTo>
                  <a:lnTo>
                    <a:pt x="1271" y="2099"/>
                  </a:lnTo>
                  <a:lnTo>
                    <a:pt x="1233" y="2095"/>
                  </a:lnTo>
                  <a:lnTo>
                    <a:pt x="1181" y="2115"/>
                  </a:lnTo>
                  <a:lnTo>
                    <a:pt x="1167" y="2107"/>
                  </a:lnTo>
                  <a:lnTo>
                    <a:pt x="1129" y="2044"/>
                  </a:lnTo>
                  <a:lnTo>
                    <a:pt x="1099" y="2023"/>
                  </a:lnTo>
                  <a:lnTo>
                    <a:pt x="1041" y="2040"/>
                  </a:lnTo>
                  <a:lnTo>
                    <a:pt x="1019" y="2032"/>
                  </a:lnTo>
                  <a:lnTo>
                    <a:pt x="1000" y="1991"/>
                  </a:lnTo>
                  <a:lnTo>
                    <a:pt x="981" y="1973"/>
                  </a:lnTo>
                  <a:lnTo>
                    <a:pt x="885" y="1966"/>
                  </a:lnTo>
                  <a:lnTo>
                    <a:pt x="855" y="1932"/>
                  </a:lnTo>
                  <a:lnTo>
                    <a:pt x="852" y="1877"/>
                  </a:lnTo>
                  <a:lnTo>
                    <a:pt x="874" y="1785"/>
                  </a:lnTo>
                  <a:lnTo>
                    <a:pt x="866" y="1747"/>
                  </a:lnTo>
                  <a:close/>
                </a:path>
              </a:pathLst>
            </a:custGeom>
            <a:solidFill>
              <a:srgbClr val="c2ffff"/>
            </a:solidFill>
            <a:ln w="0">
              <a:solidFill>
                <a:srgbClr val="4040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80880" y="838080"/>
            <a:ext cx="4343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atos demográficos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362320"/>
            <a:ext cx="4419720" cy="37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blación Tot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15.401.952 hb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blación Beneficiaria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66,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blación Femeni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50.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47920" y="1981080"/>
            <a:ext cx="5867280" cy="38862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587520"/>
            <a:ext cx="8001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uturo de la gestión sani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3124080"/>
            <a:ext cx="1905120" cy="114300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de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3124080"/>
            <a:ext cx="2438280" cy="114300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espuesta ef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y 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48520" y="3124080"/>
            <a:ext cx="2438280" cy="1143000"/>
          </a:xfrm>
          <a:prstGeom prst="rect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erci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36640" y="1760400"/>
            <a:ext cx="1538640" cy="642600"/>
          </a:xfrm>
          <a:prstGeom prst="rect">
            <a:avLst/>
          </a:prstGeom>
          <a:solidFill>
            <a:srgbClr val="ff00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4343400"/>
            <a:ext cx="2819520" cy="60948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05520" y="4343400"/>
            <a:ext cx="2819160" cy="609480"/>
          </a:xfrm>
          <a:custGeom>
            <a:avLst/>
            <a:gdLst>
              <a:gd name="textAreaLeft" fmla="*/ 493200 w 2819160"/>
              <a:gd name="textAreaRight" fmla="*/ 2044080 w 281916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72640" y="251928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mic Sans MS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49528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mic Sans MS"/>
              </a:rPr>
              <a:t>Gestión contr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7880" y="4486320"/>
            <a:ext cx="124452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Recto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11600" y="5337000"/>
            <a:ext cx="26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Rendición de cu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Particip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Control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Población y Desarro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5334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</a:rPr>
              <a:t>Tasa de crecimiento vegetativo: 1.4% anu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</a:rPr>
              <a:t>Población urbana: 85,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</a:rPr>
              <a:t>Escolaridad media: 9,8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</a:rPr>
              <a:t>Tasa de alfabetismo: 94,6%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</a:rPr>
              <a:t>Indice de Desarrollo Humano - intermedio en el mundo (avance N° 38 en 1994 a N° 34 en 1999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</a:rPr>
              <a:t>No obstante, aún 22% de la población vive en la pobreza y, de ellos, 5% son indigentes (1998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24280" y="990720"/>
          <a:ext cx="4419720" cy="259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990720"/>
                    <a:ext cx="44197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67840" y="6248520"/>
            <a:ext cx="22791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Fuente: MINSAL,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562720" y="3124080"/>
          <a:ext cx="3411360" cy="350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3124080"/>
                    <a:ext cx="341136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228600"/>
            <a:ext cx="8534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Algunas característ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914400"/>
            <a:ext cx="87631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1" lang="es-ES_tradnl" sz="2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cc"/>
                </a:solidFill>
                <a:latin typeface="Comic Sans MS"/>
              </a:rPr>
              <a:t>La problemática de salud actual y futura está vinculada a la transición demográfica, epidemiológica  y socioeconóm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3480" indent="-476280">
              <a:lnSpc>
                <a:spcPct val="110000"/>
              </a:lnSpc>
              <a:spcBef>
                <a:spcPts val="451"/>
              </a:spcBef>
              <a:buClr>
                <a:srgbClr val="0000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1905120"/>
          <a:ext cx="3200400" cy="2286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905120"/>
                    <a:ext cx="32004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419720" y="4191120"/>
          <a:ext cx="3458880" cy="22096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4191120"/>
                    <a:ext cx="34588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4191120"/>
          <a:ext cx="3200400" cy="22096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" y="4191120"/>
                    <a:ext cx="32004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343400" y="1905120"/>
          <a:ext cx="3505320" cy="228600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43400" y="1905120"/>
                    <a:ext cx="3505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7621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Distribución Porcentual de Muertes, según Grupo de Causa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hile, 1960 y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2057400"/>
            <a:ext cx="4343400" cy="3483720"/>
            <a:chOff x="0" y="2057400"/>
            <a:chExt cx="4343400" cy="348372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0" y="2057400"/>
              <a:ext cx="4343400" cy="340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047960" y="5172840"/>
              <a:ext cx="172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19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572000" y="2057400"/>
            <a:ext cx="4495680" cy="3429000"/>
            <a:chOff x="4572000" y="2057400"/>
            <a:chExt cx="4495680" cy="3429000"/>
          </a:xfrm>
        </p:grpSpPr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4572000" y="2057400"/>
              <a:ext cx="449568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321960" y="5105520"/>
              <a:ext cx="160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19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47600" y="228600"/>
            <a:ext cx="7486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Organización del Sector Salud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38880" y="1905120"/>
            <a:ext cx="21052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u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(Mecanism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47120" y="2971800"/>
            <a:ext cx="1477800" cy="6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eg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0033"/>
                </a:solidFill>
                <a:latin typeface="Arial"/>
              </a:rPr>
              <a:t>(% afili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01040" y="4572000"/>
            <a:ext cx="1371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ro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90600" y="3060720"/>
            <a:ext cx="1206720" cy="291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ON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65520" y="3060720"/>
            <a:ext cx="1206720" cy="291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SAP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37120" y="3046320"/>
            <a:ext cx="1435320" cy="292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utu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23920" y="2043000"/>
            <a:ext cx="1663560" cy="2923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03960" y="2043000"/>
            <a:ext cx="1663560" cy="2923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33600" y="1841400"/>
            <a:ext cx="1663920" cy="2923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salari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0600" y="2362320"/>
            <a:ext cx="590760" cy="64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72040" y="2209680"/>
            <a:ext cx="76176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05400" y="2362320"/>
            <a:ext cx="209880" cy="64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95520" y="2362320"/>
            <a:ext cx="21337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181320" y="2209680"/>
            <a:ext cx="8380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440" y="3060720"/>
            <a:ext cx="1206360" cy="291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FFA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4760" y="4738680"/>
            <a:ext cx="1282680" cy="368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ospi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43240" y="4648320"/>
            <a:ext cx="1466640" cy="55224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ospitales SN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28840" y="5334120"/>
            <a:ext cx="1282680" cy="47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sul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76600" y="4724280"/>
            <a:ext cx="1447920" cy="6098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ínicas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nsultas méd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83280" y="4648320"/>
            <a:ext cx="1282680" cy="596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ínicas Acc.Tr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f.Pro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10320" y="3429000"/>
            <a:ext cx="763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409560" y="3429000"/>
            <a:ext cx="1676520" cy="121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047240" y="3352680"/>
            <a:ext cx="166680" cy="137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114640" y="3340080"/>
            <a:ext cx="691920" cy="199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62400" y="3352680"/>
            <a:ext cx="180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76200" y="3352680"/>
            <a:ext cx="685800" cy="198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561840" y="3352680"/>
            <a:ext cx="3048120" cy="1295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00440" y="3352680"/>
            <a:ext cx="22860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38720" y="3429000"/>
            <a:ext cx="129528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258920" y="2362320"/>
            <a:ext cx="627120" cy="64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72360" y="2362320"/>
            <a:ext cx="1011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0033"/>
                </a:solidFill>
                <a:latin typeface="Arial"/>
              </a:rPr>
              <a:t>subsi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43440" y="2362320"/>
            <a:ext cx="533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0033"/>
                </a:solidFill>
                <a:latin typeface="Arial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80640" y="2438280"/>
            <a:ext cx="58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0033"/>
                </a:solidFill>
                <a:latin typeface="Arial"/>
              </a:rPr>
              <a:t>0,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52520" y="3352680"/>
            <a:ext cx="14479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7560" y="3355920"/>
            <a:ext cx="59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0033"/>
                </a:solidFill>
                <a:latin typeface="Arial"/>
              </a:rPr>
              <a:t>3-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28120" y="3355920"/>
            <a:ext cx="53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0033"/>
                </a:solidFill>
                <a:latin typeface="Arial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25280" y="3355920"/>
            <a:ext cx="53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0033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57440" y="2438280"/>
            <a:ext cx="914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ff0033"/>
                </a:solidFill>
                <a:latin typeface="Arial"/>
              </a:rPr>
              <a:t>A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05000" y="3352680"/>
            <a:ext cx="190512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47800" y="1143000"/>
            <a:ext cx="2895840" cy="4572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INISTERIO DE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63440" y="1236600"/>
            <a:ext cx="1553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Re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09160" y="60958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cc"/>
                </a:solidFill>
                <a:latin typeface="Arial"/>
              </a:rPr>
              <a:t>Sector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15000" y="60958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33cc"/>
                </a:solidFill>
                <a:latin typeface="Arial"/>
              </a:rPr>
              <a:t>Sector Pri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1800" y="2819520"/>
            <a:ext cx="3581640" cy="3200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95720" y="2819520"/>
            <a:ext cx="3505320" cy="3200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762120"/>
            <a:ext cx="8763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Cobertura Población País en Salud. Año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1371600"/>
            <a:ext cx="5715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"/>
          </a:bodyPr>
          <a:p>
            <a:pPr marL="30600" indent="-306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FONASA...........    10.442.101 benefici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-306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I.S.A.P.R.E.....……. 2.920.000 benefici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600" indent="-30600">
              <a:lnSpc>
                <a:spcPct val="10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Otros y FF.AA........ 2.133.449 beneficiarios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cc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480060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2362320"/>
            <a:ext cx="609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imes New Roman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Total País:  ...... .  15.495.549  habitantes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286000"/>
            <a:ext cx="5410080" cy="0"/>
          </a:xfrm>
          <a:prstGeom prst="line">
            <a:avLst/>
          </a:prstGeom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59436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99"/>
                </a:solidFill>
                <a:latin typeface="Times New Roman"/>
              </a:rPr>
              <a:t>Fuente: FONASA,  Año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600200" y="2819520"/>
          <a:ext cx="6019920" cy="3657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819520"/>
                    <a:ext cx="60199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295280" y="93600"/>
            <a:ext cx="723924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ORGANIGRAMA SECTOR SALUD CHIL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28600" y="1536840"/>
          <a:ext cx="8685360" cy="429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36840"/>
                    <a:ext cx="868536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0" y="1447920"/>
            <a:ext cx="8915400" cy="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2T01:57:31Z</dcterms:created>
  <dc:creator>Claudia y Pablo</dc:creator>
  <dc:description/>
  <dc:language>en-US</dc:language>
  <cp:lastModifiedBy>Fac. de Medicina</cp:lastModifiedBy>
  <dcterms:modified xsi:type="dcterms:W3CDTF">2006-10-19T18:18:42Z</dcterms:modified>
  <cp:revision>90</cp:revision>
  <dc:subject/>
  <dc:title>Presentación de PowerPoint</dc:title>
</cp:coreProperties>
</file>