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BD4-278E-4985-A8E9-5603E17C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F5C-E46A-4792-8A7C-A977F837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559-3425-49CE-B0C0-36BEF818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CBD-189A-43D4-9DDA-8A301310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EF43-480D-4FD9-84C6-61AE054D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977E-4A95-41EE-B189-D1BD00D0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FBFC-5815-48C1-BCC2-9190D2D9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BFBB-81B8-43AC-8A7C-7E63E2C1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060-A4F1-4106-9F97-311EC1EA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3CDA-1775-46B9-B1EC-A86B5FB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42B4-57B0-4196-9592-D37C9848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777-4B2F-420E-91E7-79B068D8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5AA9-00F0-4B8B-B085-818BDAAB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ED9F-B097-4676-ADBC-23CB3651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1B91-95C9-475F-A433-AC33E065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AE8-36EB-49AB-96BC-46DF680B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CE0D-F622-4F4B-8D1A-CFF60DF7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29C-D795-473F-871C-8CA63AF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519-71F6-4A11-A7C9-5BCF4773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5EB-2E1D-4190-B61E-8B795B72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D50-A569-48BE-B1C2-78D5ADE3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458-2BB2-44E4-AC97-EE74D687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A95-141C-400A-8164-99153D1F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33C-D846-40EE-9548-077AB382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9EDF-3CDC-4AAB-878A-B18B73B828C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91A5-BD6C-4A4B-A2E8-D6CFC43194B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2209680"/>
            <a:ext cx="609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Impact"/>
              </a:rPr>
              <a:t>ADMINISTRACION POR OBJETIVO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494496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Impact"/>
              </a:rPr>
              <a:t>PROF.ASIST. NIDIA CANALES VELASQUEZ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Impact"/>
              </a:rPr>
              <a:t>METODO DE LA RUTA CRITICA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DEFINICION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743200"/>
            <a:ext cx="6400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S UNA SUCESIÓN LÓGICA DE ACTIVIDADES CUYO TIEMPO TOTAL DE EJECUCIÓN, CONTROLA EL TIEMPO MÍNIMO REQUERIDO PARA CONCLUIR UN PROYEC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EL METODO DE LA RUTA CRITICA</a:t>
            </a:r>
            <a:r>
              <a:rPr b="0" lang="es-ES_tradnl" sz="36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752480"/>
            <a:ext cx="6858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TIENE DOS VARIANTES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EL TIEMPO PARA CUMPLIR CON EL PROYECTO ES CONOCID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EL TIEMPO PARA CUMPLIR CON EL PROYECTO NO SE CONOCE CON CERTIDUMBR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52480" y="685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ETAPAS DEL MÉTODO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828800"/>
            <a:ext cx="708660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DESCOMPOSICIÓN DEL PROGRAMA  EN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ORDENAMIENTO DE LAS ACTIVIDADES DE ACUERDO AL TIEMPO DE OCURRENCI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DETERMINACIÓN DE LA INTERRELACIÓN ENTRE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4. DIAGRAMAR LAS FECHAS DEL PROYEC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1752480"/>
            <a:ext cx="6553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ROGRAMAC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TERMINACIÓN DE LOS TIEMPOS DE LAS ACTIVIDADES SEGÚN DIAGRAM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09880"/>
            <a:ext cx="6629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CONTRO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GRADO DE AVANCE DEL PROYECTO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RETROALIMENTACIÓ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609480"/>
            <a:ext cx="58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ETAPAS DEL MÉTODO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838080"/>
            <a:ext cx="678168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UNTOS A CONSIDERAR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DEFINIR OBJETIV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ON TODA CLARIDA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FORMAR EL EQUIPO DE TRABAJ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DENTIFICACIÓN DE ACTIVIDADES POR EQUIPO DE TRABAJ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4. ORDENAR LAS ACTIVIDADES IDENTIFICADA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FORMA CRONOLÓGI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2057400"/>
            <a:ext cx="64767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CONSTRUIR  UN CATALOGO DE LAS ACTIVIDADES CLASIFICADAS EN  RUBR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“ANTES DE...”, “DESPUÉS DE...”.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6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FINIR EL TIEMP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, LA VARIABLE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FICACI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SE VE EN EL TIEMPO TOTAL DEL PROYECTO. LA VARIABLE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FICIENCI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SE VE EN EL TIEMPO QUE DURA CADA UNA DE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914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UNTOS A CONSIDERAR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914400"/>
            <a:ext cx="70866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CALCULO DEL TIEMPO FÓRMULA DE INCERTIDUMBR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MP = </a:t>
            </a:r>
            <a:r>
              <a:rPr b="1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TOP + 4 TMF + T PESIMIST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MP = TIEMPO MÁS PROBABL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OP = TIEMPO ÓPTIM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MF = TIEMPO MÁS FRECUENT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838080"/>
            <a:ext cx="6476760" cy="42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A CADA ACTIVIDAD HAY QUE CALCULAR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LA FECHA MÁS TEMPRANA DE INICI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LA FECHA MÁS TARDÍA DE INICI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LA FECHA MÁS TEMPRANA DE TÉRMINO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LA FECHA MÁS TARDÍA DE TÉRMIN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2670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838080"/>
            <a:ext cx="662940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LUEGO HAY QUE CONFECCIONAR 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UN GRÁFICO DE BARRA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 GRÁFICA DE GANTT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DETERMINAR LOS EVENTOS U OCURRENCIA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EL TIEMP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DE UNA ACTIVIDAD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QUEDANDO ESTABLECIDA LA HOLGURA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ADMINISTRACION POR OBJETIVOS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752480"/>
            <a:ext cx="739116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DEFINIC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CORRESPONDE A UN ENFOQUE PARA LA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DETERMINACIÓN DE OBJETIVOS Y METAS A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TODOS LOS NIVELES DE LA EMPRESA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 Y NO SÓLO EN EL PLANO DE LOS OBJETIVOS SUPERIOR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19720"/>
            <a:ext cx="7467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HACE HINCAPIÉ EN LA PARTICIPACIÓN DE LOS SUBORDINADOS EN LA FIJACIÓN DE METAS</a:t>
            </a:r>
            <a:r>
              <a:rPr b="0" lang="es-ES_tradnl" sz="2400" spc="-1" strike="noStrike">
                <a:solidFill>
                  <a:srgbClr val="660033"/>
                </a:solidFill>
                <a:latin typeface="Tahoma"/>
              </a:rPr>
              <a:t> DENTRO DE LA ESTRUCTURA ESTABLECIDA POR EL ESTAMENTO JERÁRQUICO SUPERIOR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914400"/>
            <a:ext cx="68580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VENTAJAS DEL PROGRAM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SE VE CON CLARIDAD LA INTERRELACIÓN  DE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SE SABE EL TIEMPO TOTAL DEL PROYECTO, PERO NO NOS DA LA FECHA EXACTA EN QUE OCURRIRÁN LAS ACTIVIDAD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SEÑALA CON CLARIDAD DÓNDE ESTÁN LAS HOLGUR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LA CARTA GANTT SEÑALA LA FECHA DE CADA ACTIVIDA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457200"/>
            <a:ext cx="754380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VENTAJAS DEL METODO DEL CAMINO CRITIC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NOS INDICA EL COMO LLEVAR A LA PRÁCTICA LA PROGRAMACIÓN ÍNTEGRA DE SALU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NOS PERMITE IMPLEMENTAR UNA DECISIÓ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NTEGRA AL EQUIPO DE SALUD Y ORDENA SU QUEHAC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ERMITE VER EL PROYECTO EN SU TOTALIDA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ACLARA LOS OBJETIVOS DEL PROYEC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FIJA LA PARTICIPACIÓN DE CADA INTEGRANTE Y FACILITA EL CONTROL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2133720"/>
            <a:ext cx="6400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ACORTA EL TIEMPO DE EJECUCIÓN TÉCNI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ERMITE VISUALIZAR Y RECONOCER CUÁLES SON LAS ACTIVIDADES CRÍTIC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ERMITE RECORDAR Y ORGANIZARS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DENTIFICA LAS ACTIVIDADES BÁSICAS O FUNDAMENTALES DE LAS QUE NO LO SON TAN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6778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VENTAJAS DEL METODO DEL CAMINO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CRITIC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52480" y="2666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Impact"/>
              </a:rPr>
              <a:t>GRAFICO DE GANT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048120"/>
            <a:ext cx="69339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S UNA REPRESENTACIÓN ESQUEMÁTICA DE LOS TRABAJOS PROGRAMADOS, DE LOS REALIZADOS Y DE LAS RELACIONES QUE EXISTEN ENTRE ELLOS EN MOMENTOS DETERMINADO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914400"/>
            <a:ext cx="525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GRAFICO DE GANTT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DEFINICION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457200"/>
            <a:ext cx="708660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TES FUNDAMENTA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REPRESENTAR GRÁFICAMENTE LOS TRABAJOS PROGRAMADOS Y REALIZADOS CORRESPONDE A ACTIVIDADES, MÁQUINAS Y PERSONAS. SIRVE PAR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DENTIFICAR CUANDO HAY TRABAJO ACUMULADO ATRASADO O ESTÁ CONFORME A LO PROGRAMAD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ALCULAR CUANTITATIVAMENTE EL TRABAJO ACUMULADO O ATRASADO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ONTROLAR LOS TRABAJOS QUE SE REALIZAN EN LA EMPRES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9320" y="304920"/>
            <a:ext cx="7391160" cy="60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L GRÁFICO DE GANTT CONSTA DE UNA PARTE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EN DONDE SE ANOTA LA ESCALA DE TIEMPO A UTILIZAR HORARIA O CALENDARI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ES EL RAYADO DEL GRÁFICO CONFORMADA POR LÍNEAS VERTICALES EQUIDISTANTES QUE REPRESENTA EL TIEMPO QUE SE DEMORA O SE DEMORARÁ LA PERSONA O MÁQUINA EN REALIZAR LA ACTIVIDAD O ACTIVIDADE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C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QUE PERTENECE A LA SECCIÓN DE ANOTACIONES EN DÓNDE SE PUEDEN ANOTAR ACTIVIDADES SOLAMENTE, MÁQUINAS SOLAMENTE, MÁQUINAS Y PERSONAS CONJUNTAMENTE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95280" y="990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TES FUNDAMENTA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2666880"/>
            <a:ext cx="4572000" cy="38124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209680"/>
            <a:ext cx="4572000" cy="38124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666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1828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PARTE A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PARTE B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962520"/>
            <a:ext cx="449604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3962520"/>
            <a:ext cx="0" cy="1371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962520"/>
            <a:ext cx="0" cy="1295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52480" y="830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ARTES FUNDAMENTA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182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PARTE C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666880"/>
            <a:ext cx="2819160" cy="281952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581280"/>
            <a:ext cx="28191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666880"/>
            <a:ext cx="0" cy="2819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GRAFICO DE GANT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981080"/>
            <a:ext cx="6400800" cy="358164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819520"/>
            <a:ext cx="6400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1981080"/>
            <a:ext cx="0" cy="3581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1981080"/>
            <a:ext cx="0" cy="3581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2438280"/>
            <a:ext cx="38102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4382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2819520"/>
            <a:ext cx="0" cy="2743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2049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ESCALA DE TIEMP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2971800"/>
            <a:ext cx="380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ahoma"/>
              </a:rPr>
              <a:t>ANOTACIONES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133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ahoma"/>
              </a:rPr>
              <a:t>Nº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583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590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2590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8800" y="5335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ADMINISTRACIO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49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ERMITE QUE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200400"/>
            <a:ext cx="693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743200"/>
            <a:ext cx="6553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LAS EXPECTATIVA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 LAS PERSONA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SE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VUELQUEN DE ALGUNA MANERA EN SU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OBJETIVOS INDIVIDUALES</a:t>
            </a:r>
            <a:r>
              <a:rPr b="0" lang="es-ES_tradnl" sz="2400" spc="-1" strike="noStrike">
                <a:solidFill>
                  <a:srgbClr val="660066"/>
                </a:solidFill>
                <a:latin typeface="Tahoma"/>
              </a:rPr>
              <a:t> Y NO NECESARIAMENTE ESTOS SON LOS QUE TIENE LA INSTITUCIÓN, LOS QUE SI NO SON COMPATIBLES SE TRANSFORMEN EN UNA DESVENTAJ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981000"/>
            <a:ext cx="69850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UNCA DEBEMOS OLVIDAR QUE LA GESTIÓN ADMINISTRATIVA NACIÓ DEL HOMBRE  Y PARA EL HOMBRE, COMO HERREMIENTA DESTINADA A MEJORAR LA CALIDAD DE VIDA Y QUE SU BASE PRINCIPAL  ES LA SOLIDARIDAD Y EL AMOR AL  PROJIMO UNA DE LAS EXPRESIONES SUPERIORES DE LA GRANDEZA HUMANA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8301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Impact"/>
              </a:rPr>
              <a:t>ADMINISTRACIO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98108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ERMITE 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2743200"/>
            <a:ext cx="64008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RANSFORMAR LOS OBJETIVOS INSTITUCIONALES EN  INDIVIDUAL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INCORPORAR EN EL PROCESO DE PLANIFICACIÓN A LOS SUBALTERN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OBTENIENDO MAYOR COMPROMIS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,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OTIVACIÓN, Y UNA ALTA PROBABILIDAD DEL LOGRO DE LAS METAS PROPUEST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76520" y="906480"/>
            <a:ext cx="601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80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PROGRAMACIÓ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828800"/>
            <a:ext cx="693432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TAPA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1. </a:t>
            </a: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XPLICITAR LOS OBJETIVOS DE LA ORGANIZACIÓ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TÉRMINOS DE TIEMP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N TÉRMINOS CUANTITATIVO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FINIR ÁREAS DE RESULTADOS CLAVES PARA LOGRAR ESOS OBJETIVO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5120" y="533520"/>
            <a:ext cx="5790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PROGRAMACIÓ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057400"/>
            <a:ext cx="70866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TAPA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FINIR TAREAS CLAVES A REALIZAR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QUÉ TAREAS SON NECESARIAS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CUÁNDO SE DEBEN  REALIZAR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CUANTO CUESTA REALIZARLAS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¿CUANTOS RECURSOS SE NECESITAN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380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Impact"/>
              </a:rPr>
              <a:t>PROGRAMACIÓN POR OBJETIVOS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752480"/>
            <a:ext cx="72392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TAPAS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4. 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L DIRECTIVO A CARGO DE LA UNIDAD DEBE TENER TODA ESTA INFORMACIÓN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REALIZAR UNA PROGRAMACIÓN DE CUMPLIMIENTO DE META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EL DIRECTIVO A CARGO Y SU EQUIPO DEBEN RECOGER TODA LA INFORMACION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EVALUAR EL CUMPLIMIENTO DE METAS DE ACUERDO A LOS ESTANDARES E INDICADORES ESTABLECIDO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6094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PUNTOS A CONSIDERA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295280"/>
            <a:ext cx="71629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1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DEBEMOS ORGANIZAR LOS RECURSOS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ARA OPTIMIZAR EL TIEMP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EL TRABAJO EN EQUIPO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ES MEJOR QUE EL TRABAJO INDIVIDUAL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3. LOS RECURSOS SIEMPRE SON MENORES QUE LAS NECESIDADES LO QUE OBLIGA A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RIORIZA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4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PLANIFICAR DEBE SER UNA ACTIVIDAD DE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TODA LA EMPRESA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Y NO SÓLO DE UNA ELIT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5. 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LA PARTICIPACIÓN SE OBTIENE NO SE ORDEN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17524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¿CÓMO OPTIMIZAR EL TIEMPO?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200400"/>
            <a:ext cx="1143000" cy="12952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00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4419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0384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ETODO DE LA RUTA CRITI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2004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33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105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ETODO DEL GRAFICO DE GANTT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dcterms:modified xsi:type="dcterms:W3CDTF">2008-03-05T16:41:58Z</dcterms:modified>
  <cp:revision>41</cp:revision>
  <dc:subject/>
  <dc:title>ADMINISTRACION POR OBJETIVOS</dc:title>
</cp:coreProperties>
</file>