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1A2-92D1-4A24-AE39-3809AF86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D2F-53B5-4045-A5A7-992DA0BC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5B9-72AC-40DA-BBE4-09E9A008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3CF-8F1E-4F6A-80F3-ECC40021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E583-437B-4095-A131-769D98B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4271-9739-4439-A50F-5101F016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B2AE-33C2-4293-8A97-0C04D64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BF92-1D67-40DD-92B0-77D404E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B7D-67AA-46AF-A08F-E4C9B259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7722-436A-4941-92E8-B5F4F72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6AB-2613-41FE-A6DE-39B1F1F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E5E-5D83-4A15-A060-7D66394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318A-1FB3-4AF9-9A3E-43BACCC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CD3B-5037-4AF9-8314-8DC0E96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C68-3464-4207-8B66-C2DEE433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146F-EB26-494F-A9C7-ECE5431A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AFCA-706E-4816-B237-D28E4EA8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EE7-93E7-4D5C-B392-F097AFE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6F9-4D25-4CEA-A09B-2143B40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93D-996F-428D-BF5B-079886D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6E8-3377-40B9-9B20-4588E82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B9B-5832-4C6C-BCAF-C952605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F13-2076-45E3-B8FB-8CA7B330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9CF-E07A-457C-8EEA-2CE68D5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9DB-63BD-4534-9491-5A37D7329CD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EF6-B828-4F29-9F6C-56A39C26D60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220968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ADMINISTRACION POR OBJETIVO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94496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Impact"/>
              </a:rPr>
              <a:t>PROF.ASIST. NIDIA CANALES VELASQUEZ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METODO DE LA RUTA CRITICA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743200"/>
            <a:ext cx="6400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SUCESIÓN LÓGICA DE ACTIVIDADES CUYO TIEMPO TOTAL DE EJECUCIÓN, CONTROLA EL TIEMPO MÍNIMO REQUERIDO PARA CONCLUIR UN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EL METODO DE LA RUTA CRITICA</a:t>
            </a: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858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TIENE DOS VARIANTES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EL TIEMPO PARA CUMPLIR CON EL PROYECTO ES CONOCI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EL TIEMPO PARA CUMPLIR CON EL PROYECTO NO SE CONOCE CON CERTIDUMB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685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828800"/>
            <a:ext cx="70866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SCOMPOSICIÓN DEL PROGRAMA  EN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ORDENAMIENTO DE LAS ACTIVIDADES DE ACUERDO AL TIEMPO DE OCURRE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DETERMINACIÓN DE LA INTERRELACIÓN ENTR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DIAGRAMAR LAS FECHA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1752480"/>
            <a:ext cx="6553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ROGRAMA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TERMINACIÓN DE LOS TIEMPOS DE LAS ACTIVIDADES SEGÚN DIAGRAM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09880"/>
            <a:ext cx="6629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GRADO DE AVANCE DEL PROYECT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TROALIMENT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60948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838080"/>
            <a:ext cx="678168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FINIR OBJETIV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 TODA CLAR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FORMAR EL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CIÓN DE ACTIVIDADES POR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ORDENAR LAS ACTIVIDADES IDENTIFICADA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FORMA CRONOLÓG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2057400"/>
            <a:ext cx="6476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CONSTRUIR  UN CATALOGO DE LAS ACTIVIDADES CLASIFICADAS EN  RUBR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“ANTES DE...”, “DESPUÉS DE...”.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,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A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TOTAL DEL PROYECTO.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IEN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QUE DURA CADA UNA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914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914400"/>
            <a:ext cx="70866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ALCULO DEL TIEMPO FÓRMULA DE INCERTIDUMBR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</a:t>
            </a:r>
            <a:r>
              <a:rPr b="1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TOP + 4 TMF + T PESIMIST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TIEMPO MÁS PROBAB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P = TIEMPO ÓPTIM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F = TIEMPO MÁS FRECUEN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838080"/>
            <a:ext cx="647676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A CADA ACTIVIDAD HAY QUE CALCUL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LA FECHA MÁS TEMPRAN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LA FECHA MÁS TARDÍ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A FECHA MÁS TEMPRANA DE TÉRMIN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LA FECHA MÁS TARDÍA DE TÉRMIN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2670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838080"/>
            <a:ext cx="66294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LUEGO HAY QUE CONFECCIONAR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UN GRÁFICO DE BARRA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 GRÁFICA DE GANTT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DETERMINAR LOS EVENTOS U OCURRENCI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DE UNA ACTIVIDAD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QUEDANDO ESTABLECIDA LA HOLGURA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752480"/>
            <a:ext cx="73911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DEFINI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CORRESPONDE A UN ENFOQUE PARA LA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DETERMINACIÓN DE OBJETIVOS Y METAS 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TODOS LOS NIVELES DE LA EMPRES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Y NO SÓLO EN EL PLANO DE LOS OBJETIVOS SUPERIOR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19720"/>
            <a:ext cx="7467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HACE HINCAPIÉ EN LA PARTICIPACIÓN DE LOS SUBORDINADOS EN LA FIJACIÓN DE METAS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DENTRO DE LA ESTRUCTURA ESTABLECIDA POR EL ESTAMENTO JERÁRQUICO SUPERIO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914400"/>
            <a:ext cx="68580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PROGRAM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VE CON CLARIDAD LA INTERRELACIÓN 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SABE EL TIEMPO TOTAL DEL PROYECTO, PERO NO NOS DA LA FECHA EXACTA EN QUE OCURRIRÁN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ÑALA CON CLARIDAD DÓNDE ESTÁN LAS HOLGUR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CARTA GANTT SEÑALA LA FECHA DE CADA ACTIV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457200"/>
            <a:ext cx="75438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 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INDICA EL COMO LLEVAR A LA PRÁCTICA LA PROGRAMACIÓN ÍNTEGRA DE SALU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PERMITE IMPLEMENTAR UNA DECIS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TEGRA AL EQUIPO DE SALUD Y ORDENA SU QUEHAC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ER EL PROYECTO EN SU TOTAL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LARA LOS OBJETIVO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FIJA LA PARTICIPACIÓN DE CADA INTEGRANTE Y FACILITA EL CONTROL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2133720"/>
            <a:ext cx="6400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ORTA EL TIEMPO DE EJECUCIÓN TÉCN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ISUALIZAR Y RECONOCER CUÁLES SON LAS ACTIVIDADES CRÍTIC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RECORDAR Y ORGANIZAR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 LAS ACTIVIDADES BÁSICAS O FUNDAMENTALES DE LAS QUE NO LO SON TAN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77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2666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048120"/>
            <a:ext cx="6933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REPRESENTACIÓN ESQUEMÁTICA DE LOS TRABAJOS PROGRAMADOS, DE LOS REALIZADOS Y DE LAS RELACIONES QUE EXISTEN ENTRE ELLOS EN MOMENTOS DETERMINAD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914400"/>
            <a:ext cx="525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457200"/>
            <a:ext cx="70866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PRESENTAR GRÁFICAMENTE LOS TRABAJOS PROGRAMADOS Y REALIZADOS CORRESPONDE A ACTIVIDADES, MÁQUINAS Y PERSONAS. SIRVE PAR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R CUANDO HAY TRABAJO ACUMULADO ATRASADO O ESTÁ CONFORME A LO PROGRAMA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ALCULAR CUANTITATIVAMENTE EL TRABAJO ACUMULADO O ATRASAD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TROLAR LOS TRABAJOS QUE SE REALIZAN EN LA EMPRES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04920"/>
            <a:ext cx="7391160" cy="60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GRÁFICO DE GANTT CONSTA DE UNA PART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N DONDE SE ANOTA LA ESCALA DE TIEMPO A UTILIZAR HORARIA O CALENDAR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S EL RAYADO DEL GRÁFICO CONFORMADA POR LÍNEAS VERTICALES EQUIDISTANTES QUE REPRESENTA EL TIEMPO QUE SE DEMORA O SE DEMORARÁ LA PERSONA O MÁQUINA EN REALIZAR LA ACTIVIDAD O ACTIVIDADE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QUE PERTENECE A LA SECCIÓN DE ANOTACIONES EN DÓNDE SE PUEDEN ANOTAR ACTIVIDADES SOLAMENTE, MÁQUINAS SOLAMENTE, MÁQUINAS Y PERSONAS CONJUNTAMENTE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6668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2096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828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A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B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962520"/>
            <a:ext cx="449604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830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82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C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666880"/>
            <a:ext cx="2819160" cy="281952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581280"/>
            <a:ext cx="28191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666880"/>
            <a:ext cx="0" cy="2819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RAFICO DE GANT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981080"/>
            <a:ext cx="6400800" cy="35816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6400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438280"/>
            <a:ext cx="38102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04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ESCALA DE TIEMP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2971800"/>
            <a:ext cx="380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ANOTACIONES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133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Nº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58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90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590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533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49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QU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20040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743200"/>
            <a:ext cx="655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S EXPECTATIV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 LAS PERSON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S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VUELQUEN DE ALGUNA MANERA EN SU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JETIVOS INDIVIDUALE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Y NO NECESARIAMENTE ESTOS SON LOS QUE TIENE LA INSTITUCIÓN, LOS QUE SI NO SON COMPATIBLES SE TRANSFORMEN EN UNA DESVENTAJ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69850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UNCA DEBEMOS OLVIDAR QUE LA GESTIÓN ADMINISTRATIVA NACIÓ DEL HOMBRE  Y PARA EL HOMBRE, COMO HERREMIENTA DESTINADA A MEJORAR LA CALIDAD DE VIDA Y QUE SU BASE PRINCIPAL  ES LA SOLIDARIDAD Y EL AMOR AL  PROJIMO UNA DE LAS EXPRESIONES SUPERIORES DE LA GRANDEZA HUMANA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830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9810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2743200"/>
            <a:ext cx="6400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RANSFORMAR LOS OBJETIVOS INSTITUCIONALES EN  INDIVIDUAL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CORPORAR EN EL PROCESO DE PLANIFICACIÓN A LOS SUBALTERN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TENIENDO MAYOR COMPROMIS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,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TIVACIÓN, Y UNA ALTA PROBABILIDAD DEL LOGRO DE LAS METAS PROPUES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906480"/>
            <a:ext cx="60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80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693432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XPLICITAR LOS OBJETIVOS DE LA ORGANIZ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DE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CUANTITA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ÁREAS DE RESULTADOS CLAVES PARA LOGRAR ESOS OBJE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533520"/>
            <a:ext cx="5790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TAREAS CLAVES A REALIZAR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QUÉ TAREAS SON NECESARI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ÁNDO SE DEBEN  REALIZAR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 CUESTA REALIZARL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S RECURSOS SE NECESITAN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752480"/>
            <a:ext cx="72392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4.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DIRECTIVO A CARGO DE LA UNIDAD DEBE TENER TODA ESTA INFORMACIÓ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REALIZAR UNA PROGRAMACIÓN DE CUMPLIMIENTO DE ME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EL DIRECTIVO A CARGO Y SU EQUIPO DEBEN RECOGER TODA LA INFORMACIO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EVALUAR EL CUMPLIMIENTO DE METAS DE ACUERDO A LOS ESTANDARES E INDICADORES ESTABLECIDO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6094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295280"/>
            <a:ext cx="716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1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BEMOS ORGANIZAR LOS RECURS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OPTIMIZAR EL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TRABAJO EN EQUI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ES MEJOR QUE EL TRABAJO INDIVIDUA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OS RECURSOS SIEMPRE SON MENORES QUE LAS NECESIDADES LO QUE OBLIGA 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RIORIZA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LANIFICAR DEBE SER UNA ACTIVIDAD DE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DA LA EMPRES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Y NO SÓLO DE UNA ELI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PARTICIPACIÓN SE OBTIENE NO SE ORDEN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752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¿CÓMO OPTIMIZAR EL TIEMPO?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200400"/>
            <a:ext cx="1143000" cy="1295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4419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038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 LA RUTA CRIT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2004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105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L GRAFICO DE GANT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3-05T16:41:58Z</dcterms:modified>
  <cp:revision>41</cp:revision>
  <dc:subject/>
  <dc:title>ADMINISTRACION POR OBJETIVOS</dc:title>
</cp:coreProperties>
</file>