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8C85-3F4A-4661-A704-600EA770A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CCAD-49E3-46D1-86FD-8F8672A0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E409-F50B-49AB-AE9F-F4B5915F5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2C27-D2CA-4646-8FF0-EF0B3849F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AA83-A7BA-45C4-A681-B392600BA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3555-1963-4D4F-9024-1F99F3FD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CD89-CFA3-4CFE-A256-C3A2B743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255E-7386-4919-BE91-3C50FC98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576F-65EF-4FAE-88D8-896574F2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494A-6F53-482C-B075-6BF148E3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E7BF-4D8C-42F4-B78A-3B11DA4A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2AE6-F219-45A7-B35B-8FD00F9C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1A22-7618-45A4-9D61-030AA596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AD06-2A6C-4AE2-9EFC-9B9E8948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058C-F303-4CCF-9C5D-0802087C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EEB1-35CE-430A-9A51-DC681CFBF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8ED4-83A2-436E-A1BF-6C14CD0E0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E274-BA04-49BB-91AD-8398E5E8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8359-EE39-4E32-8118-2BE7F0ED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8EEC-7284-4057-AC7F-4D70322D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FE97-D259-4AD7-908B-A1045D56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2178-BEEF-4F0D-AC1C-3E69BA51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B8ED-8493-4878-BE7A-B6933618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E1D7-405F-43DB-A52B-842B8E7E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EF78-27CE-4CD5-B535-17415CC5A160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F2E4-68AB-4305-A2D2-CB02E2C9277B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3880" y="2209680"/>
            <a:ext cx="6096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0066"/>
                </a:solidFill>
                <a:latin typeface="Impact"/>
              </a:rPr>
              <a:t>ADMINISTRACION POR OBJETIVO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4944960"/>
            <a:ext cx="487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Impact"/>
              </a:rPr>
              <a:t>PROF.ASIST. NIDIA CANALES VELASQUEZ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22856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0066"/>
                </a:solidFill>
                <a:latin typeface="Impact"/>
              </a:rPr>
              <a:t>METODO DE LA RUTA CRITICA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0066"/>
                </a:solidFill>
                <a:latin typeface="Impact"/>
              </a:rPr>
              <a:t>DEFINICION</a:t>
            </a:r>
            <a:endParaRPr b="0" lang="en-US" sz="3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2743200"/>
            <a:ext cx="64008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ES UNA SUCESIÓN LÓGICA DE ACTIVIDADES CUYO TIEMPO TOTAL DE EJECUCIÓN, CONTROLA EL TIEMPO MÍNIMO REQUERIDO PARA CONCLUIR UN PROYECTO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Impact"/>
              </a:rPr>
              <a:t>EL METODO DE LA RUTA CRITICA</a:t>
            </a:r>
            <a:r>
              <a:rPr b="0" lang="es-ES_tradnl" sz="36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1752480"/>
            <a:ext cx="6858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TIENE DOS VARIANTES</a:t>
            </a: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1. EL TIEMPO PARA CUMPLIR CON EL PROYECTO ES CONOCIDO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2. EL TIEMPO PARA CUMPLIR CON EL PROYECTO NO SE CONOCE CON CERTIDUMBR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752480" y="6858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0066"/>
                </a:solidFill>
                <a:latin typeface="Impact"/>
              </a:rPr>
              <a:t>ETAPAS DEL MÉTODO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1828800"/>
            <a:ext cx="7086600" cy="44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PLANIFICACIÓ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1. DESCOMPOSICIÓN DEL PROGRAMA  EN ACTIVIDADE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2. ORDENAMIENTO DE LAS ACTIVIDADES DE ACUERDO AL TIEMPO DE OCURRENCIA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3. DETERMINACIÓN DE LA INTERRELACIÓN ENTRE LAS ACTIVIDADE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4. DIAGRAMAR LAS FECHAS DEL PROYECTO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295280" y="1752480"/>
            <a:ext cx="655344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PROGRAMACI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DETERMINACIÓN DE LOS TIEMPOS DE LAS ACTIVIDADES SEGÚN DIAGRAMA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3809880"/>
            <a:ext cx="66294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CONTRO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GRADO DE AVANCE DEL PROYECTO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RETROALIMENTACIÓN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76520" y="609480"/>
            <a:ext cx="5867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0066"/>
                </a:solidFill>
                <a:latin typeface="Impact"/>
              </a:rPr>
              <a:t>ETAPAS DEL MÉTODO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219320" y="838080"/>
            <a:ext cx="6781680" cy="44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PUNTOS A CONSIDERAR</a:t>
            </a:r>
            <a:r>
              <a:rPr b="0" lang="es-ES_tradnl" sz="3200" spc="-1" strike="noStrike">
                <a:solidFill>
                  <a:srgbClr val="660066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1. DEFINIR OBJETIVOS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CON TODA CLARIDAD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2. FORMAR EL EQUIPO DE TRABAJO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3.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IDENTIFICACIÓN DE ACTIVIDADES POR EQUIPO DE TRABAJO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4. ORDENAR LAS ACTIVIDADES IDENTIFICADAS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EN FORMA CRONOLÓGICA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447920" y="2057400"/>
            <a:ext cx="64767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5. CONSTRUIR  UN CATALOGO DE LAS ACTIVIDADES CLASIFICADAS EN  RUBROS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“ANTES DE...”, “DESPUÉS DE...”.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6.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DEFINIR EL TIEMPO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, LA VARIABLE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EFICACIA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SE VE EN EL TIEMPO TOTAL DEL PROYECTO. LA VARIABLE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EFICIENCIA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SE VE EN EL TIEMPO QUE DURA CADA UNA DE LAS ACTIVIDADE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9144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PUNTOS A CONSIDERAR</a:t>
            </a:r>
            <a:r>
              <a:rPr b="0" lang="es-ES_tradnl" sz="3200" spc="-1" strike="noStrike">
                <a:solidFill>
                  <a:srgbClr val="660066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19320" y="914400"/>
            <a:ext cx="7086600" cy="49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CALCULO DEL TIEMPO FÓRMULA DE INCERTIDUMBR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TMP = </a:t>
            </a:r>
            <a:r>
              <a:rPr b="1" lang="es-ES_tradnl" sz="2400" spc="-1" strike="noStrike" u="sng">
                <a:solidFill>
                  <a:srgbClr val="660066"/>
                </a:solidFill>
                <a:uFillTx/>
                <a:latin typeface="Tahoma"/>
              </a:rPr>
              <a:t>TOP + 4 TMF + T PESIMISTA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TMP = TIEMPO MÁS PROBABL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TOP = TIEMPO ÓPTIMO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TMF = TIEMPO MÁS FRECUENT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47920" y="838080"/>
            <a:ext cx="6476760" cy="42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PARA CADA ACTIVIDAD HAY QUE CALCULAR</a:t>
            </a:r>
            <a:r>
              <a:rPr b="0" lang="es-ES_tradnl" sz="3200" spc="-1" strike="noStrike">
                <a:solidFill>
                  <a:srgbClr val="660066"/>
                </a:solidFill>
                <a:latin typeface="Tahoma"/>
              </a:rPr>
              <a:t> :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1. LA FECHA MÁS TEMPRANA DE INICIO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2. LA FECHA MÁS TARDÍA DE INICIO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3. LA FECHA MÁS TEMPRANA DE TÉRMINO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5. LA FECHA MÁS TARDÍA DE TÉRMINO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426708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447920" y="838080"/>
            <a:ext cx="6629400" cy="49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LUEGO HAY QUE CONFECCIONAR :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1. UN GRÁFICO DE BARRAS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2.  GRÁFICA DE GANTT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PARA DETERMINAR LOS EVENTOS U OCURRENCIA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EN EL TIEMPO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DE UNA ACTIVIDAD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QUEDANDO ESTABLECIDA LA HOLGURA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Impact"/>
              </a:rPr>
              <a:t>ADMINISTRACION POR OBJETIVOS</a:t>
            </a:r>
            <a:endParaRPr b="0" lang="en-US" sz="3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752480"/>
            <a:ext cx="7391160" cy="27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DEFINICI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660033"/>
                </a:solidFill>
                <a:latin typeface="Tahoma"/>
              </a:rPr>
              <a:t>CORRESPONDE A UN ENFOQUE PARA LA </a:t>
            </a: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DETERMINACIÓN DE OBJETIVOS Y METAS A</a:t>
            </a:r>
            <a:r>
              <a:rPr b="0" lang="es-ES_tradnl" sz="24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TODOS LOS NIVELES DE LA EMPRESA</a:t>
            </a:r>
            <a:r>
              <a:rPr b="0" lang="es-ES_tradnl" sz="2400" spc="-1" strike="noStrike">
                <a:solidFill>
                  <a:srgbClr val="660033"/>
                </a:solidFill>
                <a:latin typeface="Tahoma"/>
              </a:rPr>
              <a:t> Y NO SÓLO EN EL PLANO DE LOS OBJETIVOS SUPERIORE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19720"/>
            <a:ext cx="74674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HACE HINCAPIÉ EN LA PARTICIPACIÓN DE LOS SUBORDINADOS EN LA FIJACIÓN DE METAS</a:t>
            </a:r>
            <a:r>
              <a:rPr b="0" lang="es-ES_tradnl" sz="2400" spc="-1" strike="noStrike">
                <a:solidFill>
                  <a:srgbClr val="660033"/>
                </a:solidFill>
                <a:latin typeface="Tahoma"/>
              </a:rPr>
              <a:t> DENTRO DE LA ESTRUCTURA ESTABLECIDA POR EL ESTAMENTO JERÁRQUICO SUPERIOR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371600" y="914400"/>
            <a:ext cx="6858000" cy="51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VENTAJAS DEL PROGRAMA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SE VE CON CLARIDAD LA INTERRELACIÓN  DE LAS ACTIVIDADE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SE SABE EL TIEMPO TOTAL DEL PROYECTO, PERO NO NOS DA LA FECHA EXACTA EN QUE OCURRIRÁN LAS ACTIVIDADE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SEÑALA CON CLARIDAD DÓNDE ESTÁN LAS HOLGURA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LA CARTA GANTT SEÑALA LA FECHA DE CADA ACTIVIDAD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43000" y="457200"/>
            <a:ext cx="7543800" cy="55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VENTAJAS DEL METODO DEL CAMINO CRITICO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NOS INDICA EL COMO LLEVAR A LA PRÁCTICA LA PROGRAMACIÓN ÍNTEGRA DE SALUD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NOS PERMITE IMPLEMENTAR UNA DECISIÓN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INTEGRA AL EQUIPO DE SALUD Y ORDENA SU QUEHACER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PERMITE VER EL PROYECTO EN SU TOTALIDAD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ACLARA LOS OBJETIVOS DEL PROYECTO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FIJA LA PARTICIPACIÓN DE CADA INTEGRANTE Y FACILITA EL CONTROL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523880" y="2133720"/>
            <a:ext cx="64008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ACORTA EL TIEMPO DE EJECUCIÓN TÉCNICA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PERMITE VISUALIZAR Y RECONOCER CUÁLES SON LAS ACTIVIDADES CRÍTICA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PERMITE RECORDAR Y ORGANIZARS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IDENTIFICA LAS ACTIVIDADES BÁSICAS O FUNDAMENTALES DE LAS QUE NO LO SON TANTO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67788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VENTAJAS DEL METODO DEL CAMINO</a:t>
            </a: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CRITICO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752480" y="26668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Impact"/>
              </a:rPr>
              <a:t>GRAFICO DE GANT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048120"/>
            <a:ext cx="69339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ES UNA REPRESENTACIÓN ESQUEMÁTICA DE LOS TRABAJOS PROGRAMADOS, DE LOS REALIZADOS Y DE LAS RELACIONES QUE EXISTEN ENTRE ELLOS EN MOMENTOS DETERMINADO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9680" y="914400"/>
            <a:ext cx="5257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Impact"/>
              </a:rPr>
              <a:t>GRAFICO DE GANTT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Impact"/>
              </a:rPr>
              <a:t>DEFINICION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219320" y="457200"/>
            <a:ext cx="7086600" cy="59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PARTES FUNDAMENTAL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REPRESENTAR GRÁFICAMENTE LOS TRABAJOS PROGRAMADOS Y REALIZADOS CORRESPONDE A ACTIVIDADES, MÁQUINAS Y PERSONAS. SIRVE PARA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IDENTIFICAR CUANDO HAY TRABAJO ACUMULADO ATRASADO O ESTÁ CONFORME A LO PROGRAMADO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CALCULAR CUANTITATIVAMENTE EL TRABAJO ACUMULADO O ATRASADO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CONTROLAR LOS TRABAJOS QUE SE REALIZAN EN LA EMPRESA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9320" y="304920"/>
            <a:ext cx="7391160" cy="60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EL GRÁFICO DE GANTT CONSTA DE UNA PARTE: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A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  EN DONDE SE ANOTA LA ESCALA DE TIEMPO A UTILIZAR HORARIA O CALENDARIO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B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  ES EL RAYADO DEL GRÁFICO CONFORMADA POR LÍNEAS VERTICALES EQUIDISTANTES QUE REPRESENTA EL TIEMPO QUE SE DEMORA O SE DEMORARÁ LA PERSONA O MÁQUINA EN REALIZAR LA ACTIVIDAD O ACTIVIDADES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C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QUE PERTENECE A LA SECCIÓN DE ANOTACIONES EN DÓNDE SE PUEDEN ANOTAR ACTIVIDADES SOLAMENTE, MÁQUINAS SOLAMENTE, MÁQUINAS Y PERSONAS CONJUNTAMENTE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95280" y="9907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PARTES FUNDAMENTAL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38280" y="2666880"/>
            <a:ext cx="4572000" cy="381240"/>
          </a:xfrm>
          <a:prstGeom prst="rect">
            <a:avLst/>
          </a:prstGeom>
          <a:solidFill>
            <a:srgbClr val="ffcc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2209680"/>
            <a:ext cx="4572000" cy="381240"/>
          </a:xfrm>
          <a:prstGeom prst="rect">
            <a:avLst/>
          </a:prstGeom>
          <a:solidFill>
            <a:srgbClr val="ffcc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00400" y="2666880"/>
            <a:ext cx="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2666880"/>
            <a:ext cx="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2666880"/>
            <a:ext cx="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10080" y="2666880"/>
            <a:ext cx="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72200" y="2666880"/>
            <a:ext cx="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19520" y="18288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PARTE A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86200" y="3505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PARTE B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38280" y="3962520"/>
            <a:ext cx="4496040" cy="1295280"/>
          </a:xfrm>
          <a:prstGeom prst="rect">
            <a:avLst/>
          </a:prstGeom>
          <a:solidFill>
            <a:srgbClr val="ffcc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00400" y="3962520"/>
            <a:ext cx="0" cy="12952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86200" y="3962520"/>
            <a:ext cx="0" cy="13716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3962520"/>
            <a:ext cx="0" cy="12952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3962520"/>
            <a:ext cx="0" cy="12952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72200" y="3962520"/>
            <a:ext cx="0" cy="12952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52480" y="8301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PARTES FUNDAMENTAL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81280" y="1820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PARTE C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2666880"/>
            <a:ext cx="2819160" cy="2819520"/>
          </a:xfrm>
          <a:prstGeom prst="rect">
            <a:avLst/>
          </a:prstGeom>
          <a:solidFill>
            <a:srgbClr val="ffcc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3581280"/>
            <a:ext cx="28191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29200" y="2666880"/>
            <a:ext cx="0" cy="28195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133720" y="9144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GRAFICO DE GANT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05120" y="1981080"/>
            <a:ext cx="6400800" cy="3581640"/>
          </a:xfrm>
          <a:prstGeom prst="rect">
            <a:avLst/>
          </a:prstGeom>
          <a:solidFill>
            <a:srgbClr val="ffcc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05120" y="2819520"/>
            <a:ext cx="64008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81280" y="1981080"/>
            <a:ext cx="0" cy="35816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95680" y="1981080"/>
            <a:ext cx="0" cy="35816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95680" y="2438280"/>
            <a:ext cx="381024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2438280"/>
            <a:ext cx="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0280" y="2438280"/>
            <a:ext cx="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2819520"/>
            <a:ext cx="0" cy="2743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819520"/>
            <a:ext cx="0" cy="2743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05520" y="2819520"/>
            <a:ext cx="0" cy="2743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24480" y="2819520"/>
            <a:ext cx="0" cy="2743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0120" y="2819520"/>
            <a:ext cx="0" cy="2743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52880" y="20494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ESCALA DE TIEMPO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62320" y="2971800"/>
            <a:ext cx="380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0066"/>
                </a:solidFill>
                <a:latin typeface="Tahoma"/>
              </a:rPr>
              <a:t>ANOTACIONES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81280" y="21337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0066"/>
                </a:solidFill>
                <a:latin typeface="Tahoma"/>
              </a:rPr>
              <a:t>Nº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2583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259092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467480" y="25909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28800" y="53352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Impact"/>
              </a:rPr>
              <a:t>ADMINISTRACION POR OBJETIVOS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20494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PERMITE QUE: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3200400"/>
            <a:ext cx="693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2743200"/>
            <a:ext cx="6553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LAS EXPECTATIVAS</a:t>
            </a:r>
            <a:r>
              <a:rPr b="0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DE LAS PERSONAS</a:t>
            </a:r>
            <a:r>
              <a:rPr b="0" lang="es-ES_tradnl" sz="2400" spc="-1" strike="noStrike">
                <a:solidFill>
                  <a:srgbClr val="660066"/>
                </a:solidFill>
                <a:latin typeface="Tahoma"/>
              </a:rPr>
              <a:t> SE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VUELQUEN DE ALGUNA MANERA EN SUS</a:t>
            </a:r>
            <a:r>
              <a:rPr b="0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OBJETIVOS INDIVIDUALES</a:t>
            </a:r>
            <a:r>
              <a:rPr b="0" lang="es-ES_tradnl" sz="2400" spc="-1" strike="noStrike">
                <a:solidFill>
                  <a:srgbClr val="660066"/>
                </a:solidFill>
                <a:latin typeface="Tahoma"/>
              </a:rPr>
              <a:t> Y NO NECESARIAMENTE ESTOS SON LOS QUE TIENE LA INSTITUCIÓN, LOS QUE SI NO SON COMPATIBLES SE TRANSFORMEN EN UNA DESVENTAJA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0228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42560" y="981000"/>
            <a:ext cx="698508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NUNCA DEBEMOS OLVIDAR QUE LA GESTIÓN ADMINISTRATIVA NACIÓ DEL HOMBRE  Y PARA EL HOMBRE, COMO HERREMIENTA DESTINADA A MEJORAR LA CALIDAD DE VIDA Y QUE SU BASE PRINCIPAL  ES LA SOLIDARIDAD Y EL AMOR AL  PROJIMO UNA DE LAS EXPRESIONES SUPERIORES DE LA GRANDEZA HUMANA”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447920" y="83016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Impact"/>
              </a:rPr>
              <a:t>ADMINISTRACION POR OBJETIVOS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1981080"/>
            <a:ext cx="6705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PERMITE :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2743200"/>
            <a:ext cx="64008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TRANSFORMAR LOS OBJETIVOS INSTITUCIONALES EN  INDIVIDUALE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INCORPORAR EN EL PROCESO DE PLANIFICACIÓN A LOS SUBALTERNOS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OBTENIENDO MAYOR COMPROMISO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,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MOTIVACIÓN, Y UNA ALTA PROBABILIDAD DEL LOGRO DE LAS METAS PROPUESTA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676520" y="906480"/>
            <a:ext cx="6019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38088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0066"/>
                </a:solidFill>
                <a:latin typeface="Impact"/>
              </a:rPr>
              <a:t>PROGRAMACIÓN POR OBJETIVOS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1828800"/>
            <a:ext cx="693432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ETAPAS: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1. </a:t>
            </a:r>
            <a:r>
              <a:rPr b="0" lang="es-ES_tradnl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EXPLICITAR LOS OBJETIVOS DE LA ORGANIZACIÓN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EN TÉRMINOS DE TIEMPO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EN TÉRMINOS CUANTITATIVO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2.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DEFINIR ÁREAS DE RESULTADOS CLAVES PARA LOGRAR ESOS OBJETIVO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905120" y="533520"/>
            <a:ext cx="57909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0066"/>
                </a:solidFill>
                <a:latin typeface="Impact"/>
              </a:rPr>
              <a:t>PROGRAMACIÓN POR OBJETIVOS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2057400"/>
            <a:ext cx="7086600" cy="39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ETAPAS: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3. </a:t>
            </a:r>
            <a:r>
              <a:rPr b="0" lang="es-ES_tradnl" sz="2400" spc="-1" strike="noStrike">
                <a:solidFill>
                  <a:srgbClr val="660066"/>
                </a:solidFill>
                <a:latin typeface="Times New Roman"/>
              </a:rPr>
              <a:t>.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DEFINIR TAREAS CLAVES A REALIZAR: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¿QUÉ TAREAS SON NECESARIAS?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¿CUÁNDO SE DEBEN  REALIZAR?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¿CUANTO CUESTA REALIZARLAS?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¿CUANTOS RECURSOS SE NECESITAN?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752480" y="38088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0066"/>
                </a:solidFill>
                <a:latin typeface="Impact"/>
              </a:rPr>
              <a:t>PROGRAMACIÓN POR OBJETIVOS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1752480"/>
            <a:ext cx="723924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ETAPAS: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4. 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EL DIRECTIVO A CARGO DE LA UNIDAD DEBE TENER TODA ESTA INFORMACIÓN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PARA REALIZAR UNA PROGRAMACIÓN DE CUMPLIMIENTO DE META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5. EL DIRECTIVO A CARGO Y SU EQUIPO DEBEN RECOGER TODA LA INFORMACION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PARA EVALUAR EL CUMPLIMIENTO DE METAS DE ACUERDO A LOS ESTANDARES E INDICADORES ESTABLECIDOS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47920" y="60948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PUNTOS A CONSIDERAR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1295280"/>
            <a:ext cx="71629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1.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DEBEMOS ORGANIZAR LOS RECURSOS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PARA OPTIMIZAR EL TIEMPO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2.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EL TRABAJO EN EQUIPO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ES MEJOR QUE EL TRABAJO INDIVIDUAL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3. LOS RECURSOS SIEMPRE SON MENORES QUE LAS NECESIDADES LO QUE OBLIGA A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PRIORIZAR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4.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PLANIFICAR DEBE SER UNA ACTIVIDAD DE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TODA LA EMPRESA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Y NO SÓLO DE UNA ELIT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5.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LA PARTICIPACIÓN SE OBTIENE NO SE ORDENA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295280" y="1752480"/>
            <a:ext cx="6934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0066"/>
                </a:solidFill>
                <a:latin typeface="Tahoma"/>
              </a:rPr>
              <a:t>¿CÓMO OPTIMIZAR EL TIEMPO?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3200400"/>
            <a:ext cx="1143000" cy="129528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00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33920" y="44197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403848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METODO DE LA RUTA CRITICA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3200400"/>
            <a:ext cx="838440" cy="2590920"/>
          </a:xfrm>
          <a:custGeom>
            <a:avLst/>
            <a:gdLst>
              <a:gd name="textAreaLeft" fmla="*/ 112320 w 838440"/>
              <a:gd name="textAreaRight" fmla="*/ 726120 w 83844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33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51055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METODO DEL GRAFICO DE GANTT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ac. de Medicina</cp:lastModifiedBy>
  <dcterms:modified xsi:type="dcterms:W3CDTF">2008-03-05T16:41:58Z</dcterms:modified>
  <cp:revision>41</cp:revision>
  <dc:subject/>
  <dc:title>ADMINISTRACION POR OBJETIVOS</dc:title>
</cp:coreProperties>
</file>