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48882-B4E1-4BDA-B2C1-C4413BC385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081-5404-49FE-8C52-3E33BD3A3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3A51-4851-44AB-87A2-A56B468D0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8681-9086-4D90-B183-A7470D9BB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C50-A54E-45DB-B5C6-905B22366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1DA4-DD3C-42CA-8383-9EE70275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BF864-D69A-4EC4-A6BA-8E8D378B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0A82-3A92-4A7C-99DE-E1BAF2096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C6FC-A1F4-4572-8F1A-6E9CA80BB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7253-262B-461E-A9D9-4DAE8307E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9AE4-42C8-42E6-B860-E53932072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4B0-5084-447E-AC6F-F76219D49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7EAE6-DE5C-4EF6-9588-85E79FA5AB03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I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58920" y="4220640"/>
            <a:ext cx="5257800" cy="88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urso de Introducción a la clínic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I año de Medicin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000000"/>
                </a:solidFill>
                <a:uFillTx/>
                <a:latin typeface="Arial"/>
              </a:rPr>
              <a:t>Fase Explorativ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stablecer una relación terapéutica capaz de proporcionar empatía, calidez, respeto y eficacia en la comunic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elimitar y clarificar el motivo de consul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tener los datos necesarios para establecer la naturaleza del problema, las creencias y las expectativas del paci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rientar y ejecutar el examen 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aborar y sintetizar la información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écnicas para obtener informació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 comienz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eguntas amplias, abier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 aclara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Especificación, generalización revisión de síntomas, resu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 conducció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ntinuación, hacer eco, redirigi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onocer el síntoma princip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finir característic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bicación o localiz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radi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po o cará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s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ciación o forma de comienz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ores desencadenantes y/o atenu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ción y evolu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rario y periodi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tud del pac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íntomas acompañ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Examen físico</a:t>
            </a:r>
            <a:r>
              <a:rPr b="0" lang="es-ES" sz="28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uidar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udor del pacien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star atento a la principal preocupació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 explorar mucho un á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Conversar par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Obtener información pers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elaj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form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r confianz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quiliz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nos entreg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gnos para el proble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gnos de enfermedades asinto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l terapeú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er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Fase Resolutiv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mitir al paciente una información derivada de la anamnesis y/o ex. físico, logrando que esta información sea recibida con impacto emo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mpartir con el paciente un plan de acción, ya sea diagnóstico o terapéu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grar el cumplimiento de las medidas propuest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egociar o persuadi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erificar la comprensión de las instrucciones proporcionad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ierre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visar y confirmar el contr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itación final y segu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pedi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ntrevista Clínic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ificultades para planificar las metas de la entrevista: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Estereotipo que el profesional tiene de cada paciente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ejo del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tir metas asistencial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er presente abanico explorato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3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pectos cualitativos de una relación asisten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lidez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mpatí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spe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cre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sertiv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DIMENSION SOCIAL Y HUMAN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Brevedad del encuen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Niveles de reciprocida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Influencia del entorn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Condicionantes externos de la Entrevist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Falta de tiem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obre carga asisten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eso de la burocraci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La 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Es el vehículo central de la atención méd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termina la exactitud de los datos recolectados y la calidad de la relación con el paci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álisis de la comunicación no verbal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ariencia físic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Gest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Expresiones facia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 Mirad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 lenguaj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Importanci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oceso Diagnóstico ( 60 -80%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dherencia al tra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tisfacción del médico y pacien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457200" y="1844640"/>
          <a:ext cx="8229600" cy="392580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lidad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ge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gunt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ció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acilit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ioridad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ci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ificar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268280"/>
          <a:ext cx="8229600" cy="5405400"/>
        </p:xfrm>
        <a:graphic>
          <a:graphicData uri="http://schemas.openxmlformats.org/drawingml/2006/table">
            <a:tbl>
              <a:tblPr/>
              <a:tblGrid>
                <a:gridCol w="1366920"/>
                <a:gridCol w="5041800"/>
                <a:gridCol w="182088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lidad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lacion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ici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pe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4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a percepción de los problemas del pacient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gitim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r desde la experienci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tetiz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tinuidad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ucha reflexi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tisfacción Mutu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oyar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here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maraderí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ucir interferencia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interpret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minuir estres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ea clima de aceptación mutu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468360" y="2276640"/>
          <a:ext cx="8229600" cy="2867040"/>
        </p:xfrm>
        <a:graphic>
          <a:graphicData uri="http://schemas.openxmlformats.org/drawingml/2006/table">
            <a:tbl>
              <a:tblPr/>
              <a:tblGrid>
                <a:gridCol w="1666800"/>
                <a:gridCol w="3819600"/>
                <a:gridCol w="27432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ó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jetiv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bilidade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6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do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grar un acuer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mplicar al pacient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mentar conocimient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ci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form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duc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gocia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iv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 u="sng">
                <a:solidFill>
                  <a:srgbClr val="000000"/>
                </a:solidFill>
                <a:uFillTx/>
                <a:latin typeface="Arial"/>
              </a:rPr>
              <a:t>Funciones bás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Recolección de información para comprender el problema del paciente y llegar al diagnós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esarrollo de una relación personal y comprensión empática de las emociones del pac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Educación, negociación y motivación del paciente para lograr su adherencia al tratamient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tapas de la 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pertur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arte central o Cuerpo: Fase Explorativa y Fase Resolu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Cier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Entrevista Clínic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Apertura</a:t>
            </a: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Revisión de anteced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mbiente fís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Salu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Present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Acomoda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emostración de interé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Disposición de atenció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4:21:47Z</dcterms:created>
  <dc:creator>Dirmed</dc:creator>
  <dc:description/>
  <dc:language>en-US</dc:language>
  <cp:lastModifiedBy>Patricia</cp:lastModifiedBy>
  <dcterms:modified xsi:type="dcterms:W3CDTF">2009-07-31T17:18:43Z</dcterms:modified>
  <cp:revision>15</cp:revision>
  <dc:subject/>
  <dc:title>ENTREVISTA CLINICA </dc:title>
</cp:coreProperties>
</file>