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29E-F44C-44CD-AE10-634431B8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86E-C2B0-41BC-92D8-94AB84D4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C21-45F7-4B57-8971-0E78E64E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880-1833-4B63-818A-A22B709C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A13A-6A9C-4C0D-B514-BC6FFE19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D362-2E77-46D9-B7A8-185030E7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3D1-FDDB-4950-AE02-7C50FD37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87BC-F191-477C-9945-E288A727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21CA-38FE-4351-8370-AA018628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4F70-1731-4F22-877C-2AD56BB1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871A-E10A-4FAB-8382-AE65404C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D42-8992-41C5-8043-9E3444F8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5E8F-0CEA-46A7-AC73-9E6718D4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351A-7F73-4490-B11D-BB2BE05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5C78-5F6F-4CF3-8633-EFDF33B6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B229-4F82-4C52-999D-BE48AA2F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7E01-2555-45A5-88ED-41C01853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251-1E86-4F69-930C-E985C920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7DB-0389-4B39-95F9-4A100EA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4AE-BDD9-4777-B517-EDA7AE8B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5D9-7A4E-4BF1-9383-881231E4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548-C25E-4623-AD11-37919F84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15F-4A07-42B2-A8E0-F45931AF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718-1CD5-4F04-8E44-E58E0127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7265-98CA-41FA-9081-E17CA54E47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D6A9-3849-4DA7-B64A-4BCF94221C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000099"/>
                </a:solidFill>
                <a:latin typeface="Times New Roman"/>
              </a:rPr>
              <a:t>DOLOR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1760" y="53337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8153280" cy="44193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99"/>
                </a:solidFill>
                <a:latin typeface="Times New Roman"/>
              </a:rPr>
              <a:t>FIEBRE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SINDROME FEBR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SINTO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NSACION DE CAL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LOFRI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EFAL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ALESTAR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CAIMI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OREX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OLIALG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502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SIG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ACIES FEBRI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OLIPNE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MINUCION DE LA PRESION ARTE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OPLO SISTOLITICO DE EYEC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ENGUA SABURRAL Y SEQUEDAD DE LA BO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IEL CA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ORINAESCASA, OSCURA Y CON ALBUMINU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D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81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19810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CONTINU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REMIT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INTERMIT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HECTICA, SEPTICA O EN AGUJ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RECURREN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FIEBRE DE PELEBSTE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INFECCIOS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NO INFECCIO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NFERMEDADES  NEOPL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CTERIANAS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RALES HEPATO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SITAR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IPERNEFR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ICKETTS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NCER PULMON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NCER PANCREA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NG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NFOMA (HODGKIN Y NO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DGKIN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EUCEM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INFAR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DIA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ULMO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RE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AFECCIONES INMUNOLOG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SENQUIMOPAT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HEMOLISIS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 ( CRISIS HEMOLIT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CAUSAS DE FIEB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TRASTORNOS METABOLICOS AGU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RFI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O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IS TIRO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IS ADDISONIA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MIXOMA AURIC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TRAUMATISMO CON ATRI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ARACTERISTICAS SUGERENTES DE ORIGEN INFECCIOSO DE UNA FIEB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IENZO BRU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MPERATURA SUPERIOR A 39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LESTAR GENERAL, POLIALGIAS, CEFALEAS Y FOTOFOB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UCOCITOS SOBRE 12.000 O BAJO 5.000 POR mm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OLOR ORGAN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DOLOR FUNCIONA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CENT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PERIFER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2012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SUPERFICI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VISCERAL O PROFUN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EPICRI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PROTOPA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S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OLOR REFER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Times New Roman"/>
              </a:rPr>
              <a:t>TIPO DE DOL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DOLOR DE ORIGEN VASCULAR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4475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Times New Roman"/>
              </a:rPr>
              <a:t>DIFERENCIA ENTRE DOLOR SUPERFICIAL Y PROFUND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LOR SUPERFI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IEN LOCALIZ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RÁCTER PUNZANTE O QUEM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MITES PREC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BICADO EN EL SITIO DEL ESTIM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REF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LOR PROFUNDO O VISC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L LOCALIZ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RÁCTER VAGO O ATENU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MITES IMPREC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BICADO A DISTANCIA DEL ESTIM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8600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2286000"/>
            <a:ext cx="403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99"/>
                </a:solidFill>
                <a:uFillTx/>
                <a:latin typeface="Times New Roman"/>
              </a:rPr>
              <a:t>SEMIOLOGIA GENERAL DEL DO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BICACIÓN E IRRADI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 O CARÁC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NS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IENZO O EVOLU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ACTORES QUE LO MODIFIC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TITUD DEL ENFER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TOMAS ACOMPAÑA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Times New Roman"/>
              </a:rPr>
              <a:t>TIPO O CARACTER DE DO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8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CARACTER</a:t>
            </a: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NSTRIC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UNGITIVO  (PUNZAN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RENTE  (QUEMANT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ULGUR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GOLPES DE CORRIENTE ELECTR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NCINANTE  (PINCHAZ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ICO  (RETORCIJ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ORDO (LEVE PERO CONTINU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ALADRANTE O TEREBRANTE (BARR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AVATIVO (PESADE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 HAM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ULSATIVO (LATI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RRANTE O ERRA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8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NGINA DE P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LOR PLE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HERPES ZO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ABES DO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EURALGIA DEL TRIGEM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ICO INTESTI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NC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DONTALG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RRAM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LCERA GASTRODUODE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BS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LON IRR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600200"/>
            <a:ext cx="373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6002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8:48:26Z</dcterms:created>
  <dc:creator>.</dc:creator>
  <dc:description/>
  <dc:language>en-US</dc:language>
  <cp:lastModifiedBy>Patricia</cp:lastModifiedBy>
  <dcterms:modified xsi:type="dcterms:W3CDTF">2009-07-31T17:20:40Z</dcterms:modified>
  <cp:revision>10</cp:revision>
  <dc:subject/>
  <dc:title>DOLOR</dc:title>
</cp:coreProperties>
</file>