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714-32AD-4A73-9C25-48F504EB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8279-FB9E-4BD8-A107-F8529E8A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9BF-849A-4651-AEF6-77138F4A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BF7-BB23-4395-A499-C8812F17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D67-56C1-4EE8-B88C-BEAD962A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643-D045-4E3F-9315-E88F8D34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C0A-567F-4E0F-BB40-4AD12102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CB8-8479-49A6-B307-28F501EB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6D27-0C3D-494C-9303-67E7ED48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777-2988-4ACB-A5E2-6F6A61D4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DFE-1C47-4EE4-852A-C6252CA9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FF9-F30E-4864-88BD-7C71AEB3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D7E0-EB84-4BED-BDC0-C75B58511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SCE 20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acultad de Med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GNATURA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CION A LA CLI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487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32" name="_s87045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87046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87047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7048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87049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7050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87051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7052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87053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87054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87055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87056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87057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87058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48" name="_s89093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89094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89095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89096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89097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89098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89099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89100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89101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89102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89103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89104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89105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89106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64" name="_s91141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91142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91143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91144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91145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91146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91147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1148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1149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1150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1151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1152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1153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1154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80" name="_s93189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3190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3191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3192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3193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3194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3195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3196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3197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3198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3199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3200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3201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93202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CIONES 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ar nombre en Hoja de Respu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ar en 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37920" y="11430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CIONES 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808080"/>
                </a:solidFill>
                <a:latin typeface="Arial"/>
              </a:rPr>
              <a:t>BU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Instru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Buz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Anotar no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Corregir en la misma h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Depositar en buz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ENTE /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ente y/o 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er solamente lo que pregunt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437920" y="1143000"/>
            <a:ext cx="838440" cy="838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1430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ICACION FINAL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2997360"/>
            <a:ext cx="2895480" cy="251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OS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4114800"/>
            <a:ext cx="2971800" cy="236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U.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1/3 DE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1447920"/>
            <a:ext cx="2666880" cy="228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U.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NI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1/3 DE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4114800"/>
            <a:ext cx="2971800" cy="24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U.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ADU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1/3 DE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CION A LA CLI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2971800"/>
            <a:ext cx="2895480" cy="251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A LA CLI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4005360"/>
            <a:ext cx="2971800" cy="247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OMUNIC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1447920"/>
            <a:ext cx="2879640" cy="24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NI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4076640"/>
            <a:ext cx="3076560" cy="247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DU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CE, signif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rganiz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.y pretende medi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oc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e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.en form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onoc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Ha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estre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c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y mas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ES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U. COMUNIC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U. del NI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U. del ADU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e DESCAN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121440" y="2146320"/>
            <a:ext cx="1093680" cy="1093680"/>
            <a:chOff x="6121440" y="2146320"/>
            <a:chExt cx="1093680" cy="1093680"/>
          </a:xfrm>
        </p:grpSpPr>
        <p:sp>
          <p:nvSpPr>
            <p:cNvPr id="60" name="_s7211"/>
            <p:cNvSpPr/>
            <p:nvPr/>
          </p:nvSpPr>
          <p:spPr>
            <a:xfrm>
              <a:off x="6121440" y="214632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26080" y="2240640"/>
            <a:ext cx="3259440" cy="3463920"/>
            <a:chOff x="4726080" y="2240640"/>
            <a:chExt cx="3259440" cy="3463920"/>
          </a:xfrm>
        </p:grpSpPr>
        <p:sp>
          <p:nvSpPr>
            <p:cNvPr id="62" name="_s7262"/>
            <p:cNvSpPr/>
            <p:nvPr/>
          </p:nvSpPr>
          <p:spPr>
            <a:xfrm>
              <a:off x="6050880" y="2296800"/>
              <a:ext cx="605520" cy="67176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7280"/>
            <p:cNvSpPr/>
            <p:nvPr/>
          </p:nvSpPr>
          <p:spPr>
            <a:xfrm rot="2160000">
              <a:off x="6759720" y="255204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7278"/>
            <p:cNvSpPr/>
            <p:nvPr/>
          </p:nvSpPr>
          <p:spPr>
            <a:xfrm rot="4320000">
              <a:off x="7164360" y="3254760"/>
              <a:ext cx="671760" cy="6051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7276"/>
            <p:cNvSpPr/>
            <p:nvPr/>
          </p:nvSpPr>
          <p:spPr>
            <a:xfrm rot="6480000">
              <a:off x="7164360" y="4082760"/>
              <a:ext cx="671760" cy="6051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7274"/>
            <p:cNvSpPr/>
            <p:nvPr/>
          </p:nvSpPr>
          <p:spPr>
            <a:xfrm rot="8640000">
              <a:off x="6761160" y="472176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7272"/>
            <p:cNvSpPr/>
            <p:nvPr/>
          </p:nvSpPr>
          <p:spPr>
            <a:xfrm rot="10800000">
              <a:off x="6053040" y="497952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7270"/>
            <p:cNvSpPr/>
            <p:nvPr/>
          </p:nvSpPr>
          <p:spPr>
            <a:xfrm rot="12960000">
              <a:off x="5341680" y="472392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7268"/>
            <p:cNvSpPr/>
            <p:nvPr/>
          </p:nvSpPr>
          <p:spPr>
            <a:xfrm rot="15120000">
              <a:off x="4870440" y="4087800"/>
              <a:ext cx="671760" cy="6051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7263"/>
            <p:cNvSpPr/>
            <p:nvPr/>
          </p:nvSpPr>
          <p:spPr>
            <a:xfrm rot="17280000">
              <a:off x="4870440" y="3259800"/>
              <a:ext cx="671760" cy="6051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7265"/>
            <p:cNvSpPr/>
            <p:nvPr/>
          </p:nvSpPr>
          <p:spPr>
            <a:xfrm rot="19440000">
              <a:off x="5340240" y="255708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7260"/>
            <p:cNvSpPr/>
            <p:nvPr/>
          </p:nvSpPr>
          <p:spPr>
            <a:xfrm>
              <a:off x="6601320" y="2240640"/>
              <a:ext cx="3927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7261"/>
            <p:cNvSpPr/>
            <p:nvPr/>
          </p:nvSpPr>
          <p:spPr>
            <a:xfrm>
              <a:off x="4998240" y="2822400"/>
              <a:ext cx="392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7264"/>
            <p:cNvSpPr/>
            <p:nvPr/>
          </p:nvSpPr>
          <p:spPr>
            <a:xfrm>
              <a:off x="5713200" y="2243520"/>
              <a:ext cx="392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7267"/>
            <p:cNvSpPr/>
            <p:nvPr/>
          </p:nvSpPr>
          <p:spPr>
            <a:xfrm>
              <a:off x="4726080" y="375768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7269"/>
            <p:cNvSpPr/>
            <p:nvPr/>
          </p:nvSpPr>
          <p:spPr>
            <a:xfrm>
              <a:off x="5002920" y="469224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7271"/>
            <p:cNvSpPr/>
            <p:nvPr/>
          </p:nvSpPr>
          <p:spPr>
            <a:xfrm>
              <a:off x="5720040" y="526932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7273"/>
            <p:cNvSpPr/>
            <p:nvPr/>
          </p:nvSpPr>
          <p:spPr>
            <a:xfrm>
              <a:off x="6606000" y="526716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7275"/>
            <p:cNvSpPr/>
            <p:nvPr/>
          </p:nvSpPr>
          <p:spPr>
            <a:xfrm>
              <a:off x="7321320" y="468756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7277"/>
            <p:cNvSpPr/>
            <p:nvPr/>
          </p:nvSpPr>
          <p:spPr>
            <a:xfrm>
              <a:off x="7592760" y="3752640"/>
              <a:ext cx="392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7279"/>
            <p:cNvSpPr/>
            <p:nvPr/>
          </p:nvSpPr>
          <p:spPr>
            <a:xfrm>
              <a:off x="7318800" y="2817720"/>
              <a:ext cx="3927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84" name="_s80901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0902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80903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0904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0905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0906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80907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0908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0909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0910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0911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0912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0913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80914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00" name="_s82949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82950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82951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82952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82953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82954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82955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82956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82957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82958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82959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82960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82961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82962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16" name="_s84997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84998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84999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85000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85001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85002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85003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85004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85005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85006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85007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85008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85009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5010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21:25:40Z</dcterms:created>
  <dc:creator>.</dc:creator>
  <dc:description/>
  <dc:language>en-US</dc:language>
  <cp:lastModifiedBy>Fac. de Medicina</cp:lastModifiedBy>
  <dcterms:modified xsi:type="dcterms:W3CDTF">2008-12-01T16:40:40Z</dcterms:modified>
  <cp:revision>15</cp:revision>
  <dc:subject/>
  <dc:title>OSCE</dc:title>
</cp:coreProperties>
</file>