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39.png" ContentType="image/png"/>
  <Override PartName="/ppt/media/image35.png" ContentType="image/png"/>
  <Override PartName="/ppt/media/image43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41E51-84F0-4214-8738-BD852C30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757D-2685-40A3-8A42-BE941F3C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A5A43-8F0F-40E2-ACA4-176D01F8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B34FD-0095-43DB-ABE1-F7A7E025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B0AB-8690-40E4-83C7-59044ECD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5877-8677-48D6-8C43-C5FB6F61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91DC-B7BC-4EB8-93B4-2777A898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C397-5A3A-4D81-A8F7-AEEA835C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FBE6-9032-421F-9B86-9E0D581F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72E3-DDEB-447C-81EB-51D665C6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DFB2-715B-4441-9D3B-BA14A20C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5B9B5-3D1B-4E6A-A3F1-F106F630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BFEB-34F7-437F-932A-7F46D874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070C-53A2-48AA-81EA-45280F10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1EC8-3598-45FD-9964-9B779774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195D-27F2-45F2-90B6-6E07EBEE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F1BF-DDB9-4594-A3EB-F72ED944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A79B7-B02F-4889-96BC-52530AE5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FB57F-E7DA-487C-BD68-6DC1458F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EDE15-077C-4D25-AB73-261F4E23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7C05-6068-4296-9BE6-B71EEC5C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C7A7-4CC0-43A6-A5BB-E99866E9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5020-3EE0-4D2D-9D50-48F5D76B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3790-A6D4-4B0C-996B-228200F5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3DF8-C133-4539-9D74-689A9B6C287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5401-45C7-4545-9B04-D7E1AF5E3F3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pequenos.nireblog.com/blogs/pequenos/files/homelobo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i.esmas.com/image/0/000/004/104/lagrimeo_nt.jpg&amp;imgrefurl=http://www.esmas.com/salud/enfermedades/infecciosas/429640.html&amp;h=200&amp;w=220&amp;sz=8&amp;hl=es&amp;start=0&amp;tbnid=5dX6m94q9yU1QM:&amp;tbnh=97&amp;tbnw=107&amp;prev=/images%3Fq%3Dlagrimeo%26gbv%3D2%26svnum%3D10%26hl%3Des%26sa%3D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s-CL" sz="6000" spc="-1" strike="noStrike">
                <a:solidFill>
                  <a:srgbClr val="e5e5ff"/>
                </a:solidFill>
                <a:latin typeface="Garamond"/>
              </a:rPr>
              <a:t>Introducción a la clínica:</a:t>
            </a:r>
            <a:br>
              <a:rPr sz="6000"/>
            </a:br>
            <a:r>
              <a:rPr b="1" lang="es-CL" sz="6000" spc="-1" strike="noStrike">
                <a:solidFill>
                  <a:srgbClr val="e5e5ff"/>
                </a:solidFill>
                <a:latin typeface="Garamond"/>
              </a:rPr>
              <a:t>Síntomas y Signos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716360" y="4869000"/>
            <a:ext cx="4168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ra. Daniela García 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ol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ónd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duel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uál es el carácter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l dolor, o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cómo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duel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qué intensidad alcanza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y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cómo varía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hacia dónde se irradia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n qué aumenta y con qué disminuy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posiciones, alimentos, medicamentos, etc.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ómo evoluciona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n el tiempo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n qué otras manifestaciones se asocia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21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ensación febri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Es la percepción de calor corpor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uándo comenzó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ómo varía entre el día y la noch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é temperaturas se alcanza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é síntomas asocia (ej sequedad piel y mucosas, cefalea, etc)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Garamond"/>
              </a:rPr>
              <a:t>(fiebre: sobre 36,9 axilar, sobre 37,5 rectal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303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Asten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nsación de cansancio sin que la persona haya hecho un esfuerzo que lo justifiq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47721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Adinam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nsación de falta de vigor para realizar esfuerzo (“falta de ganas”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Anorex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érdida del deseo de comer, no debido a sacie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Baja de pes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de cuánd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qué magnitud?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gesta conservada o n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Qué otras manifestaciones se han presentado (decaído, con falta de fuerzas)?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59280" y="4508640"/>
            <a:ext cx="33112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Síntomas y Signos:</a:t>
            </a:r>
            <a:br>
              <a:rPr sz="4000"/>
            </a:b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Piel y fanere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ruri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ian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cteri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lope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irsutism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ipertric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Uñas en vidrio de reloj (asociado a hipocratismo se llama acropaqui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íntomas pi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294336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529080" cy="2494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3219480" cy="3448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3996000" cy="2900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971640" y="4365720"/>
            <a:ext cx="3168720" cy="28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Cianosis Lab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48360" y="3141720"/>
            <a:ext cx="2879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Icteri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000600" cy="3114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hairless body"/>
          <p:cNvPicPr/>
          <p:nvPr/>
        </p:nvPicPr>
        <p:blipFill>
          <a:blip r:embed="rId2"/>
          <a:stretch/>
        </p:blipFill>
        <p:spPr>
          <a:xfrm>
            <a:off x="4140360" y="260280"/>
            <a:ext cx="3816360" cy="2714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24000" y="3429000"/>
            <a:ext cx="1904760" cy="2390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3429000"/>
            <a:ext cx="1930320" cy="23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2781360"/>
            <a:ext cx="2592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Alopecia Are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852640"/>
            <a:ext cx="338472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Alopecia to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5805360"/>
            <a:ext cx="208908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Hirsutis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95640" y="5734080"/>
            <a:ext cx="223200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Hipertric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Generalidade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íntoma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lestias o sensacion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bjetiva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 la enfermeda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 lo que refiere el paciente (ejemplo: dolor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32400" y="1700280"/>
            <a:ext cx="43084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3960720" cy="261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47640" y="4221000"/>
            <a:ext cx="439272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Acropaqu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Cabeza y órganos de los sentid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efal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ochorn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talg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tor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Vértig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innit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inor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Visión borro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plop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otofob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pifo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713040" cy="489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356000" y="1773360"/>
            <a:ext cx="3967200" cy="3606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95280" y="5661000"/>
            <a:ext cx="345600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Cefalea: dolor de cabe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5229360"/>
            <a:ext cx="302436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Bochornos: llamaradas de cal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Facial (climate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talgia: dolor de oí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torrea: descarga líquida por el conducto auditivo ex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3529080" cy="3111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3051360" cy="4321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Tinnit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nsación de zumbido o ruido de oí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57243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Rinor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scarga de secrecion nas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i es serosa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  <a:ea typeface="Arial"/>
              </a:rPr>
              <a:t>→cori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33638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Vértig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nsación de rotación del cuerpo o del ambien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Visión borro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60872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iplop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61672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otofobia: aversión a la lu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pífora : aumento del lagrime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2205000"/>
            <a:ext cx="36007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Generalidade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o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responden a las manifestaciones objetivas o físicas de la enfermedad (ejemplo: icterici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71920" y="1557360"/>
            <a:ext cx="4505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Síntomas y Signos:</a:t>
            </a:r>
            <a:br>
              <a:rPr sz="4000"/>
            </a:b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Cardiorespiratori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roncor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emopti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n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Ortopn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Disnea paroxística noctu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ng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alpitacio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cop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 físic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Gral. (2º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Corazón (3º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Pulmonar (3º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c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Húmeda: productiva o 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valuación gener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dominio nocturno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lación a ejercicio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41054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Hemopti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angre roja y espumosa proveniente del árbol respiratorio, expulsada por medio de la 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32990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isn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nsación de falta de a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92360" y="2122560"/>
            <a:ext cx="532764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Ang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olor retroesternal opresiv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08000" y="2249640"/>
            <a:ext cx="4124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alpita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ercepción del latido cardia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340000" y="2708280"/>
            <a:ext cx="36734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Síncope</a:t>
            </a:r>
            <a:br>
              <a:rPr sz="4000"/>
            </a:br>
            <a:r>
              <a:rPr b="1" lang="es-CL" sz="1600" spc="-1" strike="noStrike">
                <a:solidFill>
                  <a:srgbClr val="e5e5ff"/>
                </a:solidFill>
                <a:latin typeface="Garamond"/>
              </a:rPr>
              <a:t>Pérdida brusca, breve y completa de la conciencia y el tono postural por insuficiente flujo sanguíneo cerebral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2563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íntomas digestiv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Odinofag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Disfag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Piro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Regurgitació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Vómit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Hemateme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Constipació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Diarre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Disenter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Esteatorre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Mele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Dolores abdominales frecuentes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Apendicitis agud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Cólico bilia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Síndrome ulceros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Hepatomegal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Icteric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Ascit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Ex físico en detalle en 3º añ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Odinofag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glución doloro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42920" y="3011400"/>
            <a:ext cx="2592360" cy="2478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140360" y="2924280"/>
            <a:ext cx="398124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isfag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ificultad para deglutir o tragar alimen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908000" y="2335320"/>
            <a:ext cx="4969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Generalidade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n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síndrome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es una agrupación de síntomas y signos, que puede tener diferentes caus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j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índrome de hemorragia Digestiva Alt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(hematemesis+melena+palidez, hipotensión arterial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Causas: ulcera péptica gástrica, varice esófago-gastricas rotas, cáncer gástrico, etc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ir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nsación de ardor que sube desde el estómago a la fari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uando el contenido acido llega a la boc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regurgitación (sin nause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508640"/>
            <a:ext cx="4248000" cy="1969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821200" y="1197000"/>
            <a:ext cx="2422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Vómi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xpulsión brusca por la boca de materias contenidas en el estóma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Buscar relación con la ingesta , reconocimiento de alimento, sangre, frecuencia, volu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443640" y="4410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Hematem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Vómito de sang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Constip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tardo en la evacuación de heces, las que aparecen aumentadas de consisten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2986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iar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posición disminuida de consistencia y habitualmente de frecuencia aument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isente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steatorr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Mele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posición pastosa, negra alquitranada de olor desagradable y penetran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bido a hemorragia digestiva al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olor abdomin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pendicitis agu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ólico bilia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d ulcero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cteri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sci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Hepatomegal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178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íntomas nefrourológic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Disu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Polaquiu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Pujo y tenesmo vesic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Hematu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Urgencia miccio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Incontinencia urina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Poliu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Latencia miccional, disminución calibre, goteo terminal, retención de ori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Dolores nefrourológicos frecuent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- Cólico renal (ureter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Ex físico en detalle en 3º añ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isur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Micción doloro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048200" y="3033720"/>
            <a:ext cx="36925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Generalidade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na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nfermedad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tiene características propias y, en general, tiene una causa específic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áncer Gástr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olaquiur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Micciones frecuentes de poco volu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ujo y tenesmo vesical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seo de orinar persistente post-micción, con esfuerzo doloro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Urgencia miccional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Necesidad inaguantable de orinar, sin que la vejiga este lle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005440" y="2565360"/>
            <a:ext cx="31528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continencia urinaria: micción involuntaria, sin deseo de orin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Hematur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resencia de sangre micro o macroscópica en or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33072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oliuria: aumento del volumen urinario (&gt;3000 m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Cólico renal (ureteral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nso, cólico, fosa lumbar, irradiado hacia flanco, fosa iliaca y escroto o labio mayor ipsilate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socia angustia, inquietud, sudoración, ocasionalmente nauseas, vómit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causa más frecuente es litiasis urinar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Endocrinológic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(D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olidip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oliu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olifag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Baja de pe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íntomas Neurológic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arálisis: pérdida del movimiento volunt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aresia: grado menor de paráli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emiplejia: parálisis de la mitad derecha o izquierda del cuerp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emiparesia: Disminución de la movilidad y fuerza de la mitad derecha o izquierda del cuerp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araplejia: parálisis de la mitad inferior del cuerp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aráli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érdida del movimiento volunt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483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Como diagnosticar una enfermedad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istoria clínica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“lo que el paciente refiere” (2º añ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 físic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ignos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“lo que el médico puede objetivar” (2º añ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grupar síntomas y signos para llegar a un diagnóstico sindromático (3º añ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mpletar estudio con ex de laboratorio e imágenes para diagnosticar la enferme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(segundo semestre de 3º añ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7ºañ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ctualización permanen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Locomot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rtragia: dolor articular sin signos inflamator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causa mas frecuente de artralgia en la artrosis → afección degenerativa del cartílago articul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rtritis: dolor + inflamación en una articul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olor lumb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olor lumbociáti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65534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42592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Gineco-obstétric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menorrea: menstruaciones doloros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pareunia: Coito doloros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olimenorrea: flujo más frecuente, con intervalo &lt; 21 dí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ligomenorrea: Flujo menos frecuente, intervalo &gt; 35 días y &lt; 90 dí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menorrea: ausencia de menstruaciones (&gt;90 dí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ipermenorrea: menstruación abundante volum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eucorrea: flujo blan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f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Historia clín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MOTIVO DE CONSUL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)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qué es lo que siente.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b)</a:t>
            </a:r>
            <a:r>
              <a:rPr b="0" i="1" lang="es-ES" sz="1800" spc="-1" strike="noStrike">
                <a:solidFill>
                  <a:srgbClr val="ffffff"/>
                </a:solidFill>
                <a:latin typeface="Garamond"/>
              </a:rPr>
              <a:t> en qué parte del cuerpo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siente la molestia y hacia 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dónde se irradia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(esto es muy válido cuando se trata de un dolor)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c) 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cuándo comenzó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el síntoma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d) 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cómo ha evolucionado.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e) con qué se modifica (ya sea aumentando o disminuyendo su intensidad, o variando su carácter); puede ser con alimentos, posiciones corporales, medicamentos, etc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f)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con qué otros síntomas o manifestaciones se asocia.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Historia clínica: </a:t>
            </a:r>
            <a:br>
              <a:rPr sz="4000"/>
            </a:b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Síntomas y Signos frecuentes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gener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cabeza y órganos de los senti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piel-fanere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cardiorespirator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digest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nefrourológic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neurológic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endocrinológic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aparato locomo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gineco-obstétric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íntomas y signos genera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ol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nsación febri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st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dinam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norex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Baja de pe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00:30:33Z</dcterms:created>
  <dc:creator>Garcia Silva</dc:creator>
  <dc:description/>
  <dc:language>en-US</dc:language>
  <cp:lastModifiedBy>Patricia</cp:lastModifiedBy>
  <dcterms:modified xsi:type="dcterms:W3CDTF">2009-07-31T17:19:16Z</dcterms:modified>
  <cp:revision>104</cp:revision>
  <dc:subject/>
  <dc:title>Introducción a la clínica: Síntomas y su exploración</dc:title>
</cp:coreProperties>
</file>