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39.png" ContentType="image/pn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33B7-A9F0-492F-8509-CDE22CAC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A145-6725-4C91-BAF7-56439B3A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A29F-5644-408F-B35F-10A2FD21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2C44-0176-4A53-96FF-4D236D3B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4066-FC43-46B3-B66B-4D1A704A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D48A-A2B5-48E7-AB5A-D2ECB289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BA06-FBBB-4ECA-842E-3867FFA4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245E-9217-43B2-90B3-0704F02E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D265-2860-4EF2-BFB3-15307EA3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B27B-7961-4C15-98D1-4365C9F0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8E03-C3D1-4ED0-87B1-5CA7681A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0EAC-4BF8-4CCE-93E8-6919303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307D-4ACD-44CC-BCD5-F35D8B7D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DA8-4F13-4CCA-974D-832C375D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F2CA-62B6-4C49-80D7-E969FE43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6947-F3E2-4E87-AE86-58D0ACF2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8819-3C94-461C-945E-0F046625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E6C8-6753-4211-AEF6-9E221047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D835-41A7-45BE-B357-9E963353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65D1-0BA0-44E6-B728-76EA2D91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3F84-9264-4FB6-AAE0-F6793C46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5263-1139-498C-A1B6-9674971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879A-25F2-40C5-9268-264CBF9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7163-AFA6-4EBF-8258-3964D74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92A8-B271-4822-869C-979F9D11AFE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F7D6-7F67-4DD5-AD91-1CF4000FC4B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pequenos.nireblog.com/blogs/pequenos/files/homelobo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.esmas.com/image/0/000/004/104/lagrimeo_nt.jpg&amp;imgrefurl=http://www.esmas.com/salud/enfermedades/infecciosas/429640.html&amp;h=200&amp;w=220&amp;sz=8&amp;hl=es&amp;start=0&amp;tbnid=5dX6m94q9yU1QM:&amp;tbnh=97&amp;tbnw=107&amp;prev=/images%3Fq%3Dlagrimeo%26gbv%3D2%26svnum%3D10%26hl%3Des%26sa%3D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s-CL" sz="6000" spc="-1" strike="noStrike">
                <a:solidFill>
                  <a:srgbClr val="e5e5ff"/>
                </a:solidFill>
                <a:latin typeface="Garamond"/>
              </a:rPr>
              <a:t>Introducción a la clínica:</a:t>
            </a:r>
            <a:br>
              <a:rPr sz="6000"/>
            </a:br>
            <a:r>
              <a:rPr b="1" lang="es-CL" sz="6000" spc="-1" strike="noStrike">
                <a:solidFill>
                  <a:srgbClr val="e5e5ff"/>
                </a:solidFill>
                <a:latin typeface="Garamond"/>
              </a:rPr>
              <a:t>Síntomas y Signos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16360" y="4869000"/>
            <a:ext cx="4168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ra. Daniela García 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ol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ónd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duel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uál es el carácte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l dolor, o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cóm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duel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qué intensidad alcanz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y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cómo varí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hacia dónde se irradi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n qué aumenta y con qué disminuy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posiciones, alimentos, medicamentos, etc.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ómo evolucion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n el tiemp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n qué otras manifestaciones se asoci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2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ensación febri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s la percepción de calor corpo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uándo comenz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ómo varía entre el día y la noc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é temperaturas se alcanza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é síntomas asocia (ej sequedad piel y mucosas, cefalea, etc)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Garamond"/>
              </a:rPr>
              <a:t>(fiebre: sobre 36,9 axilar, sobre 37,5 rectal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03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sten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cansancio sin que la persona haya hecho un esfuerzo que lo justifi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7721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dinam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falta de vigor para realizar esfuerzo (“falta de ganas”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norex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érdida del deseo de comer, no debido a sacie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Baja de pe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de cuánd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qué magnitu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gesta conservada o n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Qué otras manifestaciones se han presentado (decaído, con falta de fuerzas)?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311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: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Piel y fanere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ur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ia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ope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rsutism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pertric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Uñas en vidrio de reloj (asociado a hipocratismo se llama acropaqu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pi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9433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529080" cy="2494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219480" cy="344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996000" cy="290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971640" y="4365720"/>
            <a:ext cx="316872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ianosis Lab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3141720"/>
            <a:ext cx="2879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000600" cy="311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airless body"/>
          <p:cNvPicPr/>
          <p:nvPr/>
        </p:nvPicPr>
        <p:blipFill>
          <a:blip r:embed="rId2"/>
          <a:stretch/>
        </p:blipFill>
        <p:spPr>
          <a:xfrm>
            <a:off x="4140360" y="260280"/>
            <a:ext cx="3816360" cy="271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1904760" cy="239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3429000"/>
            <a:ext cx="1930320" cy="23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2781360"/>
            <a:ext cx="2592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lopecia Are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852640"/>
            <a:ext cx="338472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lopecia to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805360"/>
            <a:ext cx="2089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rsut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5734080"/>
            <a:ext cx="223200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pertric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íntoma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lestias o sensacion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bjetiv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 la enfermeda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lo que refiere el paciente (ejemplo: dolor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32400" y="1700280"/>
            <a:ext cx="43084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3960720" cy="26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47640" y="4221000"/>
            <a:ext cx="439272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cropaqu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abeza y órganos de los senti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efal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ochorn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alg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Vért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nnit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in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Visión borro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plop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tof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pifo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713040" cy="489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3967200" cy="360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5280" y="5661000"/>
            <a:ext cx="345600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efalea: dolor de cab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229360"/>
            <a:ext cx="302436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Bochornos: llamaradas de cal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Facial (climate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algia: dolor de oí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orrea: descarga líquida por el conducto auditiv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529080" cy="3111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051360" cy="4321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Tinni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nsación de zumbido o ruido de oí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57243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Rinor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scarga de secrecion nas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i es serosa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  <a:ea typeface="Arial"/>
              </a:rPr>
              <a:t>→cori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3638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érti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rotación del cuerpo o del ambien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isión borro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60872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plop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6167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tofobia: aversión a la lu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pífora : aumento del lagrim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205000"/>
            <a:ext cx="36007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o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sponden a las manifestaciones objetivas o físicas de la enfermedad (ejemplo: icteric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71920" y="1557360"/>
            <a:ext cx="4505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: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ardiorespiratori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ronc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opti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n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Ortopn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isnea paroxística noct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ng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lpitaci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co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 fís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Gral. (2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Corazón (3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ulmonar (3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c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úmeda: productiva o 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valuación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dominio nocturno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ón a ejercicio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1054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opti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angre roja y espumosa proveniente del árbol respiratorio, expulsada por medio de la 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32990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n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falta de 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92360" y="2122560"/>
            <a:ext cx="53276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ng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retroesternal opres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08000" y="2249640"/>
            <a:ext cx="4124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alpita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cepción del latido cardia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36734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cope</a:t>
            </a:r>
            <a:br>
              <a:rPr sz="4000"/>
            </a:br>
            <a:r>
              <a:rPr b="1" lang="es-CL" sz="1600" spc="-1" strike="noStrike">
                <a:solidFill>
                  <a:srgbClr val="e5e5ff"/>
                </a:solidFill>
                <a:latin typeface="Garamond"/>
              </a:rPr>
              <a:t>Pérdida brusca, breve y completa de la conciencia y el tono postural por insuficiente flujo sanguíneo cerebral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2563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digestiv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Odinofag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sfag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Pir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Regurgitació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Vómit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mateme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Constipació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arr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senter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Esteatorr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Mele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olores abdominales frecuente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pendicitis agu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ólico bilia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Síndrome ulcero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patomegal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Ex físico en detalle en 3º añ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dinofag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glución doloro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42920" y="3011400"/>
            <a:ext cx="2592360" cy="247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140360" y="2924280"/>
            <a:ext cx="39812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fag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ficultad para deglutir o tragar alim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908000" y="2335320"/>
            <a:ext cx="4969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síndrom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es una agrupación de síntomas y signos, que puede tener diferentes caus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índrome de hemorragia Digestiva Alt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(hematemesis+melena+palidez, hipotensión arteria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Causas: ulcera péptica gástrica, varice esófago-gastricas rotas, cáncer gástrico, 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ir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nsación de ardor que sube desde el estómago a la fari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uando el contenido acido llega a la boc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regurgitación (sin nause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508640"/>
            <a:ext cx="4248000" cy="196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821200" y="1197000"/>
            <a:ext cx="2422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óm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xpulsión brusca por la boca de materias contenidas en el estóma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uscar relación con la ingesta , reconocimiento de alimento, sangre, frecuencia, volu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443640" y="4410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atem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Vómito de sang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Constip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tardo en la evacuación de heces, las que aparecen aumentadas de consist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2986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ar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posición disminuida de consistencia y habitualmente de frecuencia aument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sente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teator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Mele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posición pastosa, negra alquitranada de olor desagradable y penetran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bido a hemorragia digestiva al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olor abdomi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pendicitis agu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ólico bilia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d ulcer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c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epatomegal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178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nefrour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is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olaqui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ujo y tenesmo vesic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Hemat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Urgencia mic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Incontinencia urina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oli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Latencia miccional, disminución calibre, goteo terminal, retención de ori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olores nefrourológicos frecuent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 Cólico renal (ureter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x físico en detalle en 3º añ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icción doloro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048200" y="3033720"/>
            <a:ext cx="3692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a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nfermedad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tiene características propias y, en general, tiene una causa específic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áncer Gástr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olaqui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icciones frecuentes de poco volu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ujo y tenesmo vesic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seo de orinar persistente post-micción, con esfuerzo dolor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Urgencia miccion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Necesidad inaguantable de orinar, sin que la vejiga este ll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005440" y="2565360"/>
            <a:ext cx="3152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continencia urinaria: micción involuntaria, sin deseo de orin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at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cia de sangre micro o macroscópica en or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3307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uria: aumento del volumen urinario (&gt;3000 m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Cólico renal (ureteral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nso, cólico, fosa lumbar, irradiado hacia flanco, fosa iliaca y escroto o labio mayor ipsilat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ocia angustia, inquietud, sudoración, ocasionalmente nauseas, vómi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causa más frecuente es litiasis urinar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Endocrin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(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dip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u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fa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de pe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Neur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álisis: pérdida del movimiento volun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esia: grado menor de paráli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iplejia: parálisis de la mitad derecha o izquierda del cuer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iparesia: Disminución de la movilidad y fuerza de la mitad derecha o izquierda del cuerp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aplejia: parálisis de la mitad inferior del cuer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aráli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érdida del movimiento volun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483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omo diagnosticar una enfermeda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storia clínica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“lo que el paciente refiere” (2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 físic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ignos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“lo que el médico puede objetivar” (2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grupar síntomas y signos para llegar a un diagnóstico sindromático (3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mpletar estudio con ex de laboratorio e imágenes para diagnosticar la enferme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(segundo semestre de 3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7º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ctualización perman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Locomo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rtragia: dolor articular sin signos inflamator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causa mas frecuente de artralgia en la artrosis → afección degenerativa del cartílago artic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rtritis: dolor + inflamación en una articul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lumb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lumbociát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55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4259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ineco-obstétr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menorrea: menstruaciones doloros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pareunia: Coito doloros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limenorrea: flujo más frecuente, con intervalo &lt; 21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ligomenorrea: Flujo menos frecuente, intervalo &gt; 35 días y &lt; 90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menorrea: ausencia de menstruaciones (&gt;90 dí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permenorrea: menstruación abundante volu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eucorrea: flujo blan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istoria clí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MOTIVO DE CONSUL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)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qué es lo que siente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b)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</a:rPr>
              <a:t> en qué parte del cuerpo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siente la molestia y hacia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dónde se irradia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(esto es muy válido cuando se trata de un dolor)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cuándo comenzó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el síntoma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)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cómo ha evolucionado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) con qué se modifica (ya sea aumentando o disminuyendo su intensidad, o variando su carácter); puede ser con alimentos, posiciones corporales, medicamentos, etc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f)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con qué otros síntomas o manifestaciones se asocia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Historia clínica: 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 frecuent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gener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cabeza y órganos de los senti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piel-fanere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cardiorespirato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digest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nefrour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neur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endocrin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aparato locomo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gineco-obstétr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y signos genera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febri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t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dina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norex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de pe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0:30:33Z</dcterms:created>
  <dc:creator>Garcia Silva</dc:creator>
  <dc:description/>
  <dc:language>en-US</dc:language>
  <cp:lastModifiedBy>Patricia</cp:lastModifiedBy>
  <dcterms:modified xsi:type="dcterms:W3CDTF">2009-07-31T17:19:16Z</dcterms:modified>
  <cp:revision>104</cp:revision>
  <dc:subject/>
  <dc:title>Introducción a la clínica: Síntomas y su exploración</dc:title>
</cp:coreProperties>
</file>