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616-095A-42AA-B621-8654B22D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C80-578D-4126-8D17-C124198D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A63-D803-4405-A381-20BA5354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C59-8276-4B89-8395-7449231C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AF37-E277-4C28-A474-DDA3069E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CE32-0B03-4AE2-89D4-D3526C5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18E-ED6A-4B60-88BC-B7298BDB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FE94-1176-44B1-B21E-CFC04A3E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0F0-485A-45A9-A3A6-A9F97729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9709-AE14-416D-A364-8695C428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CF7F-4D4E-4554-A403-03B6541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FD0-1779-40E9-9CB9-96575592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BDDC-8D26-4EB9-90B6-FA43BF5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F640-C1E2-4F91-97A2-F61ADCF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0266-99BA-48A2-89D4-C456B562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D94-E0C2-4607-8E3F-BB8787A4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CC80-AF5A-4F5A-8E45-077848C4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6D6-F6C2-4470-9AB5-C55E7DF5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E9E-9E60-4657-B42A-77E90053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C47-C19A-462E-BC6A-5E51B9D9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FD2-6054-4855-BF85-32CBAAC7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F20-2170-450C-96A2-8F72F428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BFB-B139-4A81-8E8B-CE35867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9EA-4695-4B76-83F9-7B04131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0DB-556A-4D7A-9E36-D38286AAC5EF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9076-62B9-459F-90AB-7AC978833621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scope.org/images/sleepy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hiterod.com/pics/com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838440"/>
          </a:xfrm>
          <a:prstGeom prst="rect">
            <a:avLst/>
          </a:prstGeom>
          <a:noFill/>
          <a:ln w="5724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4648320"/>
            <a:ext cx="7239240" cy="121896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109080" rIns="109080" tIns="65880" bIns="658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bd189"/>
                </a:solidFill>
                <a:latin typeface="Arial"/>
                <a:ea typeface="Arial"/>
              </a:rPr>
              <a:t>Cuantitativa : Vigilancia-Atención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1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stado norm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2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mnol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3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por superfic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4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por profun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5)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o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Estado norm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343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Vigil orientado temporoespaci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opera con el interroga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enguaje coherente y flu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61240" y="1676520"/>
            <a:ext cx="278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mnol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3809880" cy="2971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se halla semidormido, pero se logra despertar con rapidez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7656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superfici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3809880" cy="2743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 despierta a estímulos verbales más intens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med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3809880" cy="2743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 despierta a estímulos tact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profun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3809880" cy="31240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no despierta, solo responde a estímulos doloros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29200" y="230508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Co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259056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no despier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in respuestas 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ningún estímu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xterno ni interno.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325600"/>
            <a:ext cx="38098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04920"/>
            <a:ext cx="7696440" cy="6127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Se explora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)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Llamar por su nombre, respuesta a la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voz y su nomb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B)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Dictar órdenes verbales sencill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)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R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ealizar estímulos tácti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)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 E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stímulos dolorosos mediante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compresión de las mastoides o manubrio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estern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ESCALA DE GLASGOW</a:t>
            </a: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219320"/>
            <a:ext cx="6858000" cy="52045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PERTURA DE OJOS (Puntuación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Espontánea  (4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l habla  (3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l dolor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 (2 ptos)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 (1 pto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VERB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onversación orientada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(5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onversación no orientada  (4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Inapropiada  (3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Incomprensible  (2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 (1 pto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MOT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Obedece ordenes (6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Localiza el dolor  (5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tirada  (4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de decorticación (flexión)  (3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de descerebración (extensión)  (2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(1 pto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13 a 15 compromiso le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9 a 12 compromiso moderad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3 a 8 compromiso grave, se considera que esta en co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Orient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spaci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Tempor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ituacion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uede ser Primario o Secundar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eurológico =&gt; Estado de funciones ment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siquiatría =&gt; Contenidos y formas del pensamiento y los afecto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Orient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topsíqu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Halopsíquic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Conduc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decuad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git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lteraciones suéño-vigil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lucinaciones delirios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bd189"/>
                </a:solidFill>
                <a:latin typeface="Arial"/>
                <a:ea typeface="Arial"/>
              </a:rPr>
              <a:t>Cuantitativa : Autoreflexión y atención intrapsíquic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érdida de la capacidad normal de romper automatismos psicológ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vertir se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sta por 5 ve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eletreo inver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914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MEMOR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886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MEDIA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TO PLAZ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RGO PLAZ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189"/>
                </a:solidFill>
                <a:latin typeface="Arial"/>
              </a:rPr>
              <a:t>ABSTRACCIÓN Y JUICIO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UIC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BSTRACCIÓN 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EMEJANZ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FERENCI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ROVERBI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Personalidad y Hum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uidados Person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tancias Soci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nductas a Circunstanci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Funciones Encefálicas Superior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ENGUAJE: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FAS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CONOCIMIENTO :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GNOS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CUCIÓN DE MOVIMIENTOS:              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PRAX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Pseudopercepciones y Deliri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eidolias ( nube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lusiones (matorral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ucinación (percepción sin obje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19800" y="1676520"/>
            <a:ext cx="30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Pseudopercepciones y Deliri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lirio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nterpretación equivocada de una percep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dea alterada del ambiente o de uno mism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19800" y="1676520"/>
            <a:ext cx="30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895120"/>
            <a:ext cx="7772400" cy="1219320"/>
          </a:xfrm>
          <a:prstGeom prst="rect">
            <a:avLst/>
          </a:prstGeom>
          <a:noFill/>
          <a:ln w="5724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bd189"/>
                </a:solidFill>
                <a:latin typeface="Arial"/>
              </a:rPr>
              <a:t>GRACIA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nciencia y aten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mo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pacidad de abstracción y juic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unciones encefálicas superi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rsonalidad y hum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seudopercepciones y delirio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6094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“</a:t>
            </a:r>
            <a:r>
              <a:rPr b="0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e entiende por conciencia la capacidad de conocimiento de uno mismo y del ambiente que nos rodea”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Conciencia y Aten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decuada percepción del ambiente y de sí mism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“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arse  cuenta  adecuadamente “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2956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Arial"/>
              </a:rPr>
              <a:t>Alteraciones de conciencia no patológica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2666880" cy="3048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ueñ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p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arc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Alteración de conci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239240" cy="38098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rusca o paulat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ansitoria o perman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ve o profu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Conciencia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148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Cuantitativ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igila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ten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rient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185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2193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bd189"/>
                </a:solidFill>
                <a:latin typeface="Arial"/>
                <a:ea typeface="Arial"/>
              </a:rPr>
              <a:t>El estado de vigilia o alerta se mantiene a través del sistema reticular activador (SRA), y sus conexiones con los hemisferios cereb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9:59:57Z</dcterms:created>
  <dc:creator> </dc:creator>
  <dc:description/>
  <dc:language>en-US</dc:language>
  <cp:lastModifiedBy>Patricia</cp:lastModifiedBy>
  <dcterms:modified xsi:type="dcterms:W3CDTF">2009-07-31T17:19:34Z</dcterms:modified>
  <cp:revision>37</cp:revision>
  <dc:subject/>
  <dc:title>ESTADO MENTAL</dc:title>
</cp:coreProperties>
</file>