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67A-34C2-447D-9653-AE785597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71A-9C28-48EB-BA0E-FE48CFD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0B7-1F69-4596-BD27-0C058569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E3B-944B-4F02-A602-B16A7460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EA6-1DAB-47B7-A035-07AB6BB9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340A-5A40-481E-9B08-49426B8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20DA-9F65-40C5-A193-8F9CB30F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3407-0219-4DAD-B9DD-BAFA3A3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D76C-D7D7-4EE5-8379-7F3BF12B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B108-E94E-4965-83AA-4A1C5B01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FC7-4644-47B5-9555-18D56A9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CC6-247B-44DB-A858-B6113BA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6B84-4881-46A6-8466-AA452DA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D66-E0FF-4E66-9D0E-1DAD144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FD25-DA1F-4D59-903A-EC9F5E2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6C58-3EC7-4BF0-9DA7-2D4B98B0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7F8E-C396-4170-A953-6E921451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957-7F36-4DA6-B74F-D3C834C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5E5-C4EC-426B-9CD8-FF445581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C44-5C21-4C54-8C47-85843AF7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968-95F4-49E9-BDC8-11A77FC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F62-FB69-4E78-9187-13F6EA4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A48-AF39-450B-BBFC-69E8EF0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740-815B-413F-BC8F-6C96ED3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6049-B6AA-402C-8B88-6BD72C991DC4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3381-83F2-47B8-9A4F-02E8B9A23D32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scope.org/images/sleepy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hiterod.com/pics/com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83844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4648320"/>
            <a:ext cx="7239240" cy="12189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109080" rIns="109080" tIns="65880" bIns="658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bd189"/>
                </a:solidFill>
                <a:latin typeface="Arial"/>
                <a:ea typeface="Arial"/>
              </a:rPr>
              <a:t>Cuantitativa : Vigilancia-Atención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1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tado norm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2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mnol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3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superfi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4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profun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5)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o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tado norm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343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Vigil orientado temporoespaci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opera con el interroga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enguaje coherente y flu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61240" y="1676520"/>
            <a:ext cx="278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mnol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3809880" cy="2971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se halla semidormido, pero se logra despertar con rapidez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7656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superfici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verbales más intens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med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tact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profun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3809880" cy="31240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, solo responde a estímulos doloros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29200" y="230508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Co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25905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in respuestas 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ningún estímu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terno ni interno.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325600"/>
            <a:ext cx="38098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696440" cy="6127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Se explora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Llamar por su nombre, respuesta a la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voz y su nomb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B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Dictar órdenes verbales sencill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R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alizar estímulos táct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E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stímulos dolorosos mediante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compresión de las mastoides o manubrio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stern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CALA DE GLASGOW</a:t>
            </a: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219320"/>
            <a:ext cx="6858000" cy="52045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PERTURA DE OJOS (Puntuación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Espontáne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habl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dolor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 (2 ptos)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VERB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orientada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(5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no orientad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apropiad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comprensible  (2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MOT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Obedece ordenes (6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Localiza el dolor  (5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tirada  (4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corticación (flexión)  (3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scerebración (extensión)  (2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13 a 15 compromiso le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9 a 12 compromiso moderad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3 a 8 compromiso grave, se considera que esta en co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paci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Tempor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ituacion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uede ser Primario o Secundar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eurológico =&gt; Estado de funciones ment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iquiatría =&gt; Contenidos y formas del pensamiento y los afecto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topsíqu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Halopsíquic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Conduc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decuad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git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teraciones suéño-vigil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ucinaciones delirios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Cuantitativa : Autoreflexión y atención intrapsíquic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érdida de la capacidad normal de romper automatismos psicológ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vertir se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sta por 5 ve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eletreo inver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914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MEMOR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886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MEDIA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T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RG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189"/>
                </a:solidFill>
                <a:latin typeface="Arial"/>
              </a:rPr>
              <a:t>ABSTRACCIÓN Y JUICIO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BSTRACCIÓN 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EMEJANZ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FERENCI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OVERBI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Personalidad y Hum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uidados Person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tancias Soci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ductas a Circunstanc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Funciones Encefálicas Superior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ENGUAJE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FA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CONOCIMIENTO 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GNO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CUCIÓN DE MOVIMIENTOS:              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PRAX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eidolias ( nube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lusiones (matorral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ucinación (percepción sin obje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lirio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nterpretación equivocada de una percep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dea alterada del ambiente o de uno mism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895120"/>
            <a:ext cx="7772400" cy="121932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bd189"/>
                </a:solidFill>
                <a:latin typeface="Arial"/>
              </a:rPr>
              <a:t>GRACIA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ciencia y aten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mo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pacidad de abstracción y 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unciones encefálicas superi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rsonalidad y hum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eudopercepciones y delirio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6094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“</a:t>
            </a: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e entiende por conciencia la capacidad de conocimiento de uno mismo y del ambiente que nos rodea”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y Aten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decuada percepción del ambiente y de sí mism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“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arse  cuenta  adecuadamente “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2956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Arial"/>
              </a:rPr>
              <a:t>Alteraciones de conciencia no patológica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2666880" cy="3048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ueñ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p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arc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Alteración de conci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239240" cy="38098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rusca o paulat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ansitoria o perman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ve o profu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148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Cuantitativ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igila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ten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rient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185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2193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El estado de vigilia o alerta se mantiene a través del sistema reticular activador (SRA), y sus conexiones con los hemisferios cereb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9:59:57Z</dcterms:created>
  <dc:creator> </dc:creator>
  <dc:description/>
  <dc:language>en-US</dc:language>
  <cp:lastModifiedBy>Patricia</cp:lastModifiedBy>
  <dcterms:modified xsi:type="dcterms:W3CDTF">2009-07-31T17:19:34Z</dcterms:modified>
  <cp:revision>37</cp:revision>
  <dc:subject/>
  <dc:title>ESTADO MENTAL</dc:title>
</cp:coreProperties>
</file>