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ED7-D870-4F83-8721-9DD35A5F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6C3-67DE-44CA-A875-AD48A1A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9C54-A702-4542-8CD2-BC0BD213F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78D-EF92-43A7-B026-2B906FFF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C0DF-1479-4D74-A98F-352CACB4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6938-710C-4A5D-ACC8-8F95A0A7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B8A5-0E2E-4147-A147-1F891C78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D879-F084-4EE2-BA53-A6AF35D7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995A-1B8D-490C-8C0A-0B617E4A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9333-9E0A-4F86-A16D-253A0247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3519-3F68-4867-A462-1E49F81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67D-3BE7-4756-94AF-3626C2B7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B983-989C-49A1-BDF4-FB89C58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812F-DFA3-4EA6-844D-F96C84F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F5B9-35CC-40B8-9553-C43EBCC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D75D-0044-4ACE-ADBE-D88921EB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C301-0AF9-47F7-8AEF-6461AA22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A6EC-3382-42D7-A120-0580890E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D17A-0F08-4656-AC59-86A3593F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9FC-1E86-4A32-8C03-DD3700F4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58D7-1948-47D9-90F7-4AB2BE80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5CC-8945-44A8-AECF-61771AE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594-21D1-4BF1-9DCB-4A449E00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6AC-5E24-402F-BC15-2C4B2F81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7A9-3B91-4AA6-B037-BC5BBEB48DD4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6D14-898A-4C65-8CE1-5F906E82B7B3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iscope.org/images/sleepy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hiterod.com/pics/coma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838440"/>
          </a:xfrm>
          <a:prstGeom prst="rect">
            <a:avLst/>
          </a:prstGeom>
          <a:noFill/>
          <a:ln w="5724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523520" y="4648320"/>
            <a:ext cx="7239240" cy="121896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109080" rIns="109080" tIns="65880" bIns="658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ebd189"/>
                </a:solidFill>
                <a:latin typeface="Arial"/>
                <a:ea typeface="Arial"/>
              </a:rPr>
              <a:t>Cuantitativa : Vigilancia-Atención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1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stado norm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2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mnole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3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por superfici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4)</a:t>
            </a:r>
            <a:r>
              <a:rPr b="0" lang="es-CL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opor profun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5)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1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Co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Estado norm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4343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Vigil orientado temporoespaci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opera con el interrogato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enguaje coherente y flu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61240" y="1676520"/>
            <a:ext cx="2782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mnol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3809880" cy="2971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se halla semidormido, pero se logra despertar con rapidez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176560"/>
            <a:ext cx="3809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superfici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3809880" cy="2743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 despierta a estímulos verbales más intens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medi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361960" y="2286000"/>
            <a:ext cx="3809880" cy="2743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 despierta a estímulos tactil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opor profund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3809880" cy="31240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no despierta, solo responde a estímulos doloros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029200" y="230508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Com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259056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Paciente no despier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sin respuestas 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ningún estímu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externo ni interno.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325600"/>
            <a:ext cx="38098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38080" y="304920"/>
            <a:ext cx="7696440" cy="6127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Se explora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)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Llamar por su nombre, respuesta a la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voz y su nomb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B)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Dictar órdenes verbales sencill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)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R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ealizar estímulos tácti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)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 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  E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stímulos dolorosos mediante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compresión de las mastoides o manubrio 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  <a:ea typeface="Arial"/>
              </a:rPr>
              <a:t>estern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ESCALA DE GLASGOW</a:t>
            </a: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219320"/>
            <a:ext cx="6858000" cy="52045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PERTURA DE OJOS (Puntuación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Espontánea  (4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l habla  (3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l dolor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 (2 ptos)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 (1 pto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VERB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onversación orientada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(5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Conversación no orientada  (4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Inapropiada  (3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Incomprensible  (2 ptos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 (1 pto.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MOTOR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Obedece ordenes (6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Localiza el dolor  (5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tirada  (4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de decorticación (flexión)  (3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Respuesta de descerebración (extensión)  (2 ptos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Ausente (1 pto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13 a 15 compromiso le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9 a 12 compromiso moderad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Puntaje 3 a 8 compromiso grave, se considera que esta en co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928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Orient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Espaci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Tempor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ituaciona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uede ser Primario o Secundar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eurológico =&gt; Estado de funciones ment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siquiatría =&gt; Contenidos y formas del pensamiento y los afectos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Orienta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topsíquic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Halopsíquic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bd189"/>
                </a:solidFill>
                <a:latin typeface="Arial"/>
                <a:ea typeface="Arial"/>
              </a:rPr>
              <a:t>Cuantitativa : Conduc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decuad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git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lteraciones suéño-vigil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lucinaciones delirios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2952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ebd189"/>
                </a:solidFill>
                <a:latin typeface="Arial"/>
                <a:ea typeface="Arial"/>
              </a:rPr>
              <a:t>Cuantitativa : Autoreflexión y atención intrapsíquica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200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érdida de la capacidad normal de romper automatismos psicológic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Invertir ser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Resta por 5 ve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Deletreo invers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9144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MEMOR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8862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NMEDIAT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RTO PLAZ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RGO PLAZ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84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bd189"/>
                </a:solidFill>
                <a:latin typeface="Arial"/>
              </a:rPr>
              <a:t>ABSTRACCIÓN Y JUICIO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UIC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BSTRACCIÓN 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SEMEJANZ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DIFERENCIA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PROVERBI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Personalidad y Humo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uidados Person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stancias Soci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nductas a Circunstanci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Funciones Encefálicas Superiore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ENGUAJE: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FAS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CONOCIMIENTO : 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GNOS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CUCIÓN DE MOVIMIENTOS:                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APRAXI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Pseudopercepciones y Delirio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raeidolias ( nubes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lusiones (matorral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lucinación (percepción sin obje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19800" y="1676520"/>
            <a:ext cx="30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bd189"/>
                </a:solidFill>
                <a:latin typeface="Arial"/>
              </a:rPr>
              <a:t>Pseudopercepciones y Delirios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426708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lirios 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nterpretación equivocada de una percepció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dea alterada del ambiente o de uno mism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19800" y="1676520"/>
            <a:ext cx="302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895120"/>
            <a:ext cx="7772400" cy="1219320"/>
          </a:xfrm>
          <a:prstGeom prst="rect">
            <a:avLst/>
          </a:prstGeom>
          <a:noFill/>
          <a:ln w="5724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bd189"/>
                </a:solidFill>
                <a:latin typeface="Arial"/>
              </a:rPr>
              <a:t>GRACIAS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Examen Menta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nciencia y aten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Memori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pacidad de abstracción y juici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Funciones encefálicas superior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ersonalidad y humo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seudopercepciones y delirio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60948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“</a:t>
            </a:r>
            <a:r>
              <a:rPr b="0" lang="es-CL" sz="4400" spc="-1" strike="noStrike">
                <a:solidFill>
                  <a:srgbClr val="ebd189"/>
                </a:solidFill>
                <a:latin typeface="Arial"/>
                <a:ea typeface="Times New Roman"/>
              </a:rPr>
              <a:t>Se entiende por conciencia la capacidad de conocimiento de uno mismo y del ambiente que nos rodea”</a:t>
            </a: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342900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685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Conciencia y Aten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decuada percepción del ambiente y de sí mismo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“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arse  cuenta  adecuadamente “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848360" cy="129564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bd189"/>
                </a:solidFill>
                <a:latin typeface="Arial"/>
              </a:rPr>
              <a:t>Alteraciones de conciencia no patológicas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2666880" cy="3048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ueñ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ipn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arcosi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380988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bd189"/>
                </a:solidFill>
                <a:latin typeface="Arial"/>
              </a:rPr>
              <a:t>Alteración de concie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239240" cy="380988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Brusca o paulat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Transitoria o perman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ve o profu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Conciencia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4114800" cy="4114800"/>
          </a:xfrm>
          <a:prstGeom prst="rect">
            <a:avLst/>
          </a:prstGeom>
          <a:noFill/>
          <a:ln w="38160">
            <a:solidFill>
              <a:srgbClr val="f0efe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eaea"/>
                </a:solidFill>
                <a:latin typeface="Arial"/>
              </a:rPr>
              <a:t>Cuantitativo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Vigilanc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Aten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Orient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185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21932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ebd189"/>
                </a:solidFill>
                <a:latin typeface="Arial"/>
                <a:ea typeface="Arial"/>
              </a:rPr>
              <a:t>El estado de vigilia o alerta se mantiene a través del sistema reticular activador (SRA), y sus conexiones con los hemisferios cerebral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718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9:59:57Z</dcterms:created>
  <dc:creator> </dc:creator>
  <dc:description/>
  <dc:language>en-US</dc:language>
  <cp:lastModifiedBy>Patricia</cp:lastModifiedBy>
  <dcterms:modified xsi:type="dcterms:W3CDTF">2009-07-31T17:19:34Z</dcterms:modified>
  <cp:revision>37</cp:revision>
  <dc:subject/>
  <dc:title>ESTADO MENTAL</dc:title>
</cp:coreProperties>
</file>