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8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14.jpeg" ContentType="image/jpeg"/>
  <Override PartName="/ppt/media/image39.gif" ContentType="image/gif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D8A-9579-424B-8B15-DCD7A969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B20-F08B-4467-9CC7-7D52841E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B8D-D737-4C2E-98B3-6E1DAE62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D33-5EAD-48D1-8BC0-5BD654DD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346-B24A-4992-97F4-853B4AFD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694-B97F-44B7-BBE2-7393777A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6A4-100F-4413-ABF3-F5CDDCB3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C51-475B-4D4C-A3A0-0DC6C42D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431-0962-40B3-B483-915D8206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7C5-6DFF-41A9-A869-682DF1CE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259-8D83-4863-B6EA-61323ACF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7F3-F282-49BA-8D7F-5BDECC8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B706-C677-4992-AA04-EC8FB7357520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EN FISIC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4754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103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54360" y="404640"/>
            <a:ext cx="36781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40240" y="2148120"/>
            <a:ext cx="747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CI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PR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sedowi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ust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xedemat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ranqu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trál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Ans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ocrá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Quejumbr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úp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Verborre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quéc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A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Caracterís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Hiperat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101" b="0"/>
          <a:stretch/>
        </p:blipFill>
        <p:spPr>
          <a:xfrm>
            <a:off x="2971800" y="1143000"/>
            <a:ext cx="36846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902" t="1613" r="3804" b="3227"/>
          <a:stretch/>
        </p:blipFill>
        <p:spPr>
          <a:xfrm>
            <a:off x="2666880" y="1219320"/>
            <a:ext cx="4462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4724" t="0" r="0" b="0"/>
          <a:stretch/>
        </p:blipFill>
        <p:spPr>
          <a:xfrm>
            <a:off x="2362320" y="1066680"/>
            <a:ext cx="4960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3997" b="1469"/>
          <a:stretch/>
        </p:blipFill>
        <p:spPr>
          <a:xfrm>
            <a:off x="2971800" y="1066680"/>
            <a:ext cx="3886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692360" y="476280"/>
          <a:ext cx="558144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76280"/>
                    <a:ext cx="558144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9649" t="0" r="0" b="8711"/>
          <a:stretch/>
        </p:blipFill>
        <p:spPr>
          <a:xfrm>
            <a:off x="2666880" y="1523880"/>
            <a:ext cx="43833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1170360"/>
            <a:ext cx="68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AMEN FISIC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sición y Decú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ctitud y Deamb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ies y expresión de la fis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on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titución y estado nu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iel y Fanér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Linf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res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ecuenci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8000" y="1411200"/>
            <a:ext cx="6904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ia – obnubilación – sopor – 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ientación : temporal – espa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72720" y="286560"/>
            <a:ext cx="36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ESTADO NU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5040" y="906840"/>
            <a:ext cx="68360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empre debe consignar : peso – talla – índice de masa corp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C = peso (kg.)/ tall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mt.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04200" y="2782080"/>
            <a:ext cx="6897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omor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tomorf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domor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ngiline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i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 Quijote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“Sancho Panz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decu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Ob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Sobrep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snutr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laqu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6598" t="0" r="0" b="4233"/>
          <a:stretch/>
        </p:blipFill>
        <p:spPr>
          <a:xfrm>
            <a:off x="3276720" y="1295280"/>
            <a:ext cx="327492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853" t="810" r="0" b="0"/>
          <a:stretch/>
        </p:blipFill>
        <p:spPr>
          <a:xfrm>
            <a:off x="2514600" y="1066680"/>
            <a:ext cx="4595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12840" y="380880"/>
            <a:ext cx="491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1694160"/>
            <a:ext cx="70041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I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- color : rosada – pálida – cianó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b.- Temperatura : tibia – fría – ca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- Turgor : conservado - dismin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d.- Elast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- Humedad : seca - hiperhid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f.- Lesiones ele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iones ele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L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ON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D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SI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UST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QU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527040"/>
            <a:ext cx="59770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603360"/>
            <a:ext cx="8064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590400"/>
            <a:ext cx="80661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1496520"/>
            <a:ext cx="63374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OSICION Y DECUB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dorsal-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- Decúbito dorsal- qu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latera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- Decúbito dorsal semisentado - ortopne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dorsal “en gatillo” - qu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- Decúbito dorsal “en opistóton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ventral “en rezo mahometa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L Y FANER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Ñ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971640" y="1027080"/>
          <a:ext cx="756108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27080"/>
                    <a:ext cx="756108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332000" y="689040"/>
          <a:ext cx="684036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89040"/>
                    <a:ext cx="684036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95280" y="765000"/>
          <a:ext cx="558000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558000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80000" y="3789360"/>
          <a:ext cx="479736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789360"/>
                    <a:ext cx="47973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03640" y="333360"/>
          <a:ext cx="557352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33360"/>
                    <a:ext cx="557352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71640" y="3500280"/>
          <a:ext cx="5159160" cy="261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00280"/>
                    <a:ext cx="515916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4400" y="1554840"/>
            <a:ext cx="857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STEMA LINF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UNICO? MULTI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Ub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raclavicular izquierdo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uinales b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2) Diámetro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ás o menos 3 cms.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ás o menos 1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nsistenci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Du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tre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ás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4) Adherido a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i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. Prof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ensi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Indolor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Sen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6) Piel local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in cambios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ritematosa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in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44840" y="620640"/>
            <a:ext cx="4003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28760" y="981000"/>
            <a:ext cx="4757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720" y="2833560"/>
            <a:ext cx="77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6,8ºC axilar derecha, con axila seca, examinador presente (9:30 hrs. 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8,2ª axilar izquierda, axila seca, examinador presente (18:00 h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28480"/>
            <a:ext cx="70866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37920" y="2408400"/>
            <a:ext cx="7867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U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aminar SIEMPRE en un minuto (y no en 15 segundos y multiplicar por 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aminar radiales, inguinales poplíteos, tibiales post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ACTERISTICAS DEL PU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1111320"/>
            <a:ext cx="75596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390600"/>
            <a:ext cx="633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14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SO , característic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ULA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L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ION DE LA 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768320"/>
            <a:ext cx="81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  PRESIO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.- Téc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- Valores N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.- Descrip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600" spc="-1" strike="noStrike">
                <a:solidFill>
                  <a:srgbClr val="0000ff"/>
                </a:solidFill>
                <a:latin typeface="Arial"/>
              </a:rPr>
              <a:t>130 / 85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mmHg, </a:t>
            </a:r>
            <a:r>
              <a:rPr b="0" lang="es-ES" sz="3600" spc="-1" strike="noStrike">
                <a:solidFill>
                  <a:srgbClr val="0000ff"/>
                </a:solidFill>
                <a:latin typeface="Arial"/>
              </a:rPr>
              <a:t>humeral derech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en decúbito do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25520"/>
            <a:ext cx="6624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338040"/>
            <a:ext cx="3600360" cy="278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81640" y="1052640"/>
            <a:ext cx="3579840" cy="374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28558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2920" y="1037160"/>
            <a:ext cx="6481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 FRECUENCIA RESPIRATO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un min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s de patrones re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dó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eyne St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néu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228600"/>
            <a:ext cx="68407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22047"/>
          <a:stretch/>
        </p:blipFill>
        <p:spPr>
          <a:xfrm>
            <a:off x="826920" y="993600"/>
            <a:ext cx="72741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73440" y="739440"/>
            <a:ext cx="346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REALIC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EN FISICO,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CHA Y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QUE LO REALIZ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9100" descr=""/>
          <p:cNvPicPr/>
          <p:nvPr/>
        </p:nvPicPr>
        <p:blipFill>
          <a:blip r:embed="rId1"/>
          <a:stretch/>
        </p:blipFill>
        <p:spPr>
          <a:xfrm>
            <a:off x="3708360" y="2781360"/>
            <a:ext cx="1143000" cy="127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13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j028305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4508640"/>
            <a:ext cx="14576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5480" y="380880"/>
            <a:ext cx="5087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414"/>
          <a:stretch/>
        </p:blipFill>
        <p:spPr>
          <a:xfrm>
            <a:off x="900000" y="1916280"/>
            <a:ext cx="7742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346400"/>
            <a:ext cx="816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CTITU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( Como se pone de pié frente al examinador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librado – oscilante – inestable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AMBU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be línea recta, paso firme, braceo coord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aud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“segad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Deambula con tronco inclinado hacia adelante, en punta de pies, a pequeños pasos, con velocidad  “In crescendo” y detención abrup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a la base de sustentación, brazos abiertos, describe línea Zig – Z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Claudicante, necesita elemento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724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9:59:24Z</dcterms:created>
  <dc:creator> Esteban Cortés Sedano</dc:creator>
  <dc:description/>
  <dc:language>en-US</dc:language>
  <cp:lastModifiedBy>Patricia</cp:lastModifiedBy>
  <dcterms:modified xsi:type="dcterms:W3CDTF">2009-07-31T17:19:56Z</dcterms:modified>
  <cp:revision>2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0823564</vt:r8>
  </property>
  <property fmtid="{D5CDD505-2E9C-101B-9397-08002B2CF9AE}" pid="3" name="_AuthorEmail">
    <vt:lpwstr>sedano@vtr.net</vt:lpwstr>
  </property>
  <property fmtid="{D5CDD505-2E9C-101B-9397-08002B2CF9AE}" pid="4" name="_AuthorEmailDisplayName">
    <vt:lpwstr>esteban cortes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