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6.png" ContentType="image/png"/>
  <Override PartName="/ppt/media/image10.jpeg" ContentType="image/jpeg"/>
  <Override PartName="/ppt/media/image8.jpeg" ContentType="image/jpeg"/>
  <Override PartName="/ppt/media/image13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8.gif" ContentType="image/gif"/>
  <Override PartName="/ppt/media/image5.jpeg" ContentType="image/jpeg"/>
  <Override PartName="/ppt/media/image4.jpeg" ContentType="image/jpeg"/>
  <Override PartName="/ppt/media/image25.png" ContentType="image/png"/>
  <Override PartName="/ppt/media/image36.jpeg" ContentType="image/jpeg"/>
  <Override PartName="/ppt/media/image2.jpeg" ContentType="image/jpeg"/>
  <Override PartName="/ppt/media/image14.jpeg" ContentType="image/jpeg"/>
  <Override PartName="/ppt/media/image39.gif" ContentType="image/gif"/>
  <Override PartName="/ppt/media/image16.jpeg" ContentType="image/jpeg"/>
  <Override PartName="/ppt/media/image1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9316-37F2-46B8-9D6E-1B90C05D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596F-535C-4048-BEF9-0DB66984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3795-32EA-4686-A4AB-0917C3AF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7688-EF02-4F4D-A980-B2647A98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AE0C-A382-4CDE-8C25-8A14C580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265E-D890-4203-AAFF-B5AF6261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A998-4138-4E02-9F5B-7AAF7B20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D02-983E-4899-907A-7D040D5E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B402-E89C-4B8B-B26B-EC0E14F3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9EC8-9EEF-47E3-B897-0DE57977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8ED9-FAB2-4FB8-B632-E081D492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6816-AF5B-4099-89A5-C26D17D1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ADDC-B670-4F92-8B0A-C7254D10573C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EN FISICO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4754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56000" y="1197000"/>
            <a:ext cx="41036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54360" y="404640"/>
            <a:ext cx="36781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40240" y="2148120"/>
            <a:ext cx="7476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-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ACI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XPR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sedowia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gusti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xedemato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ranqu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trál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Ans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ipocrát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Quejumbr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úp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Verborre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quéct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Ap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Característ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Hiperat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dife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8101" b="0"/>
          <a:stretch/>
        </p:blipFill>
        <p:spPr>
          <a:xfrm>
            <a:off x="2971800" y="1143000"/>
            <a:ext cx="36846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1902" t="1613" r="3804" b="3227"/>
          <a:stretch/>
        </p:blipFill>
        <p:spPr>
          <a:xfrm>
            <a:off x="2666880" y="1219320"/>
            <a:ext cx="4462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4724" t="0" r="0" b="0"/>
          <a:stretch/>
        </p:blipFill>
        <p:spPr>
          <a:xfrm>
            <a:off x="2362320" y="1066680"/>
            <a:ext cx="49608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3997" b="1469"/>
          <a:stretch/>
        </p:blipFill>
        <p:spPr>
          <a:xfrm>
            <a:off x="2971800" y="1066680"/>
            <a:ext cx="3886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692360" y="476280"/>
          <a:ext cx="558144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476280"/>
                    <a:ext cx="558144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9649" t="0" r="0" b="8711"/>
          <a:stretch/>
        </p:blipFill>
        <p:spPr>
          <a:xfrm>
            <a:off x="2666880" y="1523880"/>
            <a:ext cx="438336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42920" y="1170360"/>
            <a:ext cx="684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XAMEN FISICO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sición y Decúb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Actitud y Deamb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cies y expresión de la fis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Conc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stitución y estado nutr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Piel y Fanér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stema Linf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u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Presión 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recuencia respi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88000" y="1411200"/>
            <a:ext cx="69044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C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gilia – obnubilación – sopor – c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rientación : temporal – espa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772720" y="286560"/>
            <a:ext cx="36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5.- ESTADO NUTR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65040" y="906840"/>
            <a:ext cx="68360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empre debe consignar : peso – talla – índice de masa corp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MC = peso (kg.)/ tall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(mt.)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04200" y="2782080"/>
            <a:ext cx="6897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somor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ctomorf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domor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ngiline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Pic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 Quijote”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“Sancho Panz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Adecu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Ob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Sobrep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esnutr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flaque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6598" t="0" r="0" b="4233"/>
          <a:stretch/>
        </p:blipFill>
        <p:spPr>
          <a:xfrm>
            <a:off x="3276720" y="1295280"/>
            <a:ext cx="327492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2853" t="810" r="0" b="0"/>
          <a:stretch/>
        </p:blipFill>
        <p:spPr>
          <a:xfrm>
            <a:off x="2514600" y="1066680"/>
            <a:ext cx="45957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12840" y="380880"/>
            <a:ext cx="49197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42920" y="1694160"/>
            <a:ext cx="700416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6.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IE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.- color : rosada – pálida – cianó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b.- Temperatura : tibia – fría – cal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.- Turgor : conservado - disminuí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d.- Elasti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.- Humedad : seca - hiperhidr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f.- Lesiones ele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iones elemen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C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AP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LA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ON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NOD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ESIC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UST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U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QUI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19280" y="527040"/>
            <a:ext cx="597708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603360"/>
            <a:ext cx="806436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6920" y="590400"/>
            <a:ext cx="806616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58920" y="1496520"/>
            <a:ext cx="63374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POSICION Y DECUB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Decúbito dorsal-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- Decúbito dorsal- qui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Decúbito lateral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- Decúbito dorsal semisentado - ortopne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Decúbito dorsal “en gatillo” - qui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- Decúbito dorsal “en opistóton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Decúbito ventral “en rezo mahometan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EL Y FANER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Ñ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EL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971640" y="1027080"/>
          <a:ext cx="7561080" cy="45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27080"/>
                    <a:ext cx="756108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332000" y="689040"/>
          <a:ext cx="6840360" cy="52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689040"/>
                    <a:ext cx="6840360" cy="52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95280" y="765000"/>
          <a:ext cx="558000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65000"/>
                    <a:ext cx="558000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780000" y="3789360"/>
          <a:ext cx="4797360" cy="22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3789360"/>
                    <a:ext cx="479736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3203640" y="333360"/>
          <a:ext cx="5573520" cy="30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33360"/>
                    <a:ext cx="5573520" cy="30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971640" y="3500280"/>
          <a:ext cx="5159160" cy="261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500280"/>
                    <a:ext cx="5159160" cy="26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4400" y="1554840"/>
            <a:ext cx="8574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7.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ISTEMA LINFA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UNICO? MULTIP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) Ubic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raclavicular izquierdo 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guinales bilat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2) Diámetro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Más o menos 3 cms.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Más o menos 1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) Consistenci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Dur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étre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ást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4) Adherido a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Si 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p. Prof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) Sensibil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Indolor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Sensibl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6) Piel local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Sin cambios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ritematosa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Sin cam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44840" y="620640"/>
            <a:ext cx="40035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28760" y="981000"/>
            <a:ext cx="47577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11720" y="2833560"/>
            <a:ext cx="772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.-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6,8ºC axilar derecha, con axila seca, examinador presente (9:30 hrs. 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8,2ª axilar izquierda, axila seca, examinador presente (18:00 hr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528480"/>
            <a:ext cx="708660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37920" y="2408400"/>
            <a:ext cx="78678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9.-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U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aminar SIEMPRE en un minuto (y no en 15 segundos y multiplicar por 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aminar radiales, inguinales poplíteos, tibiales posteri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RACTERISTICAS DEL PU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00000" y="1111320"/>
            <a:ext cx="755964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390600"/>
            <a:ext cx="633744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4514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LSO , característic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ULA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L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ION DE LA 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LIT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ET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00" y="1768320"/>
            <a:ext cx="810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0.-   PRESION 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.- Técn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.- Valores Norm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.- Descrip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3600" spc="-1" strike="noStrike">
                <a:solidFill>
                  <a:srgbClr val="0000ff"/>
                </a:solidFill>
                <a:latin typeface="Arial"/>
              </a:rPr>
              <a:t>130 / 85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mmHg, </a:t>
            </a:r>
            <a:r>
              <a:rPr b="0" lang="es-ES" sz="3600" spc="-1" strike="noStrike">
                <a:solidFill>
                  <a:srgbClr val="0000ff"/>
                </a:solidFill>
                <a:latin typeface="Arial"/>
              </a:rPr>
              <a:t>humeral derecha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, en decúbito dor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32000" y="425520"/>
            <a:ext cx="662472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338040"/>
            <a:ext cx="3600360" cy="2789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481640" y="1052640"/>
            <a:ext cx="3579840" cy="3744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627280" y="3284640"/>
            <a:ext cx="285588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42920" y="1037160"/>
            <a:ext cx="6481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1.- FRECUENCIA RESPIRATOR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 un min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pos de patrones res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idó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heyne Sto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néu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87280" y="228600"/>
            <a:ext cx="684072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22047"/>
          <a:stretch/>
        </p:blipFill>
        <p:spPr>
          <a:xfrm>
            <a:off x="826920" y="993600"/>
            <a:ext cx="727416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773440" y="739440"/>
            <a:ext cx="3469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REALICE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AMEN FISICO, SIEM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ECHA Y H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 QUE LO REALIZ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j0219100" descr=""/>
          <p:cNvPicPr/>
          <p:nvPr/>
        </p:nvPicPr>
        <p:blipFill>
          <a:blip r:embed="rId1"/>
          <a:stretch/>
        </p:blipFill>
        <p:spPr>
          <a:xfrm>
            <a:off x="3708360" y="2781360"/>
            <a:ext cx="1143000" cy="1276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413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j028305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364000" y="4508640"/>
            <a:ext cx="14576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5480" y="380880"/>
            <a:ext cx="50878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2414"/>
          <a:stretch/>
        </p:blipFill>
        <p:spPr>
          <a:xfrm>
            <a:off x="900000" y="1916280"/>
            <a:ext cx="77425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1346400"/>
            <a:ext cx="8164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ACTITU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( Como se pone de pié frente al examinador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librado – oscilante – inestable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AMBUL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cribe línea recta, paso firme, braceo coordi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audic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“segad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Deambula con tronco inclinado hacia adelante, en punta de pies, a pequeños pasos, con velocidad  “In crescendo” y detención abrup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umenta la base de sustentación, brazos abiertos, describe línea Zig – Za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Claudicante, necesita elementos de apoy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4724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9:59:24Z</dcterms:created>
  <dc:creator> Esteban Cortés Sedano</dc:creator>
  <dc:description/>
  <dc:language>en-US</dc:language>
  <cp:lastModifiedBy>Patricia</cp:lastModifiedBy>
  <dcterms:modified xsi:type="dcterms:W3CDTF">2009-07-31T17:19:56Z</dcterms:modified>
  <cp:revision>2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30823564</vt:r8>
  </property>
  <property fmtid="{D5CDD505-2E9C-101B-9397-08002B2CF9AE}" pid="3" name="_AuthorEmail">
    <vt:lpwstr>sedano@vtr.net</vt:lpwstr>
  </property>
  <property fmtid="{D5CDD505-2E9C-101B-9397-08002B2CF9AE}" pid="4" name="_AuthorEmailDisplayName">
    <vt:lpwstr>esteban cortes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