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19F-81A9-48C3-8EF1-0BD232C6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716-EE43-470E-9012-8F30B9BE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16A-284C-4DB8-A1B1-FB0CC9DB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39D-36C3-4E58-89DE-C39D43CB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4DC-C44B-4399-95D5-5DFF87C1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39C-6867-4941-AC10-F254BD92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3C0-5D19-4294-85CA-620B56AF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14E-5AF6-4B7B-AB92-78EE9C8B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3EF-0CA6-4055-B19C-4ADAA892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8E4-438E-46A3-AC4B-80645508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2EE-C63D-4CC5-9F59-7173A94E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FDE-9E62-4F24-8AE7-D9F877BD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2E68-C2AE-4895-9C83-AA22013DBC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I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8920" y="4220640"/>
            <a:ext cx="52578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so de Introducción a la clí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I año de Medic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Fase Explorativ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blecer una relación terapéutica capaz de proporcionar empatía, calidez, respeto y eficacia en la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r y clarificar el motivo de consu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tener los datos necesarios para establecer la naturaleza del problema, las creencias y las expectativas del pa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ientar y ejecutar el examen fí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aborar y sintetizar la informa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écnicas para obtener informa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 comienz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eguntas amplias, abi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 aclar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pecificación, generalización revisión de síntomas, resu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 conduc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tinuación, hacer eco, redirig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ocer el síntom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r característic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icación o l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di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o cará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ación o forma de comien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desencadenantes y/o atenu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ción y evolu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ario y period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tud del pac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íntomas acompañ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xamen físic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uid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dor del pac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r atento a la principal preocup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explorar mucho un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sar par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tener información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j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rm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r confia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quili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nos entre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gnos para el probl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gnos de enfermedades asinto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l terapeú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ase Resolut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mitir al paciente una información derivada de la anamnesis y/o ex. físico, logrando que esta información sea recibida con impacto emo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artir con el paciente un plan de acción, ya sea diagnóstico o terapé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grar el cumplimiento de las medidas prop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gociar o persua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r la comprensión de las instrucciones proporcion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ier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ar y confirmar el con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ación final y segu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ed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evista Clín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ficultades para planificar las metas de la entrevista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stereotipo que el profesional tiene de cada paciente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ejo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tir metas asisten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er presente abanico expl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pectos cualitativos de una relación asisten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li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at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p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re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ertiv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MENSION SOCIAL Y HUM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revedad del encue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iveles de reciproc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luencia del ento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dicionantes externos de la Entrevis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ta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bre carga asist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so de la burocra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el vehículo central de la atención méd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termina la exactitud de los datos recolectados y la calidad de la relación con el pa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álisis de la comunicación no verb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riencia fís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G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Expresiones faci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Mi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lengua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Importa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ceso Diagnóstico ( 60 -8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herencia al tra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tisfacción del médico y pa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844640"/>
          <a:ext cx="8229600" cy="3925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lidad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ci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c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268280"/>
          <a:ext cx="8229600" cy="5405400"/>
        </p:xfrm>
        <a:graphic>
          <a:graphicData uri="http://schemas.openxmlformats.org/drawingml/2006/table">
            <a:tbl>
              <a:tblPr/>
              <a:tblGrid>
                <a:gridCol w="1366920"/>
                <a:gridCol w="5041800"/>
                <a:gridCol w="1820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lidad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ci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e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percepción de los problemas del paci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tim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r desde la experi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tetiz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i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ucha reflex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Mutu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e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raderí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interferenc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terpre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estre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 clima de aceptación mutu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2276640"/>
          <a:ext cx="8229600" cy="2867040"/>
        </p:xfrm>
        <a:graphic>
          <a:graphicData uri="http://schemas.openxmlformats.org/drawingml/2006/table">
            <a:tbl>
              <a:tblPr/>
              <a:tblGrid>
                <a:gridCol w="1666800"/>
                <a:gridCol w="3819600"/>
                <a:gridCol w="2743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lidad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d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un acue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r al paci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ar conoc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ci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ci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Funciones bás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olección de información para comprender el problema del paciente y llegar al diagnó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arrollo de una relación personal y comprensión empática de las emociones del paci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ducación, negociación y motivación del paciente para lograr su adherencia al tratami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tapas de la 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er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te central o Cuerpo: Fase Explorativa y Fase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ier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pertur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visión de anteced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mbiente fí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omod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mostración de inte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posición de aten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4:21:47Z</dcterms:created>
  <dc:creator>Dirmed</dc:creator>
  <dc:description/>
  <dc:language>en-US</dc:language>
  <cp:lastModifiedBy>Patricia</cp:lastModifiedBy>
  <dcterms:modified xsi:type="dcterms:W3CDTF">2009-07-31T17:18:43Z</dcterms:modified>
  <cp:revision>15</cp:revision>
  <dc:subject/>
  <dc:title>ENTREVISTA CLINICA </dc:title>
</cp:coreProperties>
</file>