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A8C-66E3-4D1E-BE92-A64105C3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55A-487C-41E3-989B-E30D269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305-AA3B-49F7-A302-A13D076D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6BB-21C1-47D1-9B40-CA3C99D4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A2E-0BEF-4897-AF1B-208CE782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1F5-43F3-466C-9F33-6E8FC1D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37C-3E74-45CA-B5FD-668A521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5AA-06E4-4915-98B9-EECEE8DD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BF0-1435-49F4-86D4-C015622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C15-00A0-4D5E-A6E1-F488952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C07-674B-43CD-96F8-857C405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E74-6F6A-494B-A21D-BD01852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F2A-76D1-4BB7-99BD-7A7F83E593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RODUCCIÓN A LA CLÍNICA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cha clínica y Gen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HISTORIA CLI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TENER SOLO DATOS CONF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O OMITIR INFORMACION U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ONC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JETIVA ( evitar interpreta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Anamnesis Remota</a:t>
            </a:r>
            <a:br>
              <a:rPr sz="4000"/>
            </a:b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eguir orden cro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odo tipo de enfermedades previas: enfermedades propias de la infancia, asma, alergias, neumonías, pleuresía, amigdalitis, infecciones del tracto urinario, exposición a T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 espe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BC, ER, hipertensión arterial, cardiopatía coronaria, AVE, DM, enfermedad péptica, cáncer, dislipidemia, hepatitis, cirrosis, obesidad, mesenquimopatía, coleliti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quirúrg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numerar,  toda intervención puede o es import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tecedentes traumático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TEC, traumat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ospitalizaciones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: Causa, lugar, a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Antecedentes Gineco-obstétrico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narquia, Ciclos menstruales, Menopau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ínto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mbarazos 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rtos 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bortos A: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es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étodos anticoncep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nticonceptivos orales Ao,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Dispositivos intra uterinos DIU, o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ontrol Ginec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AP, Mamografía, Desintometría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jercicios: frecuencia,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bac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comienzo, cronología, Nº diario años de ingesta, tra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coho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inicio, cantidad, tipo de bebida, primera embriaguez, frecuencia, dependencia, años de ingesta, tratamien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ogas lícitas, ilícita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Tipo, inicio, frecuencia, dependencia, tratamientos, hospital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ármaco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especificar, ahora, 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áb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ié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osiciones: frecuencia diaria, semanal (uso de laxant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ina: características, Frecuencia diurna, noctu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mentación: completa, incompleta, intoler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cio – Económico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vienda y sane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námic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co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Anamnesis Remota Familiar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ma, Alergias, Mesenquimopatías, Tuberculosis, Hipertensión arterial, Cardiopatía Coronaria, AVE, Diabetes Mellitus, Obesidad, Enfermedad péptica, Cáncer, Litiasis, Dislipidemias, Antecedentes Psiquiátricos, Alcoholismo, Tabaquismo, droga-adicción, otros. Alzheimer, enfermedades neurológicas, glauc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gistro de la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Historia Clínica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la bitácora de la observación evolutiva día a día con que el médico construye el diagnóstico, rememora eventos y correlaciona hech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 Sus 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o clínico de ayuda en un enfoque familiar de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 información de la familia del paciente en el proceso de aclaración del problema del paciente, con una mejor a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tilidad de Genogram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bio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depresión, abusos de sustancias, quejas somáticas múltiples. Falta de coope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pectos psicosoc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storia de abuso físico, emocional,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. comportamiento en inf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difícil en el ciclo v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pectos Médico paci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ente enojado o demandante, paciente con antipatía al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GRAMA O ARBOL FAMILI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fácilm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familiar médica y social de los pa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ar la compresión sobre la probl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 una descripción inmediata del contexto en la cual ocu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273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dos afecta su familia de origen: genes, mitos patrones de salud enferm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ecanismos pueden ser genéticos, sociales, deliberados o inconci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 famili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 los guiones familiares que se pueden desarrollar en gen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observación de las diferentes personas es posible EXAMINAR Y CUESTIONAR alguna de las creencias o fantasías que causan problemas a nuestros pa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 comparado con: Instrumentos tradicionales como Rx. ECG, que facilitan la generación de hipótesis, diagnósticos diferenciales y finalmente plan trabajo para el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un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x. de famil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proporciona al médico y paciente una exposición gráfica de ella incluyendo patrones familiares de enfermedad y problemas spico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ina información biomédica y psico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rifica patrones transgeneracionales de enf. y conductas problem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úa el problema en un contexto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estudiar como explorar los mitos y como cambiar los guiones famili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valor Dg. Y Terapeú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grega y registra información familiar de tres generaciones en seis categori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nogra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del cicl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ón de repeticiones a través de gener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s de la vida y funcionamiento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ones de relación y triá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o y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strucciones al crear un genogra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mascul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drado izquierda 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femen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o a derecha de p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xo no conoc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e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ínea tra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ntinua.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iv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discontinua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pa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ínea cortada con una diagon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ul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dos diagonales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allec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X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so Indi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una          fl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 al crear gen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do de estructura 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de la información sobre familia: Nombres, fecha de nacimiento o edad, fecha de falle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f. cró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bajo el mismo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que viven en un mismo si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28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1523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752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19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0481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04812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886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886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657600" y="36576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d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219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r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57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5 años                        65 añ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86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AM                           Asma bronqu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ricio               Xime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327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 años               25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429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657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bian                          Cata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343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 años                           5 meses  Epilepsia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8006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imena y Patricio tienen 25 y 30 años respectivamente , conviven hace 5 años . En la misma casa vive la Sra. Teresa ( madre de Ximena ), 65 años portadora de asma bronquial e hipertensión quien enviudó hace 5 años de Don Pedro ( falleció a los 65 años de un Infarto Agudo al Miocardio ) . Además viven los hijos de Ximena y Patricio; Fabián y Catalina de 4 años y 5 meses respectivamente . Actualmente Ximena y Patricio consultan por un posible cuadro de Epilepsia de su hija Catal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143000"/>
            <a:ext cx="3048120" cy="3733920"/>
          </a:xfrm>
          <a:custGeom>
            <a:avLst/>
            <a:gdLst/>
            <a:ahLst/>
            <a:rect l="l" t="t" r="r" b="b"/>
            <a:pathLst>
              <a:path w="4894" h="6312">
                <a:moveTo>
                  <a:pt x="2800" y="72"/>
                </a:moveTo>
                <a:cubicBezTo>
                  <a:pt x="2747" y="79"/>
                  <a:pt x="2693" y="82"/>
                  <a:pt x="2640" y="92"/>
                </a:cubicBezTo>
                <a:cubicBezTo>
                  <a:pt x="2619" y="96"/>
                  <a:pt x="2593" y="95"/>
                  <a:pt x="2580" y="112"/>
                </a:cubicBezTo>
                <a:cubicBezTo>
                  <a:pt x="2543" y="159"/>
                  <a:pt x="2527" y="219"/>
                  <a:pt x="2500" y="272"/>
                </a:cubicBezTo>
                <a:cubicBezTo>
                  <a:pt x="2481" y="310"/>
                  <a:pt x="2460" y="392"/>
                  <a:pt x="2460" y="392"/>
                </a:cubicBezTo>
                <a:cubicBezTo>
                  <a:pt x="2448" y="479"/>
                  <a:pt x="2425" y="630"/>
                  <a:pt x="2420" y="712"/>
                </a:cubicBezTo>
                <a:cubicBezTo>
                  <a:pt x="2403" y="1011"/>
                  <a:pt x="2484" y="1248"/>
                  <a:pt x="2280" y="1452"/>
                </a:cubicBezTo>
                <a:cubicBezTo>
                  <a:pt x="2254" y="1557"/>
                  <a:pt x="2258" y="1574"/>
                  <a:pt x="2180" y="1652"/>
                </a:cubicBezTo>
                <a:cubicBezTo>
                  <a:pt x="2143" y="1762"/>
                  <a:pt x="2059" y="1793"/>
                  <a:pt x="1980" y="1872"/>
                </a:cubicBezTo>
                <a:cubicBezTo>
                  <a:pt x="1913" y="2040"/>
                  <a:pt x="1979" y="1914"/>
                  <a:pt x="1880" y="2032"/>
                </a:cubicBezTo>
                <a:cubicBezTo>
                  <a:pt x="1865" y="2050"/>
                  <a:pt x="1858" y="2076"/>
                  <a:pt x="1840" y="2092"/>
                </a:cubicBezTo>
                <a:cubicBezTo>
                  <a:pt x="1784" y="2143"/>
                  <a:pt x="1660" y="2232"/>
                  <a:pt x="1660" y="2232"/>
                </a:cubicBezTo>
                <a:cubicBezTo>
                  <a:pt x="1634" y="2229"/>
                  <a:pt x="1371" y="2206"/>
                  <a:pt x="1320" y="2192"/>
                </a:cubicBezTo>
                <a:cubicBezTo>
                  <a:pt x="1144" y="2144"/>
                  <a:pt x="1325" y="2166"/>
                  <a:pt x="1180" y="2112"/>
                </a:cubicBezTo>
                <a:cubicBezTo>
                  <a:pt x="1148" y="2100"/>
                  <a:pt x="1113" y="2099"/>
                  <a:pt x="1080" y="2092"/>
                </a:cubicBezTo>
                <a:cubicBezTo>
                  <a:pt x="989" y="2072"/>
                  <a:pt x="980" y="2065"/>
                  <a:pt x="880" y="2032"/>
                </a:cubicBezTo>
                <a:cubicBezTo>
                  <a:pt x="860" y="2025"/>
                  <a:pt x="820" y="2012"/>
                  <a:pt x="820" y="2012"/>
                </a:cubicBezTo>
                <a:cubicBezTo>
                  <a:pt x="634" y="2025"/>
                  <a:pt x="457" y="2033"/>
                  <a:pt x="280" y="2092"/>
                </a:cubicBezTo>
                <a:cubicBezTo>
                  <a:pt x="164" y="2277"/>
                  <a:pt x="208" y="2196"/>
                  <a:pt x="140" y="2332"/>
                </a:cubicBezTo>
                <a:cubicBezTo>
                  <a:pt x="124" y="2414"/>
                  <a:pt x="106" y="2493"/>
                  <a:pt x="80" y="2572"/>
                </a:cubicBezTo>
                <a:cubicBezTo>
                  <a:pt x="93" y="2939"/>
                  <a:pt x="150" y="3410"/>
                  <a:pt x="60" y="3772"/>
                </a:cubicBezTo>
                <a:cubicBezTo>
                  <a:pt x="43" y="4115"/>
                  <a:pt x="86" y="4734"/>
                  <a:pt x="0" y="4992"/>
                </a:cubicBezTo>
                <a:cubicBezTo>
                  <a:pt x="92" y="5130"/>
                  <a:pt x="34" y="5097"/>
                  <a:pt x="140" y="5132"/>
                </a:cubicBezTo>
                <a:cubicBezTo>
                  <a:pt x="180" y="5172"/>
                  <a:pt x="235" y="5201"/>
                  <a:pt x="260" y="5252"/>
                </a:cubicBezTo>
                <a:cubicBezTo>
                  <a:pt x="273" y="5279"/>
                  <a:pt x="282" y="5308"/>
                  <a:pt x="300" y="5332"/>
                </a:cubicBezTo>
                <a:cubicBezTo>
                  <a:pt x="404" y="5471"/>
                  <a:pt x="351" y="5360"/>
                  <a:pt x="480" y="5472"/>
                </a:cubicBezTo>
                <a:cubicBezTo>
                  <a:pt x="870" y="5810"/>
                  <a:pt x="522" y="5567"/>
                  <a:pt x="800" y="5752"/>
                </a:cubicBezTo>
                <a:cubicBezTo>
                  <a:pt x="937" y="5958"/>
                  <a:pt x="712" y="5634"/>
                  <a:pt x="920" y="5872"/>
                </a:cubicBezTo>
                <a:cubicBezTo>
                  <a:pt x="946" y="5901"/>
                  <a:pt x="953" y="5945"/>
                  <a:pt x="980" y="5972"/>
                </a:cubicBezTo>
                <a:cubicBezTo>
                  <a:pt x="1001" y="5993"/>
                  <a:pt x="1034" y="5997"/>
                  <a:pt x="1060" y="6012"/>
                </a:cubicBezTo>
                <a:cubicBezTo>
                  <a:pt x="1114" y="6044"/>
                  <a:pt x="1158" y="6100"/>
                  <a:pt x="1220" y="6112"/>
                </a:cubicBezTo>
                <a:cubicBezTo>
                  <a:pt x="1293" y="6127"/>
                  <a:pt x="1372" y="6138"/>
                  <a:pt x="1440" y="6172"/>
                </a:cubicBezTo>
                <a:cubicBezTo>
                  <a:pt x="1493" y="6199"/>
                  <a:pt x="1543" y="6233"/>
                  <a:pt x="1600" y="6252"/>
                </a:cubicBezTo>
                <a:cubicBezTo>
                  <a:pt x="1660" y="6272"/>
                  <a:pt x="1780" y="6312"/>
                  <a:pt x="1780" y="6312"/>
                </a:cubicBezTo>
                <a:cubicBezTo>
                  <a:pt x="1940" y="6306"/>
                  <a:pt x="2488" y="6290"/>
                  <a:pt x="2700" y="6272"/>
                </a:cubicBezTo>
                <a:cubicBezTo>
                  <a:pt x="3220" y="6227"/>
                  <a:pt x="2298" y="6284"/>
                  <a:pt x="2920" y="6212"/>
                </a:cubicBezTo>
                <a:cubicBezTo>
                  <a:pt x="3053" y="6197"/>
                  <a:pt x="3187" y="6199"/>
                  <a:pt x="3320" y="6192"/>
                </a:cubicBezTo>
                <a:cubicBezTo>
                  <a:pt x="3498" y="6133"/>
                  <a:pt x="3582" y="6112"/>
                  <a:pt x="3780" y="6092"/>
                </a:cubicBezTo>
                <a:cubicBezTo>
                  <a:pt x="3820" y="6079"/>
                  <a:pt x="3860" y="6065"/>
                  <a:pt x="3900" y="6052"/>
                </a:cubicBezTo>
                <a:cubicBezTo>
                  <a:pt x="3920" y="6045"/>
                  <a:pt x="3960" y="6032"/>
                  <a:pt x="3960" y="6032"/>
                </a:cubicBezTo>
                <a:cubicBezTo>
                  <a:pt x="4035" y="5957"/>
                  <a:pt x="4109" y="5906"/>
                  <a:pt x="4200" y="5852"/>
                </a:cubicBezTo>
                <a:cubicBezTo>
                  <a:pt x="4237" y="5803"/>
                  <a:pt x="4284" y="5762"/>
                  <a:pt x="4320" y="5712"/>
                </a:cubicBezTo>
                <a:cubicBezTo>
                  <a:pt x="4462" y="5513"/>
                  <a:pt x="4473" y="5125"/>
                  <a:pt x="4520" y="4892"/>
                </a:cubicBezTo>
                <a:cubicBezTo>
                  <a:pt x="4503" y="4518"/>
                  <a:pt x="4523" y="4567"/>
                  <a:pt x="4480" y="4332"/>
                </a:cubicBezTo>
                <a:cubicBezTo>
                  <a:pt x="4476" y="4308"/>
                  <a:pt x="4459" y="4204"/>
                  <a:pt x="4440" y="4172"/>
                </a:cubicBezTo>
                <a:cubicBezTo>
                  <a:pt x="4423" y="4143"/>
                  <a:pt x="4398" y="4120"/>
                  <a:pt x="4380" y="4092"/>
                </a:cubicBezTo>
                <a:cubicBezTo>
                  <a:pt x="4341" y="4030"/>
                  <a:pt x="4331" y="3969"/>
                  <a:pt x="4280" y="3912"/>
                </a:cubicBezTo>
                <a:cubicBezTo>
                  <a:pt x="4245" y="3873"/>
                  <a:pt x="4197" y="3849"/>
                  <a:pt x="4160" y="3812"/>
                </a:cubicBezTo>
                <a:cubicBezTo>
                  <a:pt x="4143" y="3795"/>
                  <a:pt x="4136" y="3770"/>
                  <a:pt x="4120" y="3752"/>
                </a:cubicBezTo>
                <a:cubicBezTo>
                  <a:pt x="4095" y="3723"/>
                  <a:pt x="4065" y="3701"/>
                  <a:pt x="4040" y="3672"/>
                </a:cubicBezTo>
                <a:cubicBezTo>
                  <a:pt x="3988" y="3611"/>
                  <a:pt x="3899" y="3410"/>
                  <a:pt x="3880" y="3332"/>
                </a:cubicBezTo>
                <a:cubicBezTo>
                  <a:pt x="3867" y="3279"/>
                  <a:pt x="3840" y="3172"/>
                  <a:pt x="3840" y="3172"/>
                </a:cubicBezTo>
                <a:cubicBezTo>
                  <a:pt x="3853" y="3105"/>
                  <a:pt x="3857" y="3036"/>
                  <a:pt x="3880" y="2972"/>
                </a:cubicBezTo>
                <a:cubicBezTo>
                  <a:pt x="3891" y="2941"/>
                  <a:pt x="3923" y="2921"/>
                  <a:pt x="3940" y="2892"/>
                </a:cubicBezTo>
                <a:cubicBezTo>
                  <a:pt x="3950" y="2874"/>
                  <a:pt x="3949" y="2850"/>
                  <a:pt x="3960" y="2832"/>
                </a:cubicBezTo>
                <a:lnTo>
                  <a:pt x="4080" y="2672"/>
                </a:lnTo>
                <a:cubicBezTo>
                  <a:pt x="4080" y="2672"/>
                  <a:pt x="4080" y="2672"/>
                  <a:pt x="4080" y="2672"/>
                </a:cubicBezTo>
                <a:cubicBezTo>
                  <a:pt x="4093" y="2652"/>
                  <a:pt x="4100" y="2626"/>
                  <a:pt x="4120" y="2612"/>
                </a:cubicBezTo>
                <a:cubicBezTo>
                  <a:pt x="4149" y="2591"/>
                  <a:pt x="4189" y="2589"/>
                  <a:pt x="4220" y="2572"/>
                </a:cubicBezTo>
                <a:cubicBezTo>
                  <a:pt x="4249" y="2556"/>
                  <a:pt x="4270" y="2527"/>
                  <a:pt x="4300" y="2512"/>
                </a:cubicBezTo>
                <a:cubicBezTo>
                  <a:pt x="4338" y="2493"/>
                  <a:pt x="4420" y="2472"/>
                  <a:pt x="4420" y="2472"/>
                </a:cubicBezTo>
                <a:cubicBezTo>
                  <a:pt x="4440" y="2452"/>
                  <a:pt x="4458" y="2430"/>
                  <a:pt x="4480" y="2412"/>
                </a:cubicBezTo>
                <a:cubicBezTo>
                  <a:pt x="4498" y="2397"/>
                  <a:pt x="4524" y="2390"/>
                  <a:pt x="4540" y="2372"/>
                </a:cubicBezTo>
                <a:cubicBezTo>
                  <a:pt x="4572" y="2336"/>
                  <a:pt x="4586" y="2286"/>
                  <a:pt x="4620" y="2252"/>
                </a:cubicBezTo>
                <a:cubicBezTo>
                  <a:pt x="4640" y="2232"/>
                  <a:pt x="4660" y="2212"/>
                  <a:pt x="4680" y="2192"/>
                </a:cubicBezTo>
                <a:cubicBezTo>
                  <a:pt x="4724" y="2059"/>
                  <a:pt x="4816" y="1945"/>
                  <a:pt x="4860" y="1812"/>
                </a:cubicBezTo>
                <a:cubicBezTo>
                  <a:pt x="4890" y="1508"/>
                  <a:pt x="4894" y="1193"/>
                  <a:pt x="4720" y="932"/>
                </a:cubicBezTo>
                <a:cubicBezTo>
                  <a:pt x="4702" y="858"/>
                  <a:pt x="4678" y="786"/>
                  <a:pt x="4660" y="712"/>
                </a:cubicBezTo>
                <a:cubicBezTo>
                  <a:pt x="4641" y="635"/>
                  <a:pt x="4634" y="537"/>
                  <a:pt x="4580" y="472"/>
                </a:cubicBezTo>
                <a:cubicBezTo>
                  <a:pt x="4565" y="454"/>
                  <a:pt x="4538" y="447"/>
                  <a:pt x="4520" y="432"/>
                </a:cubicBezTo>
                <a:cubicBezTo>
                  <a:pt x="4416" y="345"/>
                  <a:pt x="4507" y="386"/>
                  <a:pt x="4360" y="312"/>
                </a:cubicBezTo>
                <a:cubicBezTo>
                  <a:pt x="4180" y="222"/>
                  <a:pt x="4465" y="399"/>
                  <a:pt x="4200" y="252"/>
                </a:cubicBezTo>
                <a:cubicBezTo>
                  <a:pt x="4171" y="236"/>
                  <a:pt x="4148" y="210"/>
                  <a:pt x="4120" y="192"/>
                </a:cubicBezTo>
                <a:cubicBezTo>
                  <a:pt x="4028" y="135"/>
                  <a:pt x="3904" y="98"/>
                  <a:pt x="3800" y="72"/>
                </a:cubicBezTo>
                <a:cubicBezTo>
                  <a:pt x="3773" y="65"/>
                  <a:pt x="3746" y="60"/>
                  <a:pt x="3720" y="52"/>
                </a:cubicBezTo>
                <a:cubicBezTo>
                  <a:pt x="3680" y="40"/>
                  <a:pt x="3600" y="12"/>
                  <a:pt x="3600" y="12"/>
                </a:cubicBezTo>
                <a:cubicBezTo>
                  <a:pt x="3453" y="19"/>
                  <a:pt x="3306" y="20"/>
                  <a:pt x="3160" y="32"/>
                </a:cubicBezTo>
                <a:cubicBezTo>
                  <a:pt x="3031" y="42"/>
                  <a:pt x="3169" y="75"/>
                  <a:pt x="3040" y="32"/>
                </a:cubicBezTo>
                <a:cubicBezTo>
                  <a:pt x="2811" y="53"/>
                  <a:pt x="2872" y="0"/>
                  <a:pt x="2800" y="7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notad y Regist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onstantemente todo aquello que sea extraño y exce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nservad y Compar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vuestras obser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unicad o public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todo lo que sea extraordinario y nue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ad todo lo que veréis, anotad el día y la hora, NO esperé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 William Os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LO QUE SE BUSCA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BUSCA LO QUE SE SAB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. Jacobe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ICHA CL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ciplina o formación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 disciplina se proyecta a la PLANIFICACION Y ORDENAMIENTO DE LA INFORMA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a información registrada es la gran ruta que lleva al DIAGNO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proceso diagnóstico es mucho más seguro, operante y expedito,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eyendo que recordand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la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de la información sirve de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yuda            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memori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, a veces meses, años deceni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pu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 registro puede comunicarn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Solo el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registro de la informació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 permitido la correlación Clínico- Anatómica y ha permitido elaborar la Estadística y la Epidemiolo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l. registro es uno de los mejores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strumentos de educación médica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por escrito permite el mejor manejo de cualquier pa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yuda a redactar me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l registr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ersiste como testimonio o documento histórico notarial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ocumento clave para la investigación clín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cumento mas objetivo pa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audi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médica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que evalúa la calidad de la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LA AN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Interrogatorio permite recoger la anamnesis y construir la HISTORIA CLI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Reúne datos de la Enfermedad actual, antecedentes mórbidos, Hábitos, antecedentes mórbidos familiares, datos biográficos y pers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OBJETIVOS DEL INTERROG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Obtener información de lo que aqueja al paciente;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g.clínico, Dg. Psicológico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stablece buena relación Médico –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Lograr la colaboración del enfer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Efecto terapéu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4:52:06Z</dcterms:created>
  <dc:creator>Dirmed</dc:creator>
  <dc:description/>
  <dc:language>en-US</dc:language>
  <cp:lastModifiedBy>Patricia</cp:lastModifiedBy>
  <dcterms:modified xsi:type="dcterms:W3CDTF">2009-07-31T17:21:08Z</dcterms:modified>
  <cp:revision>21</cp:revision>
  <dc:subject/>
  <dc:title>INDRODUCCION A LA CLINICA  </dc:title>
</cp:coreProperties>
</file>