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09DB-7AD5-4512-8CA2-4E074AEA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D77-3142-4731-9BED-6A30166D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8104-135F-4094-9CF3-CE63B0AD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DB8-0A1E-4D04-AD26-F20739F6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078D-CAD3-4BF2-942C-6E5F3162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8C63-47E2-47F0-850B-4CBC9CE1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9E6F-D997-41AE-9106-EB91D7D1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594D-29A3-4751-9868-2487AE98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F8BB-4103-4E7B-A0BF-3CB9CB44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E9FB-DE0A-4FD5-91E4-3FBFC7A1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1421-E77B-46E2-B41A-B9D0C7FC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9364-6B6E-4403-97E3-45C5F72C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4E2A-E213-4ABE-B3E2-A259133B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B2E0-30CE-4507-B6BF-73AA70AE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F811-6CC5-470A-A6C2-F500D758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5910-1F35-4F57-83B7-592425BA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9B8C-4437-4523-AEFF-A781AE76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9D8-1CB4-4FAF-8DD3-D9A3C726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27B4-D1A1-41C8-AEB1-259B05FF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D1B7-1886-4883-BF29-36343F7A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53C-0E01-430E-A5AD-0FC52A96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BE4-2965-4F7C-B877-C702D2EC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9D44-8B20-42AC-8D0B-091E57F9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DC2-7094-4C2D-A0DA-22581CDD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2133-329A-4C2D-97A7-60B53739BA1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A758-D106-4E04-826D-C0A59D75D21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800" spc="-1" strike="noStrike">
                <a:solidFill>
                  <a:srgbClr val="000099"/>
                </a:solidFill>
                <a:latin typeface="Times New Roman"/>
              </a:rPr>
              <a:t>DOLOR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61760" y="533376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9528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8153280" cy="4419360"/>
          </a:xfrm>
          <a:prstGeom prst="rect">
            <a:avLst/>
          </a:prstGeom>
          <a:solidFill>
            <a:srgbClr val="99cc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000099"/>
                </a:solidFill>
                <a:latin typeface="Times New Roman"/>
              </a:rPr>
              <a:t>FIEBRE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5562360"/>
            <a:ext cx="64008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SINDROME FEBR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502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SINTO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ENSACION DE CAL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LOFRI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EFAL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ALESTAR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CAIMIEN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NOREX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OLIALG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502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SIG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FACIES FEBRI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AQUICAR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OLIPNE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ISMINUCION DE LA PRESION ARTER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OPLO SISTOLITICO DE EYEC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ENGUA SABURRAL Y SEQUEDAD DE LA BO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IEL CA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ORINAESCASA, OSCURA Y CON ALBUMINU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UD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9810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198108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TIPOS DE FIEB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FIEBRE CONTINU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FIEBRE REMITENT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FIEBRE INTERMITENT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TIPOS DE FIEB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FIEBRE HECTICA, SEPTICA O EN AGUJ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FIEBRE RECURRENT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FIEBRE DE PELEBSTE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010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9"/>
                </a:solidFill>
                <a:latin typeface="Times New Roman"/>
              </a:rPr>
              <a:t>CAUSAS DE FIEBRE</a:t>
            </a: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INFECCIOSAS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NO INFECCIO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ENFERMEDADES  NEOPLAS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ACTERIANAS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IRALES HEPATOM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ARASITARI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IPERNEFRO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ICKETTSI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NCER PULMON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HLAMYDI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NCER PANCREAT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ONG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NFOMA (HODGKIN Y NO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ODGKIN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EUCEM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CAUSAS DE FIEB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INFAR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RDIA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ULMON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EREB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AFECCIONES INMUNOLOG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ESENQUIMOPAT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HEMOLISIS</a:t>
            </a: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 ( CRISIS HEMOLITIC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CAUSAS DE FIEB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TRASTORNOS METABOLICOS AGUD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ORFIR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GO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RISIS TIROID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RISIS ADDISONIA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MIXOMA AURICUL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TRAUMATISMO CON ATRI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20120" cy="17524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CARACTERISTICAS SUGERENTES DE ORIGEN INFECCIOSO DE UNA FIEBR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MIENZO BRUS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EMPERATURA SUPERIOR A 39º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ALESTAR GENERAL, POLIALGIAS, CEFALEAS Y FOTOFOB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EUCOCITOS SOBRE 12.000 O BAJO 5.000 POR mm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99"/>
                </a:solidFill>
                <a:latin typeface="Times New Roman"/>
              </a:rPr>
              <a:t>TIPOS DE DOLOR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DOLOR ORGAN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DOLOR FUNCIONA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99"/>
                </a:solidFill>
                <a:latin typeface="Times New Roman"/>
              </a:rPr>
              <a:t>TIPOS DE DOLOR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DOLOR CENTR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DOLOR PERIFERI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TIPOS DE DOL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6201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DOLOR SUPERFICIA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DOLOR VISCERAL O PROFUN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DOLOR EPICRI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DOLOR PROTOPA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TIPOS DE DOL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DOLOR REFERI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TIPO DE DOL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DOLOR DE ORIGEN VASCULAR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4475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Times New Roman"/>
              </a:rPr>
              <a:t>DIFERENCIA ENTRE DOLOR SUPERFICIAL Y PROFUND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DOLOR SUPERFI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BIEN LOCALIZ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RÁCTER PUNZANTE O QUEMA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MITES PRECI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BICADO EN EL SITIO DEL ESTIMU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 REFER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DOLOR PROFUNDO O VISC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L LOCALIZ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RÁCTER VAGO O ATENU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MITES IMPRECI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BICADO A DISTANCIA DEL ESTIMU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ER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2286000"/>
            <a:ext cx="3733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2286000"/>
            <a:ext cx="4038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99"/>
                </a:solidFill>
                <a:uFillTx/>
                <a:latin typeface="Times New Roman"/>
              </a:rPr>
              <a:t>SEMIOLOGIA GENERAL DEL DOLOR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BICACIÓN E IRRADIAC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PO O CARÁCT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NTENS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MIENZO O EVOLUC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ACTORES QUE LO MODIFIC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CTITUD DEL ENFER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NTOMAS ACOMPAÑAN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Times New Roman"/>
              </a:rPr>
              <a:t>TIPO O CARACTER DE DOLOR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87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Times New Roman"/>
              </a:rPr>
              <a:t>CARACTER</a:t>
            </a:r>
            <a:r>
              <a:rPr b="1" i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NSTRIC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PUNGITIVO  (PUNZANT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URENTE  (QUEMANT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FULGUR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GOLPES DE CORRIENTE ELECTRIC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LANCINANTE  (PINCHAZ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LICO  (RETORCIJ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ORDO (LEVE PERO CONTINU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ALADRANTE O TEREBRANTE (BARRER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RAVATIVO (PESADEZ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E HAMB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PULSATIVO (LATI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RRANTE O ERRA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1219320"/>
            <a:ext cx="3809880" cy="487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NGINA DE P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LOR PLE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HERPES ZOS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ABES DO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NEURALGIA DEL TRIGEM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LICO INTESTIN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NC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ODONTALG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ERRAM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ULCERA GASTRODUODE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BSCE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LON IRRI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600200"/>
            <a:ext cx="3733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160020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8:48:26Z</dcterms:created>
  <dc:creator>.</dc:creator>
  <dc:description/>
  <dc:language>en-US</dc:language>
  <cp:lastModifiedBy>Patricia</cp:lastModifiedBy>
  <dcterms:modified xsi:type="dcterms:W3CDTF">2009-07-31T17:20:40Z</dcterms:modified>
  <cp:revision>10</cp:revision>
  <dc:subject/>
  <dc:title>DOLOR</dc:title>
</cp:coreProperties>
</file>