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57B-692E-4186-9801-59C23FC5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195-9487-48B7-AFAA-5891A2BC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57A-1D3C-429E-BDEB-382E92F0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A8D-5DAC-4BB4-8F5D-19A3BCB8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303E-E096-4A14-82DD-EFEC8C83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882C-DBB5-40C4-B69B-CE841336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72EC-08D3-4223-BDF0-9EB6A5C6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6576-937F-4702-863F-00019BD9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AB9C-D355-4910-812F-3ECF05C0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6C27-F415-4620-9F9A-1B5F671B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5854-EC2A-4872-B30A-2BED4AF9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D9A-DF84-4170-BAAE-3006ED7E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0406-792F-40C7-ABE4-C670B718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CB66-89FD-458F-A630-D1B0791D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9987-24E2-48B8-B8C6-7BDB6972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5B2D-C309-4CFC-95D8-7CB8D9BF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B672-CD83-4E4D-B75B-0B05235C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F86-9DAD-4F68-B98A-1E8734A7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C27-7CBE-4526-BDA5-351CD42A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E4C-3EE1-4079-8C7C-CED84EDC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8C8-AED0-45D7-A135-4640FC76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16D-BA80-4FC4-A68D-C34E9581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5C94-0D17-464F-AEFB-3A2FF5C2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07D-87E8-47B7-975F-7A3B603F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0DE3-D541-4B30-AC32-40298663574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68B4-37E1-47A8-9C47-F6F302DB247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800" spc="-1" strike="noStrike">
                <a:solidFill>
                  <a:srgbClr val="000099"/>
                </a:solidFill>
                <a:latin typeface="Times New Roman"/>
              </a:rPr>
              <a:t>DOLOR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61760" y="533376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9528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8153280" cy="4419360"/>
          </a:xfrm>
          <a:prstGeom prst="rect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000099"/>
                </a:solidFill>
                <a:latin typeface="Times New Roman"/>
              </a:rPr>
              <a:t>FIEBRE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SINDROME FEBR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502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SINTO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ENSACION DE CAL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LOFRI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EFAL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ALESTAR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CAIMIEN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NOREX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OLIALG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502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SIG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FACIES FEBRI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AQUICAR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OLIPNE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ISMINUCION DE LA PRESION ARTER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OPLO SISTOLITICO DE EYEC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ENGUA SABURRAL Y SEQUEDAD DE LA BO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IEL CA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ORINAESCASA, OSCURA Y CON ALBUMINU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UD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9810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198108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S DE FIEB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CONTINU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REMITENT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INTERMITENT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S DE FIEB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HECTICA, SEPTICA O EN AGUJ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RECURRENT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DE PELEBSTE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010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Times New Roman"/>
              </a:rPr>
              <a:t>CAUSAS DE FIEBRE</a:t>
            </a: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INFECCIOSAS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NO INFECCIO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ENFERMEDADES  NEOPLA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ACTERIANAS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IRALES HEPATO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ARASITARI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IPERNEFRO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ICKETTSI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NCER PULMON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NCER PANCREAT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ONG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NFOMA (HODGKIN Y NO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ODGKIN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EUCEM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CAUSAS DE FIEB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INFAR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DIA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ULMO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REB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AFECCIONES INMUNOLOG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ESENQUIMOPAT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HEMOLISIS</a:t>
            </a: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 ( CRISIS HEMOLITIC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CAUSAS DE FIEB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TRASTORNOS METABOLICOS AGU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ORFIR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O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ISIS TIROID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ISIS ADDISONIA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MIXOMA AURICUL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TRAUMATISMO CON ATRI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17524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CARACTERISTICAS SUGERENTES DE ORIGEN INFECCIOSO DE UNA FIEBR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MIENZO BRUS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EMPERATURA SUPERIOR A 39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ALESTAR GENERAL, POLIALGIAS, CEFALEAS Y FOTOFOB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EUCOCITOS SOBRE 12.000 O BAJO 5.000 POR mm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99"/>
                </a:solidFill>
                <a:latin typeface="Times New Roman"/>
              </a:rPr>
              <a:t>TIPOS DE DOLOR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DOLOR ORGAN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DOLOR FUNCIONA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99"/>
                </a:solidFill>
                <a:latin typeface="Times New Roman"/>
              </a:rPr>
              <a:t>TIPOS DE DOLOR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DOLOR CENTR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DOLOR PERIFER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S DE DOL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6201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SUPERFICIA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VISCERAL O PROFUN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EPICRI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PROTOPA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S DE DOL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DOLOR REFERI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 DE DOL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DE ORIGEN VASCULAR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4475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Times New Roman"/>
              </a:rPr>
              <a:t>DIFERENCIA ENTRE DOLOR SUPERFICIAL Y PROFUND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LOR SUPERFI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BIEN LOCALIZ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RÁCTER PUNZANTE O QUEM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MITES PRECI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BICADO EN EL SITIO DEL ESTIMU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 REF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LOR PROFUNDO O VISC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L LOCALIZ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RÁCTER VAGO O ATENU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MITES IMPRECI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BICADO A DISTANCIA DEL ESTIMU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286000"/>
            <a:ext cx="3733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2286000"/>
            <a:ext cx="4038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99"/>
                </a:solidFill>
                <a:uFillTx/>
                <a:latin typeface="Times New Roman"/>
              </a:rPr>
              <a:t>SEMIOLOGIA GENERAL DEL DOLO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BICACIÓN E IRRADIAC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PO O CARÁCT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NTENS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MIENZO O EVOLUC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ACTORES QUE LO MODIFIC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TITUD DEL ENFER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NTOMAS ACOMPAÑA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Times New Roman"/>
              </a:rPr>
              <a:t>TIPO O CARACTER DE DOLO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87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Times New Roman"/>
              </a:rPr>
              <a:t>CARACTER</a:t>
            </a:r>
            <a:r>
              <a:rPr b="1" i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NSTRIC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PUNGITIVO  (PUNZANT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URENTE  (QUEMANT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FULGUR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GOLPES DE CORRIENTE ELECTRIC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ANCINANTE  (PINCHAZ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LICO  (RETORCIJ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ORDO (LEVE PERO CONTINU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ALADRANTE O TEREBRANTE (BARRER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RAVATIVO (PESADEZ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E HAMB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PULSATIVO (LATI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RRANTE O ERRA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1219320"/>
            <a:ext cx="3809880" cy="487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NGINA DE P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LOR PLE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HERPES ZO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ABES DO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NEURALGIA DEL TRIGEM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LICO INTESTIN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NC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ODONTALG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ERRAM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ULCERA GASTRODUODE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BSCE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LON IRRI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600200"/>
            <a:ext cx="3733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160020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8:48:26Z</dcterms:created>
  <dc:creator>.</dc:creator>
  <dc:description/>
  <dc:language>en-US</dc:language>
  <cp:lastModifiedBy>Patricia</cp:lastModifiedBy>
  <dcterms:modified xsi:type="dcterms:W3CDTF">2009-07-31T17:20:40Z</dcterms:modified>
  <cp:revision>10</cp:revision>
  <dc:subject/>
  <dc:title>DOLOR</dc:title>
</cp:coreProperties>
</file>