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962-228D-49A8-AB9B-51440CB4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ADA-8DBC-4A01-A38C-C143336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B0F-00AA-45E8-9893-1FA3A670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C4C-75ED-403B-B47F-AEB42613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8336-2544-4646-8467-673A7A79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BE0-8FA5-4273-A336-A452CF5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0274-986F-4D55-AD84-357A49F7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9D2D-8DB1-4717-AF33-B20CDDB5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A1FD-4ABB-40AE-8DD8-EF0A97C2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5BD-B9D4-42D4-B8F7-E2D0EE6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CBE5-9366-468B-8193-4F347DF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431-C901-4695-807E-855A0F9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39FB-FA4E-4F84-9D95-C8BB8AD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260-0011-4DA4-8F5A-F5DC7A1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7A6E-CA53-4F87-8853-0FCA189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6B2-3B73-4DF5-8AF9-220B6DE0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264B-2AE7-47AD-A0A3-1FAAE64D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C63-DECE-4832-9AF8-A2AC9B74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EC9-B847-441A-BB5C-CF780A5D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E1E-745A-44B8-A9B3-02A9DD0B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28A-FF75-4543-9162-A51853F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0AE-23AD-4A9F-88BB-2E9A5B3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C5E-0292-4B3B-B12F-138FA0A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E04-1BC0-4731-9496-E0B80F1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359D-99CD-4DFD-8AD4-34C1C7EEC28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4B4A-AD7D-4644-A413-AB04E8C684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0099"/>
                </a:solidFill>
                <a:latin typeface="Times New Roman"/>
              </a:rPr>
              <a:t>DOLOR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53337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99"/>
                </a:solidFill>
                <a:latin typeface="Times New Roman"/>
              </a:rPr>
              <a:t>FIEBRE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SINDROME FEBR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NT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NSACION DE CAL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LOFRI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FAL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ALESTAR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AIMI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OREX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AL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G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ACIES FEBR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PN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MINUCION DE LA PRESION AR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OPLO SISTOLITICO DE EYEC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ENGUA SABURRAL Y SEQUEDAD DE LA BO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IEL CA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RINAESCASA, OSCURA Y CON 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D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981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CONTINU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INTER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HECTICA, SEPTICA O EN AGU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CURR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DE PELEBS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INFECCIOS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NO INFECCI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NFERMEDADES  NEOPL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TERIANA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RALES HEPATO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SIT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PERNEF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ICKETTS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ULMON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ANCREA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G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NFOMA (HODGKIN Y N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DGKIN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EUC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INFA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DI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LMO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AFECCIONES INMUNOLOG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SENQUIMOPAT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HEMOLISIS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( CRISIS HEMOLI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STORNOS METABOLICOS AGU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FI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TIRO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ADDISONIA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MIXOMA AURIC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UMATISMO CON ATRI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ARACTERISTICAS SUGERENTES DE ORIGEN INFECCIOSO DE UNA FIEB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BRU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SUPERIOR A 39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LESTAR GENERAL, POLIALGIAS, CEFALEAS Y FOTOFOB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UCOCITOS SOBRE 12.000 O BAJO 5.000 POR 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ORGAN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FUNCION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CENT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PERIFE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SUPERFIC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VISCERAL O PROFUN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EPICRI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PROTOPA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REFER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DE ORIGEN VASCUL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DIFERENCIA ENTRE DOLOR SUPERFICIAL Y PROFUN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SUPERF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IEN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PUNZANTE O QUEM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EN EL SITIO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PROFUNDO O VISC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L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VAGO O ATEN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IM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A DISTANCIA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860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286000"/>
            <a:ext cx="403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Times New Roman"/>
              </a:rPr>
              <a:t>SEMIOLOGIA GENERAL DEL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BICACIÓN E IRRADI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 O CARÁC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NS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O EVOLU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CTORES QUE LO MODIFIC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TITUD DEL ENFER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TOMAS ACOMPAÑA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TIPO O CARACTER DE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CARACTER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STRIC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NGITIVO  (PUNZ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RENTE  (QUEM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LGUR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GOLPES DE CORRIENTE ELECTR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NCINANTE  (PINCHAZ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 (RETORCIJ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ORDO (LEVE PERO CONTINU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LADRANTE O TEREBRANTE (BARR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AVATIVO (PESADE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 HA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LSATIVO (LATI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RRANTE O ERRA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NGINA DE P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LOR PLE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HERPES ZO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BES DO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EURALGIA DEL TRIGEM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INTESTI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DONTALG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RRAM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LCERA GASTRODUODE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BS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ON IRR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8:48:26Z</dcterms:created>
  <dc:creator>.</dc:creator>
  <dc:description/>
  <dc:language>en-US</dc:language>
  <cp:lastModifiedBy>Patricia</cp:lastModifiedBy>
  <dcterms:modified xsi:type="dcterms:W3CDTF">2009-07-31T17:20:40Z</dcterms:modified>
  <cp:revision>10</cp:revision>
  <dc:subject/>
  <dc:title>DOLOR</dc:title>
</cp:coreProperties>
</file>