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2FE9-BA0E-45F0-A443-61EFA1289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55F3-B3D6-461C-B10C-BC8D3E5EA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BA5B-9299-459B-A98B-97302664E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67B2-6277-4992-BAFF-E22E21712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9432-9B62-42AD-8BC1-FAA73411B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3C3A-392A-4C6A-9614-1B647C747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5D1A-DA87-448F-AA4A-5BFC87CDF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4ABD-366A-40CA-9CA2-4417EF62C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0B77-E601-4E15-B288-5825FEEA5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68E8-172D-4FC0-BF41-18A96EBC2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D4BA-AE42-4105-BDF1-BB5B99A67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7B28-10EB-4809-9EC7-966CE5A65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ffff99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323DD-02BC-433B-B30D-944083E51E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ffff99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OSCE 200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860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Universidad de Ch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Facultad de Medic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IGNATURA 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CION A LA CLIN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4875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ffff99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IRCUITO LOG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495520" y="1917720"/>
            <a:ext cx="4156200" cy="4068720"/>
            <a:chOff x="2495520" y="1917720"/>
            <a:chExt cx="4156200" cy="4068720"/>
          </a:xfrm>
        </p:grpSpPr>
        <p:sp>
          <p:nvSpPr>
            <p:cNvPr id="132" name="_s87045"/>
            <p:cNvSpPr/>
            <p:nvPr/>
          </p:nvSpPr>
          <p:spPr>
            <a:xfrm>
              <a:off x="3722760" y="1935000"/>
              <a:ext cx="1698480" cy="169884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840"/>
                <a:gd name="textAreaBottom" fmla="*/ 1699200 h 169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87046"/>
            <p:cNvSpPr/>
            <p:nvPr/>
          </p:nvSpPr>
          <p:spPr>
            <a:xfrm rot="3060000">
              <a:off x="4565160" y="2341080"/>
              <a:ext cx="1698480" cy="169884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840"/>
                <a:gd name="textAreaBottom" fmla="*/ 1699200 h 169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87047"/>
            <p:cNvSpPr/>
            <p:nvPr/>
          </p:nvSpPr>
          <p:spPr>
            <a:xfrm rot="6180000">
              <a:off x="4774680" y="3254040"/>
              <a:ext cx="1698480" cy="169884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840"/>
                <a:gd name="textAreaBottom" fmla="*/ 1699200 h 169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e9542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87048"/>
            <p:cNvSpPr/>
            <p:nvPr/>
          </p:nvSpPr>
          <p:spPr>
            <a:xfrm rot="9240000">
              <a:off x="4190760" y="3987360"/>
              <a:ext cx="1698480" cy="169848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480"/>
                <a:gd name="textAreaBottom" fmla="*/ 1698840 h 169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87049"/>
            <p:cNvSpPr/>
            <p:nvPr/>
          </p:nvSpPr>
          <p:spPr>
            <a:xfrm rot="12360000">
              <a:off x="3254040" y="3987360"/>
              <a:ext cx="1698480" cy="169848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480"/>
                <a:gd name="textAreaBottom" fmla="*/ 1698840 h 169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_s87050"/>
            <p:cNvSpPr/>
            <p:nvPr/>
          </p:nvSpPr>
          <p:spPr>
            <a:xfrm rot="15420000">
              <a:off x="2670120" y="3255480"/>
              <a:ext cx="1698480" cy="169884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840"/>
                <a:gd name="textAreaBottom" fmla="*/ 1699200 h 169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87051"/>
            <p:cNvSpPr/>
            <p:nvPr/>
          </p:nvSpPr>
          <p:spPr>
            <a:xfrm rot="18540000">
              <a:off x="2877840" y="2341440"/>
              <a:ext cx="1698480" cy="169848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480"/>
                <a:gd name="textAreaBottom" fmla="*/ 1698840 h 169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_s87052"/>
            <p:cNvSpPr/>
            <p:nvPr/>
          </p:nvSpPr>
          <p:spPr>
            <a:xfrm>
              <a:off x="5016600" y="1917720"/>
              <a:ext cx="664920" cy="66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_s87053"/>
            <p:cNvSpPr/>
            <p:nvPr/>
          </p:nvSpPr>
          <p:spPr>
            <a:xfrm>
              <a:off x="2495520" y="3133440"/>
              <a:ext cx="66528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87054"/>
            <p:cNvSpPr/>
            <p:nvPr/>
          </p:nvSpPr>
          <p:spPr>
            <a:xfrm>
              <a:off x="3463920" y="1919160"/>
              <a:ext cx="66528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87055"/>
            <p:cNvSpPr/>
            <p:nvPr/>
          </p:nvSpPr>
          <p:spPr>
            <a:xfrm>
              <a:off x="2841480" y="4647960"/>
              <a:ext cx="66528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87056"/>
            <p:cNvSpPr/>
            <p:nvPr/>
          </p:nvSpPr>
          <p:spPr>
            <a:xfrm>
              <a:off x="4241880" y="5321160"/>
              <a:ext cx="66492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_s87057"/>
            <p:cNvSpPr/>
            <p:nvPr/>
          </p:nvSpPr>
          <p:spPr>
            <a:xfrm>
              <a:off x="5640480" y="4646520"/>
              <a:ext cx="66492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87058"/>
            <p:cNvSpPr/>
            <p:nvPr/>
          </p:nvSpPr>
          <p:spPr>
            <a:xfrm>
              <a:off x="5986440" y="3132000"/>
              <a:ext cx="66528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ffff99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IRCUITO LOG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2495520" y="1917720"/>
            <a:ext cx="4156200" cy="4068720"/>
            <a:chOff x="2495520" y="1917720"/>
            <a:chExt cx="4156200" cy="4068720"/>
          </a:xfrm>
        </p:grpSpPr>
        <p:sp>
          <p:nvSpPr>
            <p:cNvPr id="148" name="_s89093"/>
            <p:cNvSpPr/>
            <p:nvPr/>
          </p:nvSpPr>
          <p:spPr>
            <a:xfrm>
              <a:off x="3722760" y="1935000"/>
              <a:ext cx="1698480" cy="169884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840"/>
                <a:gd name="textAreaBottom" fmla="*/ 1699200 h 169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_s89094"/>
            <p:cNvSpPr/>
            <p:nvPr/>
          </p:nvSpPr>
          <p:spPr>
            <a:xfrm rot="3060000">
              <a:off x="4565160" y="2341080"/>
              <a:ext cx="1698480" cy="169884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840"/>
                <a:gd name="textAreaBottom" fmla="*/ 1699200 h 169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_s89095"/>
            <p:cNvSpPr/>
            <p:nvPr/>
          </p:nvSpPr>
          <p:spPr>
            <a:xfrm rot="6180000">
              <a:off x="4774680" y="3254040"/>
              <a:ext cx="1698480" cy="169884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840"/>
                <a:gd name="textAreaBottom" fmla="*/ 1699200 h 169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_s89096"/>
            <p:cNvSpPr/>
            <p:nvPr/>
          </p:nvSpPr>
          <p:spPr>
            <a:xfrm rot="9240000">
              <a:off x="4190760" y="3987360"/>
              <a:ext cx="1698480" cy="169848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480"/>
                <a:gd name="textAreaBottom" fmla="*/ 1698840 h 169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e9542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_s89097"/>
            <p:cNvSpPr/>
            <p:nvPr/>
          </p:nvSpPr>
          <p:spPr>
            <a:xfrm rot="12360000">
              <a:off x="3254040" y="3987360"/>
              <a:ext cx="1698480" cy="169848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480"/>
                <a:gd name="textAreaBottom" fmla="*/ 1698840 h 169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_s89098"/>
            <p:cNvSpPr/>
            <p:nvPr/>
          </p:nvSpPr>
          <p:spPr>
            <a:xfrm rot="15420000">
              <a:off x="2670120" y="3255480"/>
              <a:ext cx="1698480" cy="169884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840"/>
                <a:gd name="textAreaBottom" fmla="*/ 1699200 h 169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_s89099"/>
            <p:cNvSpPr/>
            <p:nvPr/>
          </p:nvSpPr>
          <p:spPr>
            <a:xfrm rot="18540000">
              <a:off x="2877840" y="2341440"/>
              <a:ext cx="1698480" cy="169848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480"/>
                <a:gd name="textAreaBottom" fmla="*/ 1698840 h 169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_s89100"/>
            <p:cNvSpPr/>
            <p:nvPr/>
          </p:nvSpPr>
          <p:spPr>
            <a:xfrm>
              <a:off x="5016600" y="1917720"/>
              <a:ext cx="664920" cy="66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_s89101"/>
            <p:cNvSpPr/>
            <p:nvPr/>
          </p:nvSpPr>
          <p:spPr>
            <a:xfrm>
              <a:off x="2495520" y="3133440"/>
              <a:ext cx="66528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_s89102"/>
            <p:cNvSpPr/>
            <p:nvPr/>
          </p:nvSpPr>
          <p:spPr>
            <a:xfrm>
              <a:off x="3463920" y="1919160"/>
              <a:ext cx="66528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_s89103"/>
            <p:cNvSpPr/>
            <p:nvPr/>
          </p:nvSpPr>
          <p:spPr>
            <a:xfrm>
              <a:off x="2841480" y="4647960"/>
              <a:ext cx="66528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89104"/>
            <p:cNvSpPr/>
            <p:nvPr/>
          </p:nvSpPr>
          <p:spPr>
            <a:xfrm>
              <a:off x="4241880" y="5321160"/>
              <a:ext cx="66492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s89105"/>
            <p:cNvSpPr/>
            <p:nvPr/>
          </p:nvSpPr>
          <p:spPr>
            <a:xfrm>
              <a:off x="5640480" y="4646520"/>
              <a:ext cx="66492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_s89106"/>
            <p:cNvSpPr/>
            <p:nvPr/>
          </p:nvSpPr>
          <p:spPr>
            <a:xfrm>
              <a:off x="5986440" y="3132000"/>
              <a:ext cx="66528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ffff99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IRCUITO LOG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2495520" y="1917720"/>
            <a:ext cx="4156200" cy="4068720"/>
            <a:chOff x="2495520" y="1917720"/>
            <a:chExt cx="4156200" cy="4068720"/>
          </a:xfrm>
        </p:grpSpPr>
        <p:sp>
          <p:nvSpPr>
            <p:cNvPr id="164" name="_s91141"/>
            <p:cNvSpPr/>
            <p:nvPr/>
          </p:nvSpPr>
          <p:spPr>
            <a:xfrm>
              <a:off x="3722760" y="1935000"/>
              <a:ext cx="1698480" cy="169884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840"/>
                <a:gd name="textAreaBottom" fmla="*/ 1699200 h 169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91142"/>
            <p:cNvSpPr/>
            <p:nvPr/>
          </p:nvSpPr>
          <p:spPr>
            <a:xfrm rot="3060000">
              <a:off x="4565160" y="2341080"/>
              <a:ext cx="1698480" cy="169884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840"/>
                <a:gd name="textAreaBottom" fmla="*/ 1699200 h 169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91143"/>
            <p:cNvSpPr/>
            <p:nvPr/>
          </p:nvSpPr>
          <p:spPr>
            <a:xfrm rot="6180000">
              <a:off x="4774680" y="3254040"/>
              <a:ext cx="1698480" cy="169884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840"/>
                <a:gd name="textAreaBottom" fmla="*/ 1699200 h 169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_s91144"/>
            <p:cNvSpPr/>
            <p:nvPr/>
          </p:nvSpPr>
          <p:spPr>
            <a:xfrm rot="9240000">
              <a:off x="4190760" y="3987360"/>
              <a:ext cx="1698480" cy="169848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480"/>
                <a:gd name="textAreaBottom" fmla="*/ 1698840 h 169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91145"/>
            <p:cNvSpPr/>
            <p:nvPr/>
          </p:nvSpPr>
          <p:spPr>
            <a:xfrm rot="12360000">
              <a:off x="3254040" y="3987360"/>
              <a:ext cx="1698480" cy="169848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480"/>
                <a:gd name="textAreaBottom" fmla="*/ 1698840 h 169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e9542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91146"/>
            <p:cNvSpPr/>
            <p:nvPr/>
          </p:nvSpPr>
          <p:spPr>
            <a:xfrm rot="15420000">
              <a:off x="2670120" y="3255480"/>
              <a:ext cx="1698480" cy="169884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840"/>
                <a:gd name="textAreaBottom" fmla="*/ 1699200 h 169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91147"/>
            <p:cNvSpPr/>
            <p:nvPr/>
          </p:nvSpPr>
          <p:spPr>
            <a:xfrm rot="18540000">
              <a:off x="2877840" y="2341440"/>
              <a:ext cx="1698480" cy="169848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480"/>
                <a:gd name="textAreaBottom" fmla="*/ 1698840 h 169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91148"/>
            <p:cNvSpPr/>
            <p:nvPr/>
          </p:nvSpPr>
          <p:spPr>
            <a:xfrm>
              <a:off x="5016600" y="1917720"/>
              <a:ext cx="664920" cy="66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91149"/>
            <p:cNvSpPr/>
            <p:nvPr/>
          </p:nvSpPr>
          <p:spPr>
            <a:xfrm>
              <a:off x="2495520" y="3133440"/>
              <a:ext cx="66528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_s91150"/>
            <p:cNvSpPr/>
            <p:nvPr/>
          </p:nvSpPr>
          <p:spPr>
            <a:xfrm>
              <a:off x="3463920" y="1919160"/>
              <a:ext cx="66528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91151"/>
            <p:cNvSpPr/>
            <p:nvPr/>
          </p:nvSpPr>
          <p:spPr>
            <a:xfrm>
              <a:off x="2841480" y="4647960"/>
              <a:ext cx="66528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91152"/>
            <p:cNvSpPr/>
            <p:nvPr/>
          </p:nvSpPr>
          <p:spPr>
            <a:xfrm>
              <a:off x="4241880" y="5321160"/>
              <a:ext cx="66492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_s91153"/>
            <p:cNvSpPr/>
            <p:nvPr/>
          </p:nvSpPr>
          <p:spPr>
            <a:xfrm>
              <a:off x="5640480" y="4646520"/>
              <a:ext cx="66492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_s91154"/>
            <p:cNvSpPr/>
            <p:nvPr/>
          </p:nvSpPr>
          <p:spPr>
            <a:xfrm>
              <a:off x="5986440" y="3132000"/>
              <a:ext cx="66528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ffff99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IRCUITO LOG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2495520" y="1917720"/>
            <a:ext cx="4156200" cy="4068720"/>
            <a:chOff x="2495520" y="1917720"/>
            <a:chExt cx="4156200" cy="4068720"/>
          </a:xfrm>
        </p:grpSpPr>
        <p:sp>
          <p:nvSpPr>
            <p:cNvPr id="180" name="_s93189"/>
            <p:cNvSpPr/>
            <p:nvPr/>
          </p:nvSpPr>
          <p:spPr>
            <a:xfrm>
              <a:off x="3722760" y="1935000"/>
              <a:ext cx="1698480" cy="169884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840"/>
                <a:gd name="textAreaBottom" fmla="*/ 1699200 h 169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_s93190"/>
            <p:cNvSpPr/>
            <p:nvPr/>
          </p:nvSpPr>
          <p:spPr>
            <a:xfrm rot="3060000">
              <a:off x="4565160" y="2341080"/>
              <a:ext cx="1698480" cy="169884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840"/>
                <a:gd name="textAreaBottom" fmla="*/ 1699200 h 169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93191"/>
            <p:cNvSpPr/>
            <p:nvPr/>
          </p:nvSpPr>
          <p:spPr>
            <a:xfrm rot="6180000">
              <a:off x="4774680" y="3254040"/>
              <a:ext cx="1698480" cy="169884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840"/>
                <a:gd name="textAreaBottom" fmla="*/ 1699200 h 169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_s93192"/>
            <p:cNvSpPr/>
            <p:nvPr/>
          </p:nvSpPr>
          <p:spPr>
            <a:xfrm rot="9240000">
              <a:off x="4190760" y="3987360"/>
              <a:ext cx="1698480" cy="169848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480"/>
                <a:gd name="textAreaBottom" fmla="*/ 1698840 h 169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_s93193"/>
            <p:cNvSpPr/>
            <p:nvPr/>
          </p:nvSpPr>
          <p:spPr>
            <a:xfrm rot="12360000">
              <a:off x="3254040" y="3987360"/>
              <a:ext cx="1698480" cy="169848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480"/>
                <a:gd name="textAreaBottom" fmla="*/ 1698840 h 169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_s93194"/>
            <p:cNvSpPr/>
            <p:nvPr/>
          </p:nvSpPr>
          <p:spPr>
            <a:xfrm rot="15420000">
              <a:off x="2670120" y="3255480"/>
              <a:ext cx="1698480" cy="169884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840"/>
                <a:gd name="textAreaBottom" fmla="*/ 1699200 h 169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e9542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93195"/>
            <p:cNvSpPr/>
            <p:nvPr/>
          </p:nvSpPr>
          <p:spPr>
            <a:xfrm rot="18540000">
              <a:off x="2877840" y="2341440"/>
              <a:ext cx="1698480" cy="169848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480"/>
                <a:gd name="textAreaBottom" fmla="*/ 1698840 h 169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93196"/>
            <p:cNvSpPr/>
            <p:nvPr/>
          </p:nvSpPr>
          <p:spPr>
            <a:xfrm>
              <a:off x="5016600" y="1917720"/>
              <a:ext cx="664920" cy="66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_s93197"/>
            <p:cNvSpPr/>
            <p:nvPr/>
          </p:nvSpPr>
          <p:spPr>
            <a:xfrm>
              <a:off x="2495520" y="3133440"/>
              <a:ext cx="66528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_s93198"/>
            <p:cNvSpPr/>
            <p:nvPr/>
          </p:nvSpPr>
          <p:spPr>
            <a:xfrm>
              <a:off x="3463920" y="1919160"/>
              <a:ext cx="66528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_s93199"/>
            <p:cNvSpPr/>
            <p:nvPr/>
          </p:nvSpPr>
          <p:spPr>
            <a:xfrm>
              <a:off x="2841480" y="4647960"/>
              <a:ext cx="66528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_s93200"/>
            <p:cNvSpPr/>
            <p:nvPr/>
          </p:nvSpPr>
          <p:spPr>
            <a:xfrm>
              <a:off x="4241880" y="5321160"/>
              <a:ext cx="66492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93201"/>
            <p:cNvSpPr/>
            <p:nvPr/>
          </p:nvSpPr>
          <p:spPr>
            <a:xfrm>
              <a:off x="5640480" y="4646520"/>
              <a:ext cx="66492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_s93202"/>
            <p:cNvSpPr/>
            <p:nvPr/>
          </p:nvSpPr>
          <p:spPr>
            <a:xfrm>
              <a:off x="5986440" y="3132000"/>
              <a:ext cx="66528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ffff99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ACIONES TIP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Z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v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z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otar nombre en Hoja de Respues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ositar en buz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437920" y="1143000"/>
            <a:ext cx="83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ffff99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ACIONES TIP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808080"/>
                </a:solidFill>
                <a:latin typeface="Arial"/>
              </a:rPr>
              <a:t>BUZ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808080"/>
                </a:solidFill>
                <a:latin typeface="Arial"/>
              </a:rPr>
              <a:t>Instruc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808080"/>
                </a:solidFill>
                <a:latin typeface="Arial"/>
              </a:rPr>
              <a:t>Buz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808080"/>
                </a:solidFill>
                <a:latin typeface="Arial"/>
              </a:rPr>
              <a:t>Anotar nomb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808080"/>
                </a:solidFill>
                <a:latin typeface="Arial"/>
              </a:rPr>
              <a:t>Corregir en la misma ho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808080"/>
                </a:solidFill>
                <a:latin typeface="Arial"/>
              </a:rPr>
              <a:t>Depositar en buz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76920" y="1447560"/>
            <a:ext cx="403848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CENTE / A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v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ente y/o Ac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car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der solamente lo que pregunt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2437920" y="1143000"/>
            <a:ext cx="838440" cy="8380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257800" y="11430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ffff99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IFICACION FINAL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987640" y="2997360"/>
            <a:ext cx="2895480" cy="2514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99"/>
                </a:solidFill>
                <a:latin typeface="Arial"/>
              </a:rPr>
              <a:t>OS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99"/>
                </a:solidFill>
                <a:latin typeface="Arial"/>
              </a:rPr>
              <a:t>3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14400" y="4114800"/>
            <a:ext cx="2971800" cy="2362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Arial"/>
              </a:rPr>
              <a:t>U.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Arial"/>
              </a:rPr>
              <a:t>COMUN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1/3 DE 7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048120" y="1447920"/>
            <a:ext cx="2666880" cy="228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Arial"/>
              </a:rPr>
              <a:t>U. 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Arial"/>
              </a:rPr>
              <a:t>NI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1/3 DE 7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181480" y="4114800"/>
            <a:ext cx="2971800" cy="2438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Arial"/>
              </a:rPr>
              <a:t>U. 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Arial"/>
              </a:rPr>
              <a:t>ADUL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1/3 DE 7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ffff99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RODUCCION A LA CLIN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71800" y="2971800"/>
            <a:ext cx="2895480" cy="2514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Arial"/>
              </a:rPr>
              <a:t>INTRODUCC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Arial"/>
              </a:rPr>
              <a:t>A LA CLIN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14400" y="4005360"/>
            <a:ext cx="2971800" cy="2471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UN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COMUNICAC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87640" y="1447920"/>
            <a:ext cx="2879640" cy="2485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UN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NI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076720" y="4076640"/>
            <a:ext cx="3076560" cy="2476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UN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ADUL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ffff99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CE, signific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Organiz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tructu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lin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xa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ffff99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..y pretende medi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ocimi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bil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trez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tu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ffff99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..en form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Conocimi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Habil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Destrez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Actitu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ultan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y masiv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ffff99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RCUI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 EST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 U. COMUNICAC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 U. del NI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 U. del ADUL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de DESCAN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6121440" y="2146320"/>
            <a:ext cx="1093680" cy="1093680"/>
            <a:chOff x="6121440" y="2146320"/>
            <a:chExt cx="1093680" cy="1093680"/>
          </a:xfrm>
        </p:grpSpPr>
        <p:sp>
          <p:nvSpPr>
            <p:cNvPr id="60" name="_s7211"/>
            <p:cNvSpPr/>
            <p:nvPr/>
          </p:nvSpPr>
          <p:spPr>
            <a:xfrm>
              <a:off x="6121440" y="2146320"/>
              <a:ext cx="1093680" cy="10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726080" y="2240640"/>
            <a:ext cx="3259440" cy="3463920"/>
            <a:chOff x="4726080" y="2240640"/>
            <a:chExt cx="3259440" cy="3463920"/>
          </a:xfrm>
        </p:grpSpPr>
        <p:sp>
          <p:nvSpPr>
            <p:cNvPr id="62" name="_s7262"/>
            <p:cNvSpPr/>
            <p:nvPr/>
          </p:nvSpPr>
          <p:spPr>
            <a:xfrm>
              <a:off x="6050880" y="2296800"/>
              <a:ext cx="605520" cy="671760"/>
            </a:xfrm>
            <a:custGeom>
              <a:avLst/>
              <a:gdLst>
                <a:gd name="textAreaLeft" fmla="*/ 0 w 605520"/>
                <a:gd name="textAreaRight" fmla="*/ 605880 w 605520"/>
                <a:gd name="textAreaTop" fmla="*/ 0 h 671760"/>
                <a:gd name="textAreaBottom" fmla="*/ 672120 h 67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423" y="17990"/>
                  </a:moveTo>
                  <a:arcTo wR="-7200" hR="-7200" stAng="5580000" swAng="-900000"/>
                  <a:lnTo>
                    <a:pt x="8555" y="236"/>
                  </a:lnTo>
                  <a:arcTo wR="10800" hR="10800" stAng="-6120000" swAng="900000"/>
                  <a:lnTo>
                    <a:pt x="11507" y="-2681"/>
                  </a:lnTo>
                  <a:lnTo>
                    <a:pt x="15765" y="2048"/>
                  </a:lnTo>
                  <a:lnTo>
                    <a:pt x="11036" y="6306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7280"/>
            <p:cNvSpPr/>
            <p:nvPr/>
          </p:nvSpPr>
          <p:spPr>
            <a:xfrm rot="2160000">
              <a:off x="6759720" y="2552040"/>
              <a:ext cx="605160" cy="671760"/>
            </a:xfrm>
            <a:custGeom>
              <a:avLst/>
              <a:gdLst>
                <a:gd name="textAreaLeft" fmla="*/ 0 w 605160"/>
                <a:gd name="textAreaRight" fmla="*/ 605520 w 605160"/>
                <a:gd name="textAreaTop" fmla="*/ 0 h 671760"/>
                <a:gd name="textAreaBottom" fmla="*/ 672120 h 67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423" y="17990"/>
                  </a:moveTo>
                  <a:arcTo wR="-7200" hR="-7200" stAng="5580000" swAng="-900000"/>
                  <a:lnTo>
                    <a:pt x="8555" y="236"/>
                  </a:lnTo>
                  <a:arcTo wR="10800" hR="10800" stAng="-6120000" swAng="900000"/>
                  <a:lnTo>
                    <a:pt x="11507" y="-2681"/>
                  </a:lnTo>
                  <a:lnTo>
                    <a:pt x="15765" y="2048"/>
                  </a:lnTo>
                  <a:lnTo>
                    <a:pt x="11036" y="6306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7278"/>
            <p:cNvSpPr/>
            <p:nvPr/>
          </p:nvSpPr>
          <p:spPr>
            <a:xfrm rot="4320000">
              <a:off x="7164360" y="3254760"/>
              <a:ext cx="671760" cy="605160"/>
            </a:xfrm>
            <a:custGeom>
              <a:avLst/>
              <a:gdLst>
                <a:gd name="textAreaLeft" fmla="*/ 0 w 671760"/>
                <a:gd name="textAreaRight" fmla="*/ 672120 w 671760"/>
                <a:gd name="textAreaTop" fmla="*/ 0 h 605160"/>
                <a:gd name="textAreaBottom" fmla="*/ 605520 h 605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423" y="17990"/>
                  </a:moveTo>
                  <a:arcTo wR="-7200" hR="-7200" stAng="5580000" swAng="-900000"/>
                  <a:lnTo>
                    <a:pt x="8555" y="236"/>
                  </a:lnTo>
                  <a:arcTo wR="10800" hR="10800" stAng="-6120000" swAng="900000"/>
                  <a:lnTo>
                    <a:pt x="11507" y="-2681"/>
                  </a:lnTo>
                  <a:lnTo>
                    <a:pt x="15765" y="2048"/>
                  </a:lnTo>
                  <a:lnTo>
                    <a:pt x="11036" y="6306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7276"/>
            <p:cNvSpPr/>
            <p:nvPr/>
          </p:nvSpPr>
          <p:spPr>
            <a:xfrm rot="6480000">
              <a:off x="7164360" y="4082760"/>
              <a:ext cx="671760" cy="605160"/>
            </a:xfrm>
            <a:custGeom>
              <a:avLst/>
              <a:gdLst>
                <a:gd name="textAreaLeft" fmla="*/ 0 w 671760"/>
                <a:gd name="textAreaRight" fmla="*/ 672120 w 671760"/>
                <a:gd name="textAreaTop" fmla="*/ 0 h 605160"/>
                <a:gd name="textAreaBottom" fmla="*/ 605520 h 605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423" y="17990"/>
                  </a:moveTo>
                  <a:arcTo wR="-7200" hR="-7200" stAng="5580000" swAng="-900000"/>
                  <a:lnTo>
                    <a:pt x="8555" y="236"/>
                  </a:lnTo>
                  <a:arcTo wR="10800" hR="10800" stAng="-6120000" swAng="900000"/>
                  <a:lnTo>
                    <a:pt x="11507" y="-2681"/>
                  </a:lnTo>
                  <a:lnTo>
                    <a:pt x="15765" y="2048"/>
                  </a:lnTo>
                  <a:lnTo>
                    <a:pt x="11036" y="6306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7274"/>
            <p:cNvSpPr/>
            <p:nvPr/>
          </p:nvSpPr>
          <p:spPr>
            <a:xfrm rot="8640000">
              <a:off x="6761160" y="4721760"/>
              <a:ext cx="605160" cy="671760"/>
            </a:xfrm>
            <a:custGeom>
              <a:avLst/>
              <a:gdLst>
                <a:gd name="textAreaLeft" fmla="*/ 0 w 605160"/>
                <a:gd name="textAreaRight" fmla="*/ 605520 w 605160"/>
                <a:gd name="textAreaTop" fmla="*/ 0 h 671760"/>
                <a:gd name="textAreaBottom" fmla="*/ 672120 h 67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423" y="17990"/>
                  </a:moveTo>
                  <a:arcTo wR="-7200" hR="-7200" stAng="5580000" swAng="-900000"/>
                  <a:lnTo>
                    <a:pt x="8555" y="236"/>
                  </a:lnTo>
                  <a:arcTo wR="10800" hR="10800" stAng="-6120000" swAng="900000"/>
                  <a:lnTo>
                    <a:pt x="11507" y="-2681"/>
                  </a:lnTo>
                  <a:lnTo>
                    <a:pt x="15765" y="2048"/>
                  </a:lnTo>
                  <a:lnTo>
                    <a:pt x="11036" y="6306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7272"/>
            <p:cNvSpPr/>
            <p:nvPr/>
          </p:nvSpPr>
          <p:spPr>
            <a:xfrm rot="10800000">
              <a:off x="6053040" y="4979520"/>
              <a:ext cx="605160" cy="671760"/>
            </a:xfrm>
            <a:custGeom>
              <a:avLst/>
              <a:gdLst>
                <a:gd name="textAreaLeft" fmla="*/ 0 w 605160"/>
                <a:gd name="textAreaRight" fmla="*/ 605520 w 605160"/>
                <a:gd name="textAreaTop" fmla="*/ 0 h 671760"/>
                <a:gd name="textAreaBottom" fmla="*/ 672120 h 67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423" y="17990"/>
                  </a:moveTo>
                  <a:arcTo wR="-7200" hR="-7200" stAng="5580000" swAng="-900000"/>
                  <a:lnTo>
                    <a:pt x="8555" y="236"/>
                  </a:lnTo>
                  <a:arcTo wR="10800" hR="10800" stAng="-6120000" swAng="900000"/>
                  <a:lnTo>
                    <a:pt x="11507" y="-2681"/>
                  </a:lnTo>
                  <a:lnTo>
                    <a:pt x="15765" y="2048"/>
                  </a:lnTo>
                  <a:lnTo>
                    <a:pt x="11036" y="6306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7270"/>
            <p:cNvSpPr/>
            <p:nvPr/>
          </p:nvSpPr>
          <p:spPr>
            <a:xfrm rot="12960000">
              <a:off x="5341680" y="4723920"/>
              <a:ext cx="605160" cy="671760"/>
            </a:xfrm>
            <a:custGeom>
              <a:avLst/>
              <a:gdLst>
                <a:gd name="textAreaLeft" fmla="*/ 0 w 605160"/>
                <a:gd name="textAreaRight" fmla="*/ 605520 w 605160"/>
                <a:gd name="textAreaTop" fmla="*/ 0 h 671760"/>
                <a:gd name="textAreaBottom" fmla="*/ 672120 h 67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423" y="17990"/>
                  </a:moveTo>
                  <a:arcTo wR="-7200" hR="-7200" stAng="5580000" swAng="-900000"/>
                  <a:lnTo>
                    <a:pt x="8555" y="236"/>
                  </a:lnTo>
                  <a:arcTo wR="10800" hR="10800" stAng="-6120000" swAng="900000"/>
                  <a:lnTo>
                    <a:pt x="11507" y="-2681"/>
                  </a:lnTo>
                  <a:lnTo>
                    <a:pt x="15765" y="2048"/>
                  </a:lnTo>
                  <a:lnTo>
                    <a:pt x="11036" y="6306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7268"/>
            <p:cNvSpPr/>
            <p:nvPr/>
          </p:nvSpPr>
          <p:spPr>
            <a:xfrm rot="15120000">
              <a:off x="4870440" y="4087800"/>
              <a:ext cx="671760" cy="605160"/>
            </a:xfrm>
            <a:custGeom>
              <a:avLst/>
              <a:gdLst>
                <a:gd name="textAreaLeft" fmla="*/ 0 w 671760"/>
                <a:gd name="textAreaRight" fmla="*/ 672120 w 671760"/>
                <a:gd name="textAreaTop" fmla="*/ 0 h 605160"/>
                <a:gd name="textAreaBottom" fmla="*/ 605520 h 605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423" y="17990"/>
                  </a:moveTo>
                  <a:arcTo wR="-7200" hR="-7200" stAng="5580000" swAng="-900000"/>
                  <a:lnTo>
                    <a:pt x="8555" y="236"/>
                  </a:lnTo>
                  <a:arcTo wR="10800" hR="10800" stAng="-6120000" swAng="900000"/>
                  <a:lnTo>
                    <a:pt x="11507" y="-2681"/>
                  </a:lnTo>
                  <a:lnTo>
                    <a:pt x="15765" y="2048"/>
                  </a:lnTo>
                  <a:lnTo>
                    <a:pt x="11036" y="6306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7263"/>
            <p:cNvSpPr/>
            <p:nvPr/>
          </p:nvSpPr>
          <p:spPr>
            <a:xfrm rot="17280000">
              <a:off x="4870440" y="3259800"/>
              <a:ext cx="671760" cy="605160"/>
            </a:xfrm>
            <a:custGeom>
              <a:avLst/>
              <a:gdLst>
                <a:gd name="textAreaLeft" fmla="*/ 0 w 671760"/>
                <a:gd name="textAreaRight" fmla="*/ 672120 w 671760"/>
                <a:gd name="textAreaTop" fmla="*/ 0 h 605160"/>
                <a:gd name="textAreaBottom" fmla="*/ 605520 h 605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423" y="17990"/>
                  </a:moveTo>
                  <a:arcTo wR="-7200" hR="-7200" stAng="5580000" swAng="-900000"/>
                  <a:lnTo>
                    <a:pt x="8555" y="236"/>
                  </a:lnTo>
                  <a:arcTo wR="10800" hR="10800" stAng="-6120000" swAng="900000"/>
                  <a:lnTo>
                    <a:pt x="11507" y="-2681"/>
                  </a:lnTo>
                  <a:lnTo>
                    <a:pt x="15765" y="2048"/>
                  </a:lnTo>
                  <a:lnTo>
                    <a:pt x="11036" y="6306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7265"/>
            <p:cNvSpPr/>
            <p:nvPr/>
          </p:nvSpPr>
          <p:spPr>
            <a:xfrm rot="19440000">
              <a:off x="5340240" y="2557080"/>
              <a:ext cx="605160" cy="671760"/>
            </a:xfrm>
            <a:custGeom>
              <a:avLst/>
              <a:gdLst>
                <a:gd name="textAreaLeft" fmla="*/ 0 w 605160"/>
                <a:gd name="textAreaRight" fmla="*/ 605520 w 605160"/>
                <a:gd name="textAreaTop" fmla="*/ 0 h 671760"/>
                <a:gd name="textAreaBottom" fmla="*/ 672120 h 67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423" y="17990"/>
                  </a:moveTo>
                  <a:arcTo wR="-7200" hR="-7200" stAng="5580000" swAng="-900000"/>
                  <a:lnTo>
                    <a:pt x="8555" y="236"/>
                  </a:lnTo>
                  <a:arcTo wR="10800" hR="10800" stAng="-6120000" swAng="900000"/>
                  <a:lnTo>
                    <a:pt x="11507" y="-2681"/>
                  </a:lnTo>
                  <a:lnTo>
                    <a:pt x="15765" y="2048"/>
                  </a:lnTo>
                  <a:lnTo>
                    <a:pt x="11036" y="6306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7260"/>
            <p:cNvSpPr/>
            <p:nvPr/>
          </p:nvSpPr>
          <p:spPr>
            <a:xfrm>
              <a:off x="6601320" y="2240640"/>
              <a:ext cx="392760" cy="43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7261"/>
            <p:cNvSpPr/>
            <p:nvPr/>
          </p:nvSpPr>
          <p:spPr>
            <a:xfrm>
              <a:off x="4998240" y="2822400"/>
              <a:ext cx="392400" cy="43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7264"/>
            <p:cNvSpPr/>
            <p:nvPr/>
          </p:nvSpPr>
          <p:spPr>
            <a:xfrm>
              <a:off x="5713200" y="2243520"/>
              <a:ext cx="39276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7267"/>
            <p:cNvSpPr/>
            <p:nvPr/>
          </p:nvSpPr>
          <p:spPr>
            <a:xfrm>
              <a:off x="4726080" y="3757680"/>
              <a:ext cx="39240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7269"/>
            <p:cNvSpPr/>
            <p:nvPr/>
          </p:nvSpPr>
          <p:spPr>
            <a:xfrm>
              <a:off x="5002920" y="4692240"/>
              <a:ext cx="39240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7271"/>
            <p:cNvSpPr/>
            <p:nvPr/>
          </p:nvSpPr>
          <p:spPr>
            <a:xfrm>
              <a:off x="5720040" y="5269320"/>
              <a:ext cx="39240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7273"/>
            <p:cNvSpPr/>
            <p:nvPr/>
          </p:nvSpPr>
          <p:spPr>
            <a:xfrm>
              <a:off x="6606000" y="5267160"/>
              <a:ext cx="39240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_s7275"/>
            <p:cNvSpPr/>
            <p:nvPr/>
          </p:nvSpPr>
          <p:spPr>
            <a:xfrm>
              <a:off x="7321320" y="4687560"/>
              <a:ext cx="39240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7277"/>
            <p:cNvSpPr/>
            <p:nvPr/>
          </p:nvSpPr>
          <p:spPr>
            <a:xfrm>
              <a:off x="7592760" y="3752640"/>
              <a:ext cx="39276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_s7279"/>
            <p:cNvSpPr/>
            <p:nvPr/>
          </p:nvSpPr>
          <p:spPr>
            <a:xfrm>
              <a:off x="7318800" y="2817720"/>
              <a:ext cx="392760" cy="43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ffff99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IRCUITO LOG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2495520" y="1917720"/>
            <a:ext cx="4156200" cy="4068720"/>
            <a:chOff x="2495520" y="1917720"/>
            <a:chExt cx="4156200" cy="4068720"/>
          </a:xfrm>
        </p:grpSpPr>
        <p:sp>
          <p:nvSpPr>
            <p:cNvPr id="84" name="_s80901"/>
            <p:cNvSpPr/>
            <p:nvPr/>
          </p:nvSpPr>
          <p:spPr>
            <a:xfrm>
              <a:off x="3722760" y="1935000"/>
              <a:ext cx="1698480" cy="169884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840"/>
                <a:gd name="textAreaBottom" fmla="*/ 1699200 h 169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80902"/>
            <p:cNvSpPr/>
            <p:nvPr/>
          </p:nvSpPr>
          <p:spPr>
            <a:xfrm rot="3060000">
              <a:off x="4565160" y="2341080"/>
              <a:ext cx="1698480" cy="169884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840"/>
                <a:gd name="textAreaBottom" fmla="*/ 1699200 h 169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_s80903"/>
            <p:cNvSpPr/>
            <p:nvPr/>
          </p:nvSpPr>
          <p:spPr>
            <a:xfrm rot="6180000">
              <a:off x="4774680" y="3254040"/>
              <a:ext cx="1698480" cy="169884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840"/>
                <a:gd name="textAreaBottom" fmla="*/ 1699200 h 169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_s80904"/>
            <p:cNvSpPr/>
            <p:nvPr/>
          </p:nvSpPr>
          <p:spPr>
            <a:xfrm rot="9240000">
              <a:off x="4190760" y="3987360"/>
              <a:ext cx="1698480" cy="169848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480"/>
                <a:gd name="textAreaBottom" fmla="*/ 1698840 h 169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80905"/>
            <p:cNvSpPr/>
            <p:nvPr/>
          </p:nvSpPr>
          <p:spPr>
            <a:xfrm rot="12360000">
              <a:off x="3254040" y="3987360"/>
              <a:ext cx="1698480" cy="169848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480"/>
                <a:gd name="textAreaBottom" fmla="*/ 1698840 h 169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_s80906"/>
            <p:cNvSpPr/>
            <p:nvPr/>
          </p:nvSpPr>
          <p:spPr>
            <a:xfrm rot="15420000">
              <a:off x="2670120" y="3255480"/>
              <a:ext cx="1698480" cy="169884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840"/>
                <a:gd name="textAreaBottom" fmla="*/ 1699200 h 169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80907"/>
            <p:cNvSpPr/>
            <p:nvPr/>
          </p:nvSpPr>
          <p:spPr>
            <a:xfrm rot="18540000">
              <a:off x="2877840" y="2341440"/>
              <a:ext cx="1698480" cy="169848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480"/>
                <a:gd name="textAreaBottom" fmla="*/ 1698840 h 169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e9542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_s80908"/>
            <p:cNvSpPr/>
            <p:nvPr/>
          </p:nvSpPr>
          <p:spPr>
            <a:xfrm>
              <a:off x="5016600" y="1917720"/>
              <a:ext cx="664920" cy="66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80909"/>
            <p:cNvSpPr/>
            <p:nvPr/>
          </p:nvSpPr>
          <p:spPr>
            <a:xfrm>
              <a:off x="2495520" y="3133440"/>
              <a:ext cx="66528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80910"/>
            <p:cNvSpPr/>
            <p:nvPr/>
          </p:nvSpPr>
          <p:spPr>
            <a:xfrm>
              <a:off x="3463920" y="1919160"/>
              <a:ext cx="66528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80911"/>
            <p:cNvSpPr/>
            <p:nvPr/>
          </p:nvSpPr>
          <p:spPr>
            <a:xfrm>
              <a:off x="2841480" y="4647960"/>
              <a:ext cx="66528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80912"/>
            <p:cNvSpPr/>
            <p:nvPr/>
          </p:nvSpPr>
          <p:spPr>
            <a:xfrm>
              <a:off x="4241880" y="5321160"/>
              <a:ext cx="66492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80913"/>
            <p:cNvSpPr/>
            <p:nvPr/>
          </p:nvSpPr>
          <p:spPr>
            <a:xfrm>
              <a:off x="5640480" y="4646520"/>
              <a:ext cx="66492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80914"/>
            <p:cNvSpPr/>
            <p:nvPr/>
          </p:nvSpPr>
          <p:spPr>
            <a:xfrm>
              <a:off x="5986440" y="3132000"/>
              <a:ext cx="66528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ffff99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IRCUITO LOG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2495520" y="1917720"/>
            <a:ext cx="4156200" cy="4068720"/>
            <a:chOff x="2495520" y="1917720"/>
            <a:chExt cx="4156200" cy="4068720"/>
          </a:xfrm>
        </p:grpSpPr>
        <p:sp>
          <p:nvSpPr>
            <p:cNvPr id="100" name="_s82949"/>
            <p:cNvSpPr/>
            <p:nvPr/>
          </p:nvSpPr>
          <p:spPr>
            <a:xfrm>
              <a:off x="3722760" y="1935000"/>
              <a:ext cx="1698480" cy="169884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840"/>
                <a:gd name="textAreaBottom" fmla="*/ 1699200 h 169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e9542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82950"/>
            <p:cNvSpPr/>
            <p:nvPr/>
          </p:nvSpPr>
          <p:spPr>
            <a:xfrm rot="3060000">
              <a:off x="4565160" y="2341080"/>
              <a:ext cx="1698480" cy="169884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840"/>
                <a:gd name="textAreaBottom" fmla="*/ 1699200 h 169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82951"/>
            <p:cNvSpPr/>
            <p:nvPr/>
          </p:nvSpPr>
          <p:spPr>
            <a:xfrm rot="6180000">
              <a:off x="4774680" y="3254040"/>
              <a:ext cx="1698480" cy="169884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840"/>
                <a:gd name="textAreaBottom" fmla="*/ 1699200 h 169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82952"/>
            <p:cNvSpPr/>
            <p:nvPr/>
          </p:nvSpPr>
          <p:spPr>
            <a:xfrm rot="9240000">
              <a:off x="4190760" y="3987360"/>
              <a:ext cx="1698480" cy="169848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480"/>
                <a:gd name="textAreaBottom" fmla="*/ 1698840 h 169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82953"/>
            <p:cNvSpPr/>
            <p:nvPr/>
          </p:nvSpPr>
          <p:spPr>
            <a:xfrm rot="12360000">
              <a:off x="3254040" y="3987360"/>
              <a:ext cx="1698480" cy="169848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480"/>
                <a:gd name="textAreaBottom" fmla="*/ 1698840 h 169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82954"/>
            <p:cNvSpPr/>
            <p:nvPr/>
          </p:nvSpPr>
          <p:spPr>
            <a:xfrm rot="15420000">
              <a:off x="2670120" y="3255480"/>
              <a:ext cx="1698480" cy="169884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840"/>
                <a:gd name="textAreaBottom" fmla="*/ 1699200 h 169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82955"/>
            <p:cNvSpPr/>
            <p:nvPr/>
          </p:nvSpPr>
          <p:spPr>
            <a:xfrm rot="18540000">
              <a:off x="2877840" y="2341440"/>
              <a:ext cx="1698480" cy="169848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480"/>
                <a:gd name="textAreaBottom" fmla="*/ 1698840 h 169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82956"/>
            <p:cNvSpPr/>
            <p:nvPr/>
          </p:nvSpPr>
          <p:spPr>
            <a:xfrm>
              <a:off x="5016600" y="1917720"/>
              <a:ext cx="664920" cy="66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82957"/>
            <p:cNvSpPr/>
            <p:nvPr/>
          </p:nvSpPr>
          <p:spPr>
            <a:xfrm>
              <a:off x="2495520" y="3133440"/>
              <a:ext cx="66528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82958"/>
            <p:cNvSpPr/>
            <p:nvPr/>
          </p:nvSpPr>
          <p:spPr>
            <a:xfrm>
              <a:off x="3463920" y="1919160"/>
              <a:ext cx="66528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82959"/>
            <p:cNvSpPr/>
            <p:nvPr/>
          </p:nvSpPr>
          <p:spPr>
            <a:xfrm>
              <a:off x="2841480" y="4647960"/>
              <a:ext cx="66528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82960"/>
            <p:cNvSpPr/>
            <p:nvPr/>
          </p:nvSpPr>
          <p:spPr>
            <a:xfrm>
              <a:off x="4241880" y="5321160"/>
              <a:ext cx="66492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82961"/>
            <p:cNvSpPr/>
            <p:nvPr/>
          </p:nvSpPr>
          <p:spPr>
            <a:xfrm>
              <a:off x="5640480" y="4646520"/>
              <a:ext cx="66492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82962"/>
            <p:cNvSpPr/>
            <p:nvPr/>
          </p:nvSpPr>
          <p:spPr>
            <a:xfrm>
              <a:off x="5986440" y="3132000"/>
              <a:ext cx="66528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ffff99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IRCUITO LOG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2495520" y="1917720"/>
            <a:ext cx="4156200" cy="4068720"/>
            <a:chOff x="2495520" y="1917720"/>
            <a:chExt cx="4156200" cy="4068720"/>
          </a:xfrm>
        </p:grpSpPr>
        <p:sp>
          <p:nvSpPr>
            <p:cNvPr id="116" name="_s84997"/>
            <p:cNvSpPr/>
            <p:nvPr/>
          </p:nvSpPr>
          <p:spPr>
            <a:xfrm>
              <a:off x="3722760" y="1935000"/>
              <a:ext cx="1698480" cy="169884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840"/>
                <a:gd name="textAreaBottom" fmla="*/ 1699200 h 169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84998"/>
            <p:cNvSpPr/>
            <p:nvPr/>
          </p:nvSpPr>
          <p:spPr>
            <a:xfrm rot="3060000">
              <a:off x="4565160" y="2341080"/>
              <a:ext cx="1698480" cy="169884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840"/>
                <a:gd name="textAreaBottom" fmla="*/ 1699200 h 169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e9542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84999"/>
            <p:cNvSpPr/>
            <p:nvPr/>
          </p:nvSpPr>
          <p:spPr>
            <a:xfrm rot="6180000">
              <a:off x="4774680" y="3254040"/>
              <a:ext cx="1698480" cy="169884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840"/>
                <a:gd name="textAreaBottom" fmla="*/ 1699200 h 169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85000"/>
            <p:cNvSpPr/>
            <p:nvPr/>
          </p:nvSpPr>
          <p:spPr>
            <a:xfrm rot="9240000">
              <a:off x="4190760" y="3987360"/>
              <a:ext cx="1698480" cy="169848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480"/>
                <a:gd name="textAreaBottom" fmla="*/ 1698840 h 169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85001"/>
            <p:cNvSpPr/>
            <p:nvPr/>
          </p:nvSpPr>
          <p:spPr>
            <a:xfrm rot="12360000">
              <a:off x="3254040" y="3987360"/>
              <a:ext cx="1698480" cy="169848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480"/>
                <a:gd name="textAreaBottom" fmla="*/ 1698840 h 169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85002"/>
            <p:cNvSpPr/>
            <p:nvPr/>
          </p:nvSpPr>
          <p:spPr>
            <a:xfrm rot="15420000">
              <a:off x="2670120" y="3255480"/>
              <a:ext cx="1698480" cy="169884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840"/>
                <a:gd name="textAreaBottom" fmla="*/ 1699200 h 169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85003"/>
            <p:cNvSpPr/>
            <p:nvPr/>
          </p:nvSpPr>
          <p:spPr>
            <a:xfrm rot="18540000">
              <a:off x="2877840" y="2341440"/>
              <a:ext cx="1698480" cy="169848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480"/>
                <a:gd name="textAreaBottom" fmla="*/ 1698840 h 169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85004"/>
            <p:cNvSpPr/>
            <p:nvPr/>
          </p:nvSpPr>
          <p:spPr>
            <a:xfrm>
              <a:off x="5016600" y="1917720"/>
              <a:ext cx="664920" cy="66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85005"/>
            <p:cNvSpPr/>
            <p:nvPr/>
          </p:nvSpPr>
          <p:spPr>
            <a:xfrm>
              <a:off x="2495520" y="3133440"/>
              <a:ext cx="66528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85006"/>
            <p:cNvSpPr/>
            <p:nvPr/>
          </p:nvSpPr>
          <p:spPr>
            <a:xfrm>
              <a:off x="3463920" y="1919160"/>
              <a:ext cx="66528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85007"/>
            <p:cNvSpPr/>
            <p:nvPr/>
          </p:nvSpPr>
          <p:spPr>
            <a:xfrm>
              <a:off x="2841480" y="4647960"/>
              <a:ext cx="66528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85008"/>
            <p:cNvSpPr/>
            <p:nvPr/>
          </p:nvSpPr>
          <p:spPr>
            <a:xfrm>
              <a:off x="4241880" y="5321160"/>
              <a:ext cx="66492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85009"/>
            <p:cNvSpPr/>
            <p:nvPr/>
          </p:nvSpPr>
          <p:spPr>
            <a:xfrm>
              <a:off x="5640480" y="4646520"/>
              <a:ext cx="66492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85010"/>
            <p:cNvSpPr/>
            <p:nvPr/>
          </p:nvSpPr>
          <p:spPr>
            <a:xfrm>
              <a:off x="5986440" y="3132000"/>
              <a:ext cx="66528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0T21:25:40Z</dcterms:created>
  <dc:creator>.</dc:creator>
  <dc:description/>
  <dc:language>en-US</dc:language>
  <cp:lastModifiedBy>Fac. de Medicina</cp:lastModifiedBy>
  <dcterms:modified xsi:type="dcterms:W3CDTF">2008-12-01T16:40:40Z</dcterms:modified>
  <cp:revision>15</cp:revision>
  <dc:subject/>
  <dc:title>OSCE</dc:title>
</cp:coreProperties>
</file>