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033-5396-4465-868B-EECE901B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EAB-4DAD-43D8-B86A-AABC761D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DBE-E0F5-4A98-A527-5D5E3424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BAA-BF12-433C-8F50-56791292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9FE-4F48-4BDE-ADDE-F2691DD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71A-63CB-4923-B37B-B112F0B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544-47E0-417A-92DC-F99575C1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D7B-FC1E-4AD2-B15C-590B50E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FC4-92EB-470C-8245-FEC7502B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CDD-FEBD-4046-8E3D-371EC8A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13C-CDB2-4250-B62A-BC7A2CE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633-8EDD-42A9-BDEA-60FCB88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54BA-FA22-41FF-8959-6C675570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SCE 20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acultad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87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32" name="_s87045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7046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7047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7048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7049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7050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7051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7052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7053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87054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7055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87056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87057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7058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48" name="_s89093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9094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89095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9096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89097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89098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89099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89100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89101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89102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8910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89104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89105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89106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64" name="_s9114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114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114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114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9114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9114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9114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114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114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115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115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115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115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115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80" name="_s9318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319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319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319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319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319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319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319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319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319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319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320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320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9320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ar nombre en Hoja de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ar en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808080"/>
                </a:solidFill>
                <a:latin typeface="Arial"/>
              </a:rPr>
              <a:t>BU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Instr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Buz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Anotar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Corregir en la misma h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08080"/>
                </a:solidFill>
                <a:latin typeface="Arial"/>
              </a:rPr>
              <a:t>Depositar en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ENTE /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 y/o 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r solamente lo que pregun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143000"/>
            <a:ext cx="83844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1430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ICACION FINAL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299736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114800"/>
            <a:ext cx="2971800" cy="236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1447920"/>
            <a:ext cx="266688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114800"/>
            <a:ext cx="2971800" cy="24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U.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1/3 DE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ON A LA CL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2971800"/>
            <a:ext cx="2895480" cy="251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 LA CLI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005360"/>
            <a:ext cx="2971800" cy="247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1447920"/>
            <a:ext cx="2879640" cy="24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076640"/>
            <a:ext cx="3076560" cy="247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E, signif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rganiz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y pretende med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en for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str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y ma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COMUNIC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NI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U. del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e DESCA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21440" y="2146320"/>
            <a:ext cx="1093680" cy="1093680"/>
            <a:chOff x="6121440" y="2146320"/>
            <a:chExt cx="1093680" cy="1093680"/>
          </a:xfrm>
        </p:grpSpPr>
        <p:sp>
          <p:nvSpPr>
            <p:cNvPr id="60" name="_s7211"/>
            <p:cNvSpPr/>
            <p:nvPr/>
          </p:nvSpPr>
          <p:spPr>
            <a:xfrm>
              <a:off x="6121440" y="214632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26080" y="2240640"/>
            <a:ext cx="3259440" cy="3463920"/>
            <a:chOff x="4726080" y="2240640"/>
            <a:chExt cx="3259440" cy="3463920"/>
          </a:xfrm>
        </p:grpSpPr>
        <p:sp>
          <p:nvSpPr>
            <p:cNvPr id="62" name="_s7262"/>
            <p:cNvSpPr/>
            <p:nvPr/>
          </p:nvSpPr>
          <p:spPr>
            <a:xfrm>
              <a:off x="6050880" y="2296800"/>
              <a:ext cx="605520" cy="6717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280"/>
            <p:cNvSpPr/>
            <p:nvPr/>
          </p:nvSpPr>
          <p:spPr>
            <a:xfrm rot="2160000">
              <a:off x="6759720" y="255204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278"/>
            <p:cNvSpPr/>
            <p:nvPr/>
          </p:nvSpPr>
          <p:spPr>
            <a:xfrm rot="4320000">
              <a:off x="7164360" y="3254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276"/>
            <p:cNvSpPr/>
            <p:nvPr/>
          </p:nvSpPr>
          <p:spPr>
            <a:xfrm rot="6480000">
              <a:off x="7164360" y="408276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274"/>
            <p:cNvSpPr/>
            <p:nvPr/>
          </p:nvSpPr>
          <p:spPr>
            <a:xfrm rot="8640000">
              <a:off x="6761160" y="472176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272"/>
            <p:cNvSpPr/>
            <p:nvPr/>
          </p:nvSpPr>
          <p:spPr>
            <a:xfrm rot="10800000">
              <a:off x="6053040" y="49795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270"/>
            <p:cNvSpPr/>
            <p:nvPr/>
          </p:nvSpPr>
          <p:spPr>
            <a:xfrm rot="12960000">
              <a:off x="5341680" y="472392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268"/>
            <p:cNvSpPr/>
            <p:nvPr/>
          </p:nvSpPr>
          <p:spPr>
            <a:xfrm rot="15120000">
              <a:off x="4870440" y="4087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263"/>
            <p:cNvSpPr/>
            <p:nvPr/>
          </p:nvSpPr>
          <p:spPr>
            <a:xfrm rot="17280000">
              <a:off x="4870440" y="3259800"/>
              <a:ext cx="671760" cy="6051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265"/>
            <p:cNvSpPr/>
            <p:nvPr/>
          </p:nvSpPr>
          <p:spPr>
            <a:xfrm rot="19440000">
              <a:off x="5340240" y="2557080"/>
              <a:ext cx="605160" cy="67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260"/>
            <p:cNvSpPr/>
            <p:nvPr/>
          </p:nvSpPr>
          <p:spPr>
            <a:xfrm>
              <a:off x="6601320" y="224064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261"/>
            <p:cNvSpPr/>
            <p:nvPr/>
          </p:nvSpPr>
          <p:spPr>
            <a:xfrm>
              <a:off x="4998240" y="2822400"/>
              <a:ext cx="39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264"/>
            <p:cNvSpPr/>
            <p:nvPr/>
          </p:nvSpPr>
          <p:spPr>
            <a:xfrm>
              <a:off x="5713200" y="224352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267"/>
            <p:cNvSpPr/>
            <p:nvPr/>
          </p:nvSpPr>
          <p:spPr>
            <a:xfrm>
              <a:off x="4726080" y="375768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269"/>
            <p:cNvSpPr/>
            <p:nvPr/>
          </p:nvSpPr>
          <p:spPr>
            <a:xfrm>
              <a:off x="5002920" y="469224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271"/>
            <p:cNvSpPr/>
            <p:nvPr/>
          </p:nvSpPr>
          <p:spPr>
            <a:xfrm>
              <a:off x="5720040" y="526932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7273"/>
            <p:cNvSpPr/>
            <p:nvPr/>
          </p:nvSpPr>
          <p:spPr>
            <a:xfrm>
              <a:off x="6606000" y="52671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7275"/>
            <p:cNvSpPr/>
            <p:nvPr/>
          </p:nvSpPr>
          <p:spPr>
            <a:xfrm>
              <a:off x="7321320" y="4687560"/>
              <a:ext cx="392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277"/>
            <p:cNvSpPr/>
            <p:nvPr/>
          </p:nvSpPr>
          <p:spPr>
            <a:xfrm>
              <a:off x="7592760" y="3752640"/>
              <a:ext cx="39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7279"/>
            <p:cNvSpPr/>
            <p:nvPr/>
          </p:nvSpPr>
          <p:spPr>
            <a:xfrm>
              <a:off x="7318800" y="2817720"/>
              <a:ext cx="3927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84" name="_s80901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0902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0903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0904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0905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0906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0907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0908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0909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0910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0911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091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0913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0914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00" name="_s82949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950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951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82952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82953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82954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2955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82956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82957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82958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82959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960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29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2962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RCUIT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95520" y="1917720"/>
            <a:ext cx="4156200" cy="4068720"/>
            <a:chOff x="2495520" y="1917720"/>
            <a:chExt cx="4156200" cy="4068720"/>
          </a:xfrm>
        </p:grpSpPr>
        <p:sp>
          <p:nvSpPr>
            <p:cNvPr id="116" name="_s84997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4998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954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4999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00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5001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02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5003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04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5005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06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85007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8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5009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1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25:40Z</dcterms:created>
  <dc:creator>.</dc:creator>
  <dc:description/>
  <dc:language>en-US</dc:language>
  <cp:lastModifiedBy>Fac. de Medicina</cp:lastModifiedBy>
  <dcterms:modified xsi:type="dcterms:W3CDTF">2008-12-01T16:40:40Z</dcterms:modified>
  <cp:revision>15</cp:revision>
  <dc:subject/>
  <dc:title>OSCE</dc:title>
</cp:coreProperties>
</file>