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21.png" ContentType="image/png"/>
  <Override PartName="/ppt/media/image5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7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3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78D-FD9E-4B8B-819B-E7DAED73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D55-DC42-4293-A72C-D549B1D0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39F-26AD-40BF-BD78-05075442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E39-4100-4A43-9A2E-55B2C560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EDD-D8A7-47CA-A30B-0E133728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2FE0-14D6-4BD4-8BCA-C5BB403F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48A-85D9-4B18-AE23-1B43271A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2D3-0BC3-4D7F-A47F-570701D9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DD7A-7802-4A14-9882-1776FBF3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08C-E9A8-4A11-AA85-74E8311B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5B4-9DF3-4B44-AF16-3AE67E35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763-2342-4B9E-8B05-E7FBCF8D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D803-1257-41A8-9541-DBA6C460F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sthma" TargetMode="External"/><Relationship Id="rId2" Type="http://schemas.openxmlformats.org/officeDocument/2006/relationships/hyperlink" Target="http://en.wikipedia.org/wiki/Conjunctivitis" TargetMode="External"/><Relationship Id="rId3" Type="http://schemas.openxmlformats.org/officeDocument/2006/relationships/hyperlink" Target="http://en.wikipedia.org/wiki/Allergic_rhinitis" TargetMode="External"/><Relationship Id="rId4" Type="http://schemas.openxmlformats.org/officeDocument/2006/relationships/hyperlink" Target="http://en.wikipedia.org/wiki/Anaphylaxis" TargetMode="External"/><Relationship Id="rId5" Type="http://schemas.openxmlformats.org/officeDocument/2006/relationships/hyperlink" Target="http://en.wikipedia.org/wiki/Angioedema" TargetMode="External"/><Relationship Id="rId6" Type="http://schemas.openxmlformats.org/officeDocument/2006/relationships/hyperlink" Target="http://en.wikipedia.org/wiki/Urticaria" TargetMode="Externa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naemia" TargetMode="External"/><Relationship Id="rId2" Type="http://schemas.openxmlformats.org/officeDocument/2006/relationships/hyperlink" Target="http://en.wikipedia.org/wiki/Goodpasture%27s_syndrome" TargetMode="External"/><Relationship Id="rId3" Type="http://schemas.openxmlformats.org/officeDocument/2006/relationships/hyperlink" Target="http://en.wikipedia.org/wiki/Goodpasture%27s_syndrome" TargetMode="External"/><Relationship Id="rId4" Type="http://schemas.openxmlformats.org/officeDocument/2006/relationships/hyperlink" Target="http://en.wikipedia.org/wiki/Erythroblastosis_Fetalis" TargetMode="External"/><Relationship Id="rId5" Type="http://schemas.openxmlformats.org/officeDocument/2006/relationships/hyperlink" Target="http://en.wikipedia.org/wiki/Pemphigus" TargetMode="External"/><Relationship Id="rId6" Type="http://schemas.openxmlformats.org/officeDocument/2006/relationships/hyperlink" Target="http://en.wikipedia.org/wiki/Pernicious_anemia" TargetMode="External"/><Relationship Id="rId7" Type="http://schemas.openxmlformats.org/officeDocument/2006/relationships/hyperlink" Target="http://en.wikipedia.org/wiki/Pernicious_anemia" TargetMode="External"/><Relationship Id="rId8" Type="http://schemas.openxmlformats.org/officeDocument/2006/relationships/hyperlink" Target="http://en.wikipedia.org/wiki/Thrombocytopenia" TargetMode="External"/><Relationship Id="rId9" Type="http://schemas.openxmlformats.org/officeDocument/2006/relationships/hyperlink" Target="http://en.wikipedia.org/wiki/Thrombocytopenia" TargetMode="External"/><Relationship Id="rId10" Type="http://schemas.openxmlformats.org/officeDocument/2006/relationships/hyperlink" Target="http://en.wikipedia.org/wiki/Blood_transfusion" TargetMode="External"/><Relationship Id="rId11" Type="http://schemas.openxmlformats.org/officeDocument/2006/relationships/hyperlink" Target="http://en.wikipedia.org/wiki/Hashimoto%27s_thyroiditis" TargetMode="External"/><Relationship Id="rId12" Type="http://schemas.openxmlformats.org/officeDocument/2006/relationships/hyperlink" Target="http://en.wikipedia.org/wiki/Hashimoto%27s_thyroiditis" TargetMode="External"/><Relationship Id="rId13" Type="http://schemas.openxmlformats.org/officeDocument/2006/relationships/hyperlink" Target="http://en.wikipedia.org/wiki/Hashimoto%27s_thyroiditis" TargetMode="External"/><Relationship Id="rId14" Type="http://schemas.openxmlformats.org/officeDocument/2006/relationships/hyperlink" Target="http://en.wikipedia.org/wiki/Graves%27_disease" TargetMode="External"/><Relationship Id="rId15" Type="http://schemas.openxmlformats.org/officeDocument/2006/relationships/hyperlink" Target="http://en.wikipedia.org/wiki/Myasthenia_gravis" TargetMode="External"/><Relationship Id="rId1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rthus_reaction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5400" spc="-1" strike="noStrike">
                <a:solidFill>
                  <a:srgbClr val="ffffff"/>
                </a:solidFill>
                <a:latin typeface="Arial"/>
              </a:rPr>
              <a:t>INMUNOPATOLOG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64008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.Pe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849240"/>
            <a:ext cx="7524720" cy="6008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80360" y="90792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I.Pe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37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56360" y="4869000"/>
            <a:ext cx="3995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nmunod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bin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v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404640"/>
            <a:ext cx="43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Congénit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652464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594360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S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Adquirid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6057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079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ffff"/>
                </a:solidFill>
                <a:latin typeface="Arial"/>
              </a:rPr>
              <a:t>S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0388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73640" y="765000"/>
            <a:ext cx="3870360" cy="609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92720" y="0"/>
            <a:ext cx="3851280" cy="825120"/>
          </a:xfrm>
          <a:prstGeom prst="rect">
            <a:avLst/>
          </a:prstGeom>
          <a:solidFill>
            <a:srgbClr val="a4a8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b) Cánc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4533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Linfoma de Burk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267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25360"/>
            <a:ext cx="5508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fermedades mediadas inmunológic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260280"/>
            <a:ext cx="3311640" cy="1584360"/>
          </a:xfrm>
          <a:prstGeom prst="rect">
            <a:avLst/>
          </a:prstGeom>
          <a:gradFill rotWithShape="0">
            <a:gsLst>
              <a:gs pos="0">
                <a:srgbClr val="f3fba3"/>
              </a:gs>
              <a:gs pos="100000">
                <a:srgbClr val="7073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260280"/>
            <a:ext cx="3311640" cy="1584360"/>
          </a:xfrm>
          <a:prstGeom prst="rect">
            <a:avLst/>
          </a:prstGeom>
          <a:gradFill rotWithShape="0">
            <a:gsLst>
              <a:gs pos="0">
                <a:srgbClr val="72602d"/>
              </a:gs>
              <a:gs pos="100000">
                <a:srgbClr val="f9d26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04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ntígeno proveniente del med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47628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ntigeno perteneciente al propio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2060640"/>
            <a:ext cx="647640" cy="3097080"/>
          </a:xfrm>
          <a:prstGeom prst="downArrow">
            <a:avLst>
              <a:gd name="adj1" fmla="val 50000"/>
              <a:gd name="adj2" fmla="val 119553"/>
            </a:avLst>
          </a:prstGeom>
          <a:gradFill rotWithShape="0">
            <a:gsLst>
              <a:gs pos="0">
                <a:srgbClr val="f3fba3"/>
              </a:gs>
              <a:gs pos="100000">
                <a:srgbClr val="7073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2060640"/>
            <a:ext cx="647640" cy="3097080"/>
          </a:xfrm>
          <a:prstGeom prst="downArrow">
            <a:avLst>
              <a:gd name="adj1" fmla="val 50000"/>
              <a:gd name="adj2" fmla="val 119553"/>
            </a:avLst>
          </a:prstGeom>
          <a:gradFill rotWithShape="0">
            <a:gsLst>
              <a:gs pos="0">
                <a:srgbClr val="72602d"/>
              </a:gs>
              <a:gs pos="100000">
                <a:srgbClr val="f9d26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373720"/>
            <a:ext cx="4211640" cy="1079640"/>
          </a:xfrm>
          <a:prstGeom prst="rect">
            <a:avLst/>
          </a:prstGeom>
          <a:gradFill rotWithShape="0">
            <a:gsLst>
              <a:gs pos="0">
                <a:srgbClr val="f3fba3"/>
              </a:gs>
              <a:gs pos="100000">
                <a:srgbClr val="7073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5373720"/>
            <a:ext cx="4211640" cy="1079640"/>
          </a:xfrm>
          <a:prstGeom prst="rect">
            <a:avLst/>
          </a:prstGeom>
          <a:gradFill rotWithShape="0">
            <a:gsLst>
              <a:gs pos="0">
                <a:srgbClr val="72602d"/>
              </a:gs>
              <a:gs pos="100000">
                <a:srgbClr val="f9d26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66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persensi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5373720"/>
            <a:ext cx="38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fermedad autoinm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2852640"/>
            <a:ext cx="4753080" cy="1081080"/>
          </a:xfrm>
          <a:prstGeom prst="leftRightArrow">
            <a:avLst>
              <a:gd name="adj1" fmla="val 50000"/>
              <a:gd name="adj2" fmla="val 87525"/>
            </a:avLst>
          </a:prstGeom>
          <a:gradFill rotWithShape="0">
            <a:gsLst>
              <a:gs pos="0">
                <a:srgbClr val="754334"/>
              </a:gs>
              <a:gs pos="50000">
                <a:srgbClr val="fe9372"/>
              </a:gs>
              <a:gs pos="100000">
                <a:srgbClr val="7543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3213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ecanismos de daño inmu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le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canismos de daño inmunológico tipo I, II, III, IV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ipersensibilidad de tipo I, II, III,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fermedades inmunológicas producidas por anticuerp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fermedades inmunológicas producidas por linfocitos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fermedades inmun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)  Hipersensibilidad inmediata (I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equivale al tipo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) Enfermedades causadas por  Ac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a antígenos celulares o hístic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fijos (equivale a tipo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) Enfermedades producidas p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mplejos inmunes (equivale a tipo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) Enfermedades producidas por linfocitosT e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espuestas DTH (hipersensibilidad retardada) (equivale a tipo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) Enfermedades producidas por linfoc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 citotóxicos (equivale a tipo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836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(Nomenclatura Abba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981000"/>
            <a:ext cx="3816360" cy="266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8da9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3933720"/>
            <a:ext cx="3816360" cy="2664000"/>
          </a:xfrm>
          <a:prstGeom prst="rect">
            <a:avLst/>
          </a:prstGeom>
          <a:gradFill rotWithShape="0">
            <a:gsLst>
              <a:gs pos="0">
                <a:srgbClr val="edfd1f"/>
              </a:gs>
              <a:gs pos="100000">
                <a:srgbClr val="9da81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3933720"/>
            <a:ext cx="3816360" cy="2664000"/>
          </a:xfrm>
          <a:prstGeom prst="rect">
            <a:avLst/>
          </a:prstGeom>
          <a:gradFill rotWithShape="0">
            <a:gsLst>
              <a:gs pos="0">
                <a:srgbClr val="71fb92"/>
              </a:gs>
              <a:gs pos="100000">
                <a:srgbClr val="52b66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981000"/>
            <a:ext cx="3816360" cy="2664000"/>
          </a:xfrm>
          <a:prstGeom prst="rect">
            <a:avLst/>
          </a:prstGeom>
          <a:gradFill rotWithShape="0">
            <a:gsLst>
              <a:gs pos="0">
                <a:srgbClr val="fb927d"/>
              </a:gs>
              <a:gs pos="100000">
                <a:srgbClr val="cd77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4784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Mecanismos de daño inmunológ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32000" y="1916280"/>
            <a:ext cx="1428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32000" y="4869000"/>
            <a:ext cx="1428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I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51640" y="1844640"/>
            <a:ext cx="142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651640" y="4797360"/>
            <a:ext cx="142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V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omenclatura tradicional (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0" y="5589720"/>
            <a:ext cx="133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Gell y Coom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Hiper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ntígeno proveniente d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año tisular producto de la respuesta inmune a antígenos que no son dañ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g          Mecanismo de daño           D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munológico                  Tis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41497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f9d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41497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f9d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</a:t>
            </a:r>
            <a:br>
              <a:rPr sz="4000"/>
            </a:b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o hipersensibilidad inmedi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m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alé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njuntiv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initi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alérgica (“fiebre de heno"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afilaxi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– shock anafilác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ngioedem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rticari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(erupcion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Tipo I: anafiláctico-reagí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89388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260280"/>
            <a:ext cx="9144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ff"/>
                </a:solidFill>
                <a:latin typeface="Arial"/>
              </a:rPr>
              <a:t>Mecanismo de Daño Tipo I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Enfermedades causadas por  ACS contra antígenos celulares o hísticos f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emi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hemolítica autoim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índrom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d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oodpas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ritroblastosis f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énfig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nemi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ernicio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trombocitopeni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inmun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reaccion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transfusio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iroiditi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d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ashim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enfermedad de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Grav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(tipo 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miastenia gravi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(tipo 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énfigo vulg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379680" cy="453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549600" cy="46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435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Hipersensi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por mecanismo 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daño tipo II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Enfermedades producidas por complejos inmu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60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4360" y="6093000"/>
            <a:ext cx="84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glomerulonefritis por complejos inm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artritis reumato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enfermedad del su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endocarditis bacteriana sub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lupus eritematoso sisté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reacción de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9999"/>
                </a:solidFill>
                <a:uFillTx/>
                <a:latin typeface="Arial"/>
              </a:rPr>
              <a:t>síntomas de la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2133720"/>
            <a:ext cx="9144000" cy="17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Hipersensibilidad por mecanismo de daño Tipo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dermatitis por contac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arteritis temp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íntomas de la le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íntomas de la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ipersensibilidad Tipo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 igual al tipo II pero los anticuerpos, en vez de destruir la célula reconocida, la estimulan a secretar (Enfermedad de Basedow-Graves) o inhiben la recepción de un agonista (Miastenia grav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Utilizado por algunos autores especialmente ingl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Que sentido tienen estos tipos de respuesta en la inmunidad protectora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 = respuesta frente a parásitos metazoos del tracto respiratorio y gastro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I = microorganismos extracel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II = partículas virales circulantes en estados de vir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V: agentes extracelulares indigeribles tales como mycobacterium tuberculosis y huevos de schistos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260280"/>
            <a:ext cx="3816360" cy="2664000"/>
          </a:xfrm>
          <a:prstGeom prst="rect">
            <a:avLst/>
          </a:prstGeom>
          <a:gradFill rotWithShape="0">
            <a:gsLst>
              <a:gs pos="0">
                <a:srgbClr val="734339"/>
              </a:gs>
              <a:gs pos="50000">
                <a:srgbClr val="fb927d"/>
              </a:gs>
              <a:gs pos="100000">
                <a:srgbClr val="73433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573360"/>
            <a:ext cx="3816360" cy="2664000"/>
          </a:xfrm>
          <a:prstGeom prst="rect">
            <a:avLst/>
          </a:prstGeom>
          <a:gradFill rotWithShape="0">
            <a:gsLst>
              <a:gs pos="0">
                <a:srgbClr val="6d740e"/>
              </a:gs>
              <a:gs pos="50000">
                <a:srgbClr val="edfd1f"/>
              </a:gs>
              <a:gs pos="100000">
                <a:srgbClr val="6d740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3500280"/>
            <a:ext cx="3816360" cy="2664000"/>
          </a:xfrm>
          <a:prstGeom prst="rect">
            <a:avLst/>
          </a:prstGeom>
          <a:gradFill rotWithShape="0">
            <a:gsLst>
              <a:gs pos="0">
                <a:srgbClr val="347343"/>
              </a:gs>
              <a:gs pos="50000">
                <a:srgbClr val="71fb92"/>
              </a:gs>
              <a:gs pos="100000">
                <a:srgbClr val="34734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260280"/>
            <a:ext cx="3816360" cy="2664000"/>
          </a:xfrm>
          <a:prstGeom prst="rect">
            <a:avLst/>
          </a:prstGeom>
          <a:gradFill rotWithShape="0">
            <a:gsLst>
              <a:gs pos="0">
                <a:srgbClr val="4b4d73"/>
              </a:gs>
              <a:gs pos="50000">
                <a:srgbClr val="a4a8fa"/>
              </a:gs>
              <a:gs pos="100000">
                <a:srgbClr val="4b4d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1253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persens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149720"/>
            <a:ext cx="36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ferme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utoinm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1052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Inmunod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436572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á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3388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6381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435640" y="4221000"/>
            <a:ext cx="2736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7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Enfermedades mediadas inmunológicamente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2636640"/>
            <a:ext cx="8291520" cy="35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La respues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inmune adaptativa humoral o celular es </a:t>
            </a:r>
            <a:r>
              <a:rPr b="1" lang="es-AR" sz="4800" spc="-1" strike="noStrike" u="sng">
                <a:solidFill>
                  <a:srgbClr val="000000"/>
                </a:solidFill>
                <a:uFillTx/>
                <a:latin typeface="Arial"/>
              </a:rPr>
              <a:t>responsable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 de daño tisu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221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481560"/>
            <a:ext cx="4572000" cy="3376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529320" y="0"/>
            <a:ext cx="2614680" cy="39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788000" y="4044960"/>
            <a:ext cx="4356000" cy="281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4036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492280"/>
            <a:ext cx="64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Hiper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540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46920" y="2205000"/>
            <a:ext cx="3097080" cy="465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3618000"/>
            <a:ext cx="5076720" cy="32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-9216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5640" y="260280"/>
            <a:ext cx="514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 Enferm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Auto-inmu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36000" y="6491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Lu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Inmunodeficiencias y cáncer 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El sistema inmune adaptativo está </a:t>
            </a:r>
            <a:r>
              <a:rPr b="1" lang="es-AR" sz="5400" spc="-1" strike="noStrike" u="sng">
                <a:solidFill>
                  <a:srgbClr val="000000"/>
                </a:solidFill>
                <a:uFillTx/>
                <a:latin typeface="Arial"/>
              </a:rPr>
              <a:t>enferm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0000"/>
                </a:solidFill>
                <a:latin typeface="Arial"/>
              </a:rPr>
              <a:t>a) Inmunodeficienc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557360"/>
            <a:ext cx="3600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7000"/>
            <a:ext cx="302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Congén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789360"/>
            <a:ext cx="3600360" cy="1655640"/>
          </a:xfrm>
          <a:prstGeom prst="rect">
            <a:avLst/>
          </a:prstGeom>
          <a:gradFill rotWithShape="0">
            <a:gsLst>
              <a:gs pos="0">
                <a:srgbClr val="71fb92"/>
              </a:gs>
              <a:gs pos="100000">
                <a:srgbClr val="34734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221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dquiri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2205000"/>
            <a:ext cx="1439640" cy="576360"/>
          </a:xfrm>
          <a:prstGeom prst="rightArrow">
            <a:avLst>
              <a:gd name="adj1" fmla="val 50000"/>
              <a:gd name="adj2" fmla="val 624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4292640"/>
            <a:ext cx="1511280" cy="576360"/>
          </a:xfrm>
          <a:prstGeom prst="rightArrow">
            <a:avLst>
              <a:gd name="adj1" fmla="val 50000"/>
              <a:gd name="adj2" fmla="val 655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2060640"/>
            <a:ext cx="2881080" cy="2879640"/>
          </a:xfrm>
          <a:prstGeom prst="rect">
            <a:avLst/>
          </a:prstGeom>
          <a:gradFill rotWithShape="0">
            <a:gsLst>
              <a:gs pos="0">
                <a:srgbClr val="edfd1f"/>
              </a:gs>
              <a:gs pos="100000">
                <a:srgbClr val="6d740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2708280"/>
            <a:ext cx="280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ferm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fecc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8:59:47Z</dcterms:created>
  <dc:creator>Usuario</dc:creator>
  <dc:description/>
  <dc:language>en-US</dc:language>
  <cp:lastModifiedBy>Usuario</cp:lastModifiedBy>
  <dcterms:modified xsi:type="dcterms:W3CDTF">2006-10-16T18:57:50Z</dcterms:modified>
  <cp:revision>11</cp:revision>
  <dc:subject/>
  <dc:title>Diapositiva 1</dc:title>
</cp:coreProperties>
</file>