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EE3-E12B-4CEB-A580-E84396AE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F6B-87D9-473B-9D17-10C1B77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5C5-8821-4077-A4AE-633E58B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E28-11BD-4E0B-AA17-DAF7894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1F6-F392-49FC-AE97-079852B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B05-3EFF-4351-A8E5-EC30CF3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32A-8F70-45B6-B138-940D23B7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F00-6CBF-470D-8DFC-E3FCBB3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022-8C1C-4C58-87D3-94EC60F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CD7-CE6D-4ADF-ABF2-3E7C996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F69-2CCA-424B-845A-65FF313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737-0FE0-438D-8C1B-DB5AB9A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28E-61B6-4AD0-BFAA-F778AF565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sthma" TargetMode="External"/><Relationship Id="rId2" Type="http://schemas.openxmlformats.org/officeDocument/2006/relationships/hyperlink" Target="http://en.wikipedia.org/wiki/Conjunctivitis" TargetMode="External"/><Relationship Id="rId3" Type="http://schemas.openxmlformats.org/officeDocument/2006/relationships/hyperlink" Target="http://en.wikipedia.org/wiki/Allergic_rhinitis" TargetMode="External"/><Relationship Id="rId4" Type="http://schemas.openxmlformats.org/officeDocument/2006/relationships/hyperlink" Target="http://en.wikipedia.org/wiki/Anaphylaxis" TargetMode="External"/><Relationship Id="rId5" Type="http://schemas.openxmlformats.org/officeDocument/2006/relationships/hyperlink" Target="http://en.wikipedia.org/wiki/Angioedema" TargetMode="External"/><Relationship Id="rId6" Type="http://schemas.openxmlformats.org/officeDocument/2006/relationships/hyperlink" Target="http://en.wikipedia.org/wiki/Urticaria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emia" TargetMode="External"/><Relationship Id="rId2" Type="http://schemas.openxmlformats.org/officeDocument/2006/relationships/hyperlink" Target="http://en.wikipedia.org/wiki/Goodpasture%27s_syndrome" TargetMode="External"/><Relationship Id="rId3" Type="http://schemas.openxmlformats.org/officeDocument/2006/relationships/hyperlink" Target="http://en.wikipedia.org/wiki/Goodpasture%27s_syndrome" TargetMode="External"/><Relationship Id="rId4" Type="http://schemas.openxmlformats.org/officeDocument/2006/relationships/hyperlink" Target="http://en.wikipedia.org/wiki/Erythroblastosis_Fetalis" TargetMode="External"/><Relationship Id="rId5" Type="http://schemas.openxmlformats.org/officeDocument/2006/relationships/hyperlink" Target="http://en.wikipedia.org/wiki/Pemphigus" TargetMode="External"/><Relationship Id="rId6" Type="http://schemas.openxmlformats.org/officeDocument/2006/relationships/hyperlink" Target="http://en.wikipedia.org/wiki/Pernicious_anemia" TargetMode="External"/><Relationship Id="rId7" Type="http://schemas.openxmlformats.org/officeDocument/2006/relationships/hyperlink" Target="http://en.wikipedia.org/wiki/Pernicious_anemia" TargetMode="External"/><Relationship Id="rId8" Type="http://schemas.openxmlformats.org/officeDocument/2006/relationships/hyperlink" Target="http://en.wikipedia.org/wiki/Thrombocytopenia" TargetMode="External"/><Relationship Id="rId9" Type="http://schemas.openxmlformats.org/officeDocument/2006/relationships/hyperlink" Target="http://en.wikipedia.org/wiki/Thrombocytopenia" TargetMode="External"/><Relationship Id="rId10" Type="http://schemas.openxmlformats.org/officeDocument/2006/relationships/hyperlink" Target="http://en.wikipedia.org/wiki/Blood_transfusion" TargetMode="External"/><Relationship Id="rId11" Type="http://schemas.openxmlformats.org/officeDocument/2006/relationships/hyperlink" Target="http://en.wikipedia.org/wiki/Hashimoto%27s_thyroiditis" TargetMode="External"/><Relationship Id="rId12" Type="http://schemas.openxmlformats.org/officeDocument/2006/relationships/hyperlink" Target="http://en.wikipedia.org/wiki/Hashimoto%27s_thyroiditis" TargetMode="External"/><Relationship Id="rId13" Type="http://schemas.openxmlformats.org/officeDocument/2006/relationships/hyperlink" Target="http://en.wikipedia.org/wiki/Hashimoto%27s_thyroiditis" TargetMode="External"/><Relationship Id="rId14" Type="http://schemas.openxmlformats.org/officeDocument/2006/relationships/hyperlink" Target="http://en.wikipedia.org/wiki/Graves%27_disease" TargetMode="External"/><Relationship Id="rId15" Type="http://schemas.openxmlformats.org/officeDocument/2006/relationships/hyperlink" Target="http://en.wikipedia.org/wiki/Myasthenia_gravis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thus_reaction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INMUNOPAT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849240"/>
            <a:ext cx="7524720" cy="600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80360" y="9079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37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4869000"/>
            <a:ext cx="39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b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4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524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943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07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73640" y="765000"/>
            <a:ext cx="38703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0"/>
            <a:ext cx="3851280" cy="825120"/>
          </a:xfrm>
          <a:prstGeom prst="rect">
            <a:avLst/>
          </a:prstGeom>
          <a:solidFill>
            <a:srgbClr val="a4a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b) Cá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infoma de Burk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25360"/>
            <a:ext cx="550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76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igeno perteneciente al propio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37372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852640"/>
            <a:ext cx="4753080" cy="1081080"/>
          </a:xfrm>
          <a:prstGeom prst="leftRightArrow">
            <a:avLst>
              <a:gd name="adj1" fmla="val 50000"/>
              <a:gd name="adj2" fmla="val 87525"/>
            </a:avLst>
          </a:prstGeom>
          <a:gradFill rotWithShape="0">
            <a:gsLst>
              <a:gs pos="0">
                <a:srgbClr val="754334"/>
              </a:gs>
              <a:gs pos="50000">
                <a:srgbClr val="fe9372"/>
              </a:gs>
              <a:gs pos="100000">
                <a:srgbClr val="7543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213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l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canismos de daño inmunológico tipo I, II, III, 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persensibilidad de tipo I, II, 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anticuer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linfocito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fermedades inmun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)  Hipersensibilidad inmediata (I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equivale al tipo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) Enfermedades causadas por  A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 antígenos celulares o hís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jos (equivale a tipo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) Enfermedades producidas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lejos inmunes (equivale a tipo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) Enfermedades producidas por linfocitosT 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uestas DTH (hipersensibilidad retardada)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) Enfermedades producidas por linf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 citotóxicos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836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menclatura Abba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da9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9da8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52b6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fb927d"/>
              </a:gs>
              <a:gs pos="100000">
                <a:srgbClr val="cd77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78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91628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86900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51640" y="184464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51640" y="479736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V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menclatura tradicional 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5589720"/>
            <a:ext cx="13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ll y Coo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año tisular producto de la respuesta inmune a antígenos que no son dañ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g          Mecanismo de daño           D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munológico                  Tis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</a:t>
            </a:r>
            <a:br>
              <a:rPr sz="4000"/>
            </a:b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o hipersensibilidad inmed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jun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nit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 (“fiebre de heno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afilax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– shock anafil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ngioede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rticari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(erup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ipo I: anafiláctico-reag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028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Mecanismo de Daño Tipo 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Enfermedades causadas por  ACS contra antígenos celulares o hístico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hemolítica autoi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índrom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dpa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itroblasto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énfig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nicio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rombocitopen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inmu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reaccion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ransfus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iroidit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sh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fermedad de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v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iastenia grav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nfigo vul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7968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4960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or mecanismo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año tipo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fermedades producidas por complejos in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6093000"/>
            <a:ext cx="84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glomerulonefritis por complejo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artritis reumat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fermedad del su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docarditis bacteriana sub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lupus eritematoso sist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reacción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Hipersensibilidad por mecanismo de daño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rmatitis por conta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rteritis temp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le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ipersensibilidad Tipo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igual al tipo II pero los anticuerpos, en vez de destruir la célula reconocida, la estimulan a secretar (Enfermedad de Basedow-Graves) o inhiben la recepción de un agonista (Miastenia gr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tilizado por algunos autores especialmente ingl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Que sentido tienen estos tipos de respuesta en la inmunidad protectora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 = respuesta frente a parásitos metazoos del tracto respiratorio y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 = microorganismos extra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I = partículas virales circulantes en estados de vir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V: agentes extracelulares indigeribles tales como mycobacterium tuberculosis y huevos de schist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734339"/>
              </a:gs>
              <a:gs pos="50000">
                <a:srgbClr val="fb927d"/>
              </a:gs>
              <a:gs pos="100000">
                <a:srgbClr val="7343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73360"/>
            <a:ext cx="3816360" cy="2664000"/>
          </a:xfrm>
          <a:prstGeom prst="rect">
            <a:avLst/>
          </a:prstGeom>
          <a:gradFill rotWithShape="0">
            <a:gsLst>
              <a:gs pos="0">
                <a:srgbClr val="6d740e"/>
              </a:gs>
              <a:gs pos="50000">
                <a:srgbClr val="edfd1f"/>
              </a:gs>
              <a:gs pos="100000">
                <a:srgbClr val="6d74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50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347343"/>
              </a:gs>
              <a:gs pos="50000">
                <a:srgbClr val="71fb92"/>
              </a:gs>
              <a:gs pos="100000">
                <a:srgbClr val="3473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4b4d73"/>
              </a:gs>
              <a:gs pos="50000">
                <a:srgbClr val="a4a8fa"/>
              </a:gs>
              <a:gs pos="100000">
                <a:srgbClr val="4b4d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05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365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388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8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35640" y="4221000"/>
            <a:ext cx="2736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7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9152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inmune adaptativa humoral o celular es </a:t>
            </a:r>
            <a:r>
              <a:rPr b="1" lang="es-AR" sz="4800" spc="-1" strike="noStrike" u="sng">
                <a:solidFill>
                  <a:srgbClr val="000000"/>
                </a:solidFill>
                <a:uFillTx/>
                <a:latin typeface="Arial"/>
              </a:rPr>
              <a:t>responsable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de daño tis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81560"/>
            <a:ext cx="4572000" cy="33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29320" y="0"/>
            <a:ext cx="2614680" cy="39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404496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36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2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46920" y="2205000"/>
            <a:ext cx="3097080" cy="46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618000"/>
            <a:ext cx="507672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-9216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260280"/>
            <a:ext cx="51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 Enferm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-in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Inmunodeficiencias y cáncer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l sistema inmune adaptativo está </a:t>
            </a:r>
            <a:r>
              <a:rPr b="1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enfer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a) Inmunodefici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3600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789360"/>
            <a:ext cx="3600360" cy="165564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3473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2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205000"/>
            <a:ext cx="1439640" cy="576360"/>
          </a:xfrm>
          <a:prstGeom prst="rightArrow">
            <a:avLst>
              <a:gd name="adj1" fmla="val 50000"/>
              <a:gd name="adj2" fmla="val 624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29264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060640"/>
            <a:ext cx="2881080" cy="287964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6d740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fecc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59:47Z</dcterms:created>
  <dc:creator>Usuario</dc:creator>
  <dc:description/>
  <dc:language>en-US</dc:language>
  <cp:lastModifiedBy>Usuario</cp:lastModifiedBy>
  <dcterms:modified xsi:type="dcterms:W3CDTF">2006-10-16T18:57:50Z</dcterms:modified>
  <cp:revision>11</cp:revision>
  <dc:subject/>
  <dc:title>Diapositiva 1</dc:title>
</cp:coreProperties>
</file>