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19.jpeg" ContentType="image/jpeg"/>
  <Override PartName="/ppt/media/image24.png" ContentType="image/png"/>
  <Override PartName="/ppt/media/image21.png" ContentType="image/png"/>
  <Override PartName="/ppt/media/image5.jpeg" ContentType="image/jpeg"/>
  <Override PartName="/ppt/media/image32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27.jpeg" ContentType="image/jpeg"/>
  <Override PartName="/ppt/media/image6.jpeg" ContentType="image/jpeg"/>
  <Override PartName="/ppt/media/image28.png" ContentType="image/png"/>
  <Override PartName="/ppt/media/image7.jpeg" ContentType="image/jpeg"/>
  <Override PartName="/ppt/media/image11.png" ContentType="image/png"/>
  <Override PartName="/ppt/media/image9.jpeg" ContentType="image/jpeg"/>
  <Override PartName="/ppt/media/image31.png" ContentType="image/png"/>
  <Override PartName="/ppt/media/image33.png" ContentType="image/png"/>
  <Override PartName="/ppt/media/image14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0.png" ContentType="image/png"/>
  <Override PartName="/ppt/media/image3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20.jpeg" ContentType="image/jpe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371B-34EF-4B8E-8EC1-786914393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1498-99FE-4D40-B10E-605A06E1E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CC7C-FB46-43AF-A9B3-8D1E27376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4261-401E-4B0C-81C7-3E01201A0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1507-6083-4021-927A-47DFC07FD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B996-B891-46CE-A6BE-269179166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40AC-5E46-41F9-AA31-8D705BC33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AB6B-CAEB-4941-85CF-2F58A34B8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5419-C11A-43B8-B39E-3E38D01FE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3BF3-AF2C-476C-A7FC-6653D728E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5998-234F-4B11-8027-23B72AFB9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B435-70FC-4446-AEEC-91AB8976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C2077-5592-447B-A79F-60D30A5895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Asthma" TargetMode="External"/><Relationship Id="rId2" Type="http://schemas.openxmlformats.org/officeDocument/2006/relationships/hyperlink" Target="http://en.wikipedia.org/wiki/Conjunctivitis" TargetMode="External"/><Relationship Id="rId3" Type="http://schemas.openxmlformats.org/officeDocument/2006/relationships/hyperlink" Target="http://en.wikipedia.org/wiki/Allergic_rhinitis" TargetMode="External"/><Relationship Id="rId4" Type="http://schemas.openxmlformats.org/officeDocument/2006/relationships/hyperlink" Target="http://en.wikipedia.org/wiki/Anaphylaxis" TargetMode="External"/><Relationship Id="rId5" Type="http://schemas.openxmlformats.org/officeDocument/2006/relationships/hyperlink" Target="http://en.wikipedia.org/wiki/Angioedema" TargetMode="External"/><Relationship Id="rId6" Type="http://schemas.openxmlformats.org/officeDocument/2006/relationships/hyperlink" Target="http://en.wikipedia.org/wiki/Urticaria" TargetMode="External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en.wikipedia.org/wiki/Anaemia" TargetMode="External"/><Relationship Id="rId2" Type="http://schemas.openxmlformats.org/officeDocument/2006/relationships/hyperlink" Target="http://en.wikipedia.org/wiki/Goodpasture%27s_syndrome" TargetMode="External"/><Relationship Id="rId3" Type="http://schemas.openxmlformats.org/officeDocument/2006/relationships/hyperlink" Target="http://en.wikipedia.org/wiki/Goodpasture%27s_syndrome" TargetMode="External"/><Relationship Id="rId4" Type="http://schemas.openxmlformats.org/officeDocument/2006/relationships/hyperlink" Target="http://en.wikipedia.org/wiki/Erythroblastosis_Fetalis" TargetMode="External"/><Relationship Id="rId5" Type="http://schemas.openxmlformats.org/officeDocument/2006/relationships/hyperlink" Target="http://en.wikipedia.org/wiki/Pemphigus" TargetMode="External"/><Relationship Id="rId6" Type="http://schemas.openxmlformats.org/officeDocument/2006/relationships/hyperlink" Target="http://en.wikipedia.org/wiki/Pernicious_anemia" TargetMode="External"/><Relationship Id="rId7" Type="http://schemas.openxmlformats.org/officeDocument/2006/relationships/hyperlink" Target="http://en.wikipedia.org/wiki/Pernicious_anemia" TargetMode="External"/><Relationship Id="rId8" Type="http://schemas.openxmlformats.org/officeDocument/2006/relationships/hyperlink" Target="http://en.wikipedia.org/wiki/Thrombocytopenia" TargetMode="External"/><Relationship Id="rId9" Type="http://schemas.openxmlformats.org/officeDocument/2006/relationships/hyperlink" Target="http://en.wikipedia.org/wiki/Thrombocytopenia" TargetMode="External"/><Relationship Id="rId10" Type="http://schemas.openxmlformats.org/officeDocument/2006/relationships/hyperlink" Target="http://en.wikipedia.org/wiki/Blood_transfusion" TargetMode="External"/><Relationship Id="rId11" Type="http://schemas.openxmlformats.org/officeDocument/2006/relationships/hyperlink" Target="http://en.wikipedia.org/wiki/Hashimoto%27s_thyroiditis" TargetMode="External"/><Relationship Id="rId12" Type="http://schemas.openxmlformats.org/officeDocument/2006/relationships/hyperlink" Target="http://en.wikipedia.org/wiki/Hashimoto%27s_thyroiditis" TargetMode="External"/><Relationship Id="rId13" Type="http://schemas.openxmlformats.org/officeDocument/2006/relationships/hyperlink" Target="http://en.wikipedia.org/wiki/Hashimoto%27s_thyroiditis" TargetMode="External"/><Relationship Id="rId14" Type="http://schemas.openxmlformats.org/officeDocument/2006/relationships/hyperlink" Target="http://en.wikipedia.org/wiki/Graves%27_disease" TargetMode="External"/><Relationship Id="rId15" Type="http://schemas.openxmlformats.org/officeDocument/2006/relationships/hyperlink" Target="http://en.wikipedia.org/wiki/Myasthenia_gravis" TargetMode="External"/><Relationship Id="rId1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Arthus_reaction" TargetMode="External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8360" y="0"/>
            <a:ext cx="820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5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AR" sz="5400" spc="-1" strike="noStrike">
                <a:solidFill>
                  <a:srgbClr val="ffffff"/>
                </a:solidFill>
                <a:latin typeface="Arial"/>
              </a:rPr>
              <a:t>INMUNOPATOLOGI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796000" y="640080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I.Pe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11280" y="849240"/>
            <a:ext cx="7524720" cy="60087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380360" y="907920"/>
            <a:ext cx="17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I.Pep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93712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156360" y="4869000"/>
            <a:ext cx="39956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Inmunodefici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Combina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Sev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788000" y="404640"/>
            <a:ext cx="435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800" spc="-1" strike="noStrike">
                <a:solidFill>
                  <a:srgbClr val="000000"/>
                </a:solidFill>
                <a:latin typeface="Arial"/>
              </a:rPr>
              <a:t>Congénit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08360" y="6524640"/>
            <a:ext cx="19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Dav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5943600"/>
            <a:ext cx="21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3600" spc="-1" strike="noStrike">
                <a:solidFill>
                  <a:srgbClr val="ffffff"/>
                </a:solidFill>
                <a:latin typeface="Arial"/>
              </a:rPr>
              <a:t>SI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88000" y="0"/>
            <a:ext cx="43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5400" spc="-1" strike="noStrike">
                <a:solidFill>
                  <a:srgbClr val="000000"/>
                </a:solidFill>
                <a:latin typeface="Arial"/>
              </a:rPr>
              <a:t>Adquirid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800280"/>
            <a:ext cx="9144000" cy="60577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907920"/>
            <a:ext cx="23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6000" spc="-1" strike="noStrike">
                <a:solidFill>
                  <a:srgbClr val="ffffff"/>
                </a:solidFill>
                <a:latin typeface="Arial"/>
              </a:rPr>
              <a:t>SID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30388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273640" y="765000"/>
            <a:ext cx="3870360" cy="6093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292720" y="0"/>
            <a:ext cx="3851280" cy="825120"/>
          </a:xfrm>
          <a:prstGeom prst="rect">
            <a:avLst/>
          </a:prstGeom>
          <a:solidFill>
            <a:srgbClr val="a4a8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AR" sz="4800" spc="-1" strike="noStrike">
                <a:solidFill>
                  <a:srgbClr val="000000"/>
                </a:solidFill>
                <a:latin typeface="Arial"/>
              </a:rPr>
              <a:t>b) Cánc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645336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Linfoma de Burki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2675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25360"/>
            <a:ext cx="550872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Enfermedades mediadas inmunológicam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68360" y="260280"/>
            <a:ext cx="3311640" cy="1584360"/>
          </a:xfrm>
          <a:prstGeom prst="rect">
            <a:avLst/>
          </a:prstGeom>
          <a:gradFill rotWithShape="0">
            <a:gsLst>
              <a:gs pos="0">
                <a:srgbClr val="f3fba3"/>
              </a:gs>
              <a:gs pos="100000">
                <a:srgbClr val="70734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64000" y="260280"/>
            <a:ext cx="3311640" cy="1584360"/>
          </a:xfrm>
          <a:prstGeom prst="rect">
            <a:avLst/>
          </a:prstGeom>
          <a:gradFill rotWithShape="0">
            <a:gsLst>
              <a:gs pos="0">
                <a:srgbClr val="72602d"/>
              </a:gs>
              <a:gs pos="100000">
                <a:srgbClr val="f9d26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8360" y="404640"/>
            <a:ext cx="32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Antígeno proveniente del medio amb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64000" y="476280"/>
            <a:ext cx="32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Antigeno perteneciente al propio organ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835280" y="2060640"/>
            <a:ext cx="647640" cy="3097080"/>
          </a:xfrm>
          <a:prstGeom prst="downArrow">
            <a:avLst>
              <a:gd name="adj1" fmla="val 50000"/>
              <a:gd name="adj2" fmla="val 119553"/>
            </a:avLst>
          </a:prstGeom>
          <a:gradFill rotWithShape="0">
            <a:gsLst>
              <a:gs pos="0">
                <a:srgbClr val="f3fba3"/>
              </a:gs>
              <a:gs pos="100000">
                <a:srgbClr val="70734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16720" y="2060640"/>
            <a:ext cx="647640" cy="3097080"/>
          </a:xfrm>
          <a:prstGeom prst="downArrow">
            <a:avLst>
              <a:gd name="adj1" fmla="val 50000"/>
              <a:gd name="adj2" fmla="val 119553"/>
            </a:avLst>
          </a:prstGeom>
          <a:gradFill rotWithShape="0">
            <a:gsLst>
              <a:gs pos="0">
                <a:srgbClr val="72602d"/>
              </a:gs>
              <a:gs pos="100000">
                <a:srgbClr val="f9d26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5373720"/>
            <a:ext cx="4211640" cy="1079640"/>
          </a:xfrm>
          <a:prstGeom prst="rect">
            <a:avLst/>
          </a:prstGeom>
          <a:gradFill rotWithShape="0">
            <a:gsLst>
              <a:gs pos="0">
                <a:srgbClr val="f3fba3"/>
              </a:gs>
              <a:gs pos="100000">
                <a:srgbClr val="70734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716360" y="5373720"/>
            <a:ext cx="4211640" cy="1079640"/>
          </a:xfrm>
          <a:prstGeom prst="rect">
            <a:avLst/>
          </a:prstGeom>
          <a:gradFill rotWithShape="0">
            <a:gsLst>
              <a:gs pos="0">
                <a:srgbClr val="72602d"/>
              </a:gs>
              <a:gs pos="100000">
                <a:srgbClr val="f9d26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566100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Hipersensibilida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932360" y="5373720"/>
            <a:ext cx="388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Enfermedad autoinmunit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24000" y="2852640"/>
            <a:ext cx="4753080" cy="1081080"/>
          </a:xfrm>
          <a:prstGeom prst="leftRightArrow">
            <a:avLst>
              <a:gd name="adj1" fmla="val 50000"/>
              <a:gd name="adj2" fmla="val 87525"/>
            </a:avLst>
          </a:prstGeom>
          <a:gradFill rotWithShape="0">
            <a:gsLst>
              <a:gs pos="0">
                <a:srgbClr val="754334"/>
              </a:gs>
              <a:gs pos="50000">
                <a:srgbClr val="fe9372"/>
              </a:gs>
              <a:gs pos="100000">
                <a:srgbClr val="75433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484360" y="321300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Mecanismos de daño inmunológ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NOMENCLA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Alerg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Mecanismos de daño inmunológico tipo I, II, III, IV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Hipersensibilidad de tipo I, II, III, 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Enfermedades inmunológicas producidas por anticuerp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Enfermedades inmunológicas producidas por linfocitos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Enfermedades inmunológ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a)  Hipersensibilidad inmediata (Ig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(equivale al tipo 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b) Enfermedades causadas por  Ac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contra antígenos celulares o hístico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fijos (equivale a tipo I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c) Enfermedades producidas p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complejos inmunes (equivale a tipo II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d) Enfermedades producidas por linfocitosT e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respuestas DTH (hipersensibilidad retardada) (equivale a tipo I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e) Enfermedades producidas por linfoci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T citotóxicos (equivale a tipo I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64000" y="836640"/>
            <a:ext cx="34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(Nomenclatura Abbas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24000" y="981000"/>
            <a:ext cx="3816360" cy="2664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8da9a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3933720"/>
            <a:ext cx="3816360" cy="2664000"/>
          </a:xfrm>
          <a:prstGeom prst="rect">
            <a:avLst/>
          </a:prstGeom>
          <a:gradFill rotWithShape="0">
            <a:gsLst>
              <a:gs pos="0">
                <a:srgbClr val="edfd1f"/>
              </a:gs>
              <a:gs pos="100000">
                <a:srgbClr val="9da81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3280" y="3933720"/>
            <a:ext cx="3816360" cy="2664000"/>
          </a:xfrm>
          <a:prstGeom prst="rect">
            <a:avLst/>
          </a:prstGeom>
          <a:gradFill rotWithShape="0">
            <a:gsLst>
              <a:gs pos="0">
                <a:srgbClr val="71fb92"/>
              </a:gs>
              <a:gs pos="100000">
                <a:srgbClr val="52b66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643280" y="981000"/>
            <a:ext cx="3816360" cy="2664000"/>
          </a:xfrm>
          <a:prstGeom prst="rect">
            <a:avLst/>
          </a:prstGeom>
          <a:gradFill rotWithShape="0">
            <a:gsLst>
              <a:gs pos="0">
                <a:srgbClr val="fb927d"/>
              </a:gs>
              <a:gs pos="100000">
                <a:srgbClr val="cd77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47840" y="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Mecanismos de daño inmunológ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332000" y="1916280"/>
            <a:ext cx="1428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ipo I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332000" y="4869000"/>
            <a:ext cx="1428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ipo III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651640" y="1844640"/>
            <a:ext cx="1428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ipo II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651640" y="4797360"/>
            <a:ext cx="1428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ipo IV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0" name=""/>
          <p:cNvSpPr/>
          <p:nvPr/>
        </p:nvSpPr>
        <p:spPr>
          <a:xfrm>
            <a:off x="5003640" y="54936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Nomenclatura tradicional (196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0" y="5589720"/>
            <a:ext cx="13320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Gell y Coomb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19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0000"/>
                </a:solidFill>
                <a:latin typeface="Arial"/>
              </a:rPr>
              <a:t>En Hipersensib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Antígeno proveniente del medio amb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Daño tisular producto de la respuesta inmune a antígenos que no son dañ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Ag          Mecanismo de daño           Da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inmunológico                  Tis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619280" y="4149720"/>
            <a:ext cx="576360" cy="503280"/>
          </a:xfrm>
          <a:prstGeom prst="rightArrow">
            <a:avLst>
              <a:gd name="adj1" fmla="val 50000"/>
              <a:gd name="adj2" fmla="val 28630"/>
            </a:avLst>
          </a:prstGeom>
          <a:solidFill>
            <a:srgbClr val="f9d2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940360" y="4149720"/>
            <a:ext cx="576360" cy="503280"/>
          </a:xfrm>
          <a:prstGeom prst="rightArrow">
            <a:avLst>
              <a:gd name="adj1" fmla="val 50000"/>
              <a:gd name="adj2" fmla="val 28630"/>
            </a:avLst>
          </a:prstGeom>
          <a:solidFill>
            <a:srgbClr val="f9d2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61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9999"/>
                </a:solidFill>
                <a:latin typeface="Arial"/>
              </a:rPr>
              <a:t>Principales cuadros clínicos tipo I</a:t>
            </a:r>
            <a:br>
              <a:rPr sz="4000"/>
            </a:br>
            <a:r>
              <a:rPr b="1" lang="es-AR" sz="4000" spc="-1" strike="noStrike">
                <a:solidFill>
                  <a:srgbClr val="009999"/>
                </a:solidFill>
                <a:latin typeface="Arial"/>
              </a:rPr>
              <a:t>o hipersensibilidad inmedi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sma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 alérg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onjuntivi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rinitis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 alérgica (“fiebre de heno"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anafilaxis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 – shock anafilác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angioedema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urticaria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 (erupcione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0000"/>
                </a:solidFill>
                <a:latin typeface="Arial"/>
              </a:rPr>
              <a:t>Tipo I: anafiláctico-reagín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893880"/>
            <a:ext cx="9144000" cy="59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0" y="260280"/>
            <a:ext cx="914400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5400" spc="-1" strike="noStrike">
                <a:solidFill>
                  <a:srgbClr val="ffffff"/>
                </a:solidFill>
                <a:latin typeface="Arial"/>
              </a:rPr>
              <a:t>Mecanismo de Daño Tipo II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o Enfermedades causadas por  ACS contra antígenos celulares o hísticos fij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9999"/>
                </a:solidFill>
                <a:latin typeface="Arial"/>
              </a:rPr>
              <a:t>Principales cuadros clínicos tipo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emia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 hemolítica autoimmu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síndrome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 de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Goodpas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eritroblastosis fe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énfigo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anemia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pernicios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trombocitopenia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 inmune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reacciones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transfusion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tiroiditis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 de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ashimo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enfermedad de 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Graves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(tipo V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miastenia gravis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 (tipo V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24000" y="40464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Pénfigo vulg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932360" y="1557360"/>
            <a:ext cx="3379680" cy="45370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755640" y="1557360"/>
            <a:ext cx="3549600" cy="4608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788000" y="1628640"/>
            <a:ext cx="435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Hipersensibil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por mecanismo 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daño tipo II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o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Enfermedades producidas por complejos inmu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81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609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684360" y="6093000"/>
            <a:ext cx="845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9999"/>
                </a:solidFill>
                <a:latin typeface="Arial"/>
              </a:rPr>
              <a:t>Principales cuadros clínicos tipo I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9999"/>
                </a:solidFill>
                <a:uFillTx/>
                <a:latin typeface="Arial"/>
              </a:rPr>
              <a:t>glomerulonefritis por complejos inmu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9999"/>
                </a:solidFill>
                <a:uFillTx/>
                <a:latin typeface="Arial"/>
              </a:rPr>
              <a:t>artritis reumato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9999"/>
                </a:solidFill>
                <a:uFillTx/>
                <a:latin typeface="Arial"/>
              </a:rPr>
              <a:t>enfermedad del suer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9999"/>
                </a:solidFill>
                <a:uFillTx/>
                <a:latin typeface="Arial"/>
              </a:rPr>
              <a:t>endocarditis bacteriana subagu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9999"/>
                </a:solidFill>
                <a:uFillTx/>
                <a:latin typeface="Arial"/>
              </a:rPr>
              <a:t>lupus eritematoso sistém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9999"/>
                </a:solidFill>
                <a:uFillTx/>
                <a:latin typeface="Arial"/>
              </a:rPr>
              <a:t>reacción de </a:t>
            </a:r>
            <a:r>
              <a:rPr b="0" lang="es-E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rth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 u="sng">
                <a:solidFill>
                  <a:srgbClr val="009999"/>
                </a:solidFill>
                <a:uFillTx/>
                <a:latin typeface="Arial"/>
              </a:rPr>
              <a:t>síntomas de la mal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0" y="2133720"/>
            <a:ext cx="9144000" cy="172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0000"/>
                </a:solidFill>
                <a:latin typeface="Arial"/>
              </a:rPr>
              <a:t>Hipersensibilidad por mecanismo de daño Tipo IV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6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7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9999"/>
                </a:solidFill>
                <a:latin typeface="Arial"/>
              </a:rPr>
              <a:t>Principales cuadros clínicos tipo IV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dermatitis por contac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arteritis tempor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Síntomas de la lep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Síntomas de la tuberculo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667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Hipersensibilidad Tipo 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Es igual al tipo II pero los anticuerpos, en vez de destruir la célula reconocida, la estimulan a secretar (Enfermedad de Basedow-Graves) o inhiben la recepción de un agonista (Miastenia grav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Utilizado por algunos autores especialmente ingle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¿</a:t>
            </a: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Que sentido tienen estos tipos de respuesta en la inmunidad protectora</a:t>
            </a: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Tipo I = respuesta frente a parásitos metazoos del tracto respiratorio y gastrointest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Tipo II = microorganismos extracelula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Tipo III = partículas virales circulantes en estados de virem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Tipo IV: agentes extracelulares indigeribles tales como mycobacterium tuberculosis y huevos de schistoso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24000" y="260280"/>
            <a:ext cx="3816360" cy="2664000"/>
          </a:xfrm>
          <a:prstGeom prst="rect">
            <a:avLst/>
          </a:prstGeom>
          <a:gradFill rotWithShape="0">
            <a:gsLst>
              <a:gs pos="0">
                <a:srgbClr val="734339"/>
              </a:gs>
              <a:gs pos="50000">
                <a:srgbClr val="fb927d"/>
              </a:gs>
              <a:gs pos="100000">
                <a:srgbClr val="73433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3573360"/>
            <a:ext cx="3816360" cy="2664000"/>
          </a:xfrm>
          <a:prstGeom prst="rect">
            <a:avLst/>
          </a:prstGeom>
          <a:gradFill rotWithShape="0">
            <a:gsLst>
              <a:gs pos="0">
                <a:srgbClr val="6d740e"/>
              </a:gs>
              <a:gs pos="50000">
                <a:srgbClr val="edfd1f"/>
              </a:gs>
              <a:gs pos="100000">
                <a:srgbClr val="6d740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43280" y="3500280"/>
            <a:ext cx="3816360" cy="2664000"/>
          </a:xfrm>
          <a:prstGeom prst="rect">
            <a:avLst/>
          </a:prstGeom>
          <a:gradFill rotWithShape="0">
            <a:gsLst>
              <a:gs pos="0">
                <a:srgbClr val="347343"/>
              </a:gs>
              <a:gs pos="50000">
                <a:srgbClr val="71fb92"/>
              </a:gs>
              <a:gs pos="100000">
                <a:srgbClr val="34734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16360" y="260280"/>
            <a:ext cx="3816360" cy="2664000"/>
          </a:xfrm>
          <a:prstGeom prst="rect">
            <a:avLst/>
          </a:prstGeom>
          <a:gradFill rotWithShape="0">
            <a:gsLst>
              <a:gs pos="0">
                <a:srgbClr val="4b4d73"/>
              </a:gs>
              <a:gs pos="50000">
                <a:srgbClr val="a4a8fa"/>
              </a:gs>
              <a:gs pos="100000">
                <a:srgbClr val="4b4d7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1125360"/>
            <a:ext cx="38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Hipersensibi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4149720"/>
            <a:ext cx="3600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Enfermeda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Autoinmunit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16360" y="1052640"/>
            <a:ext cx="38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Inmunodefici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003640" y="4365720"/>
            <a:ext cx="25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Cán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2764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338880"/>
            <a:ext cx="7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0" y="638172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564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5435640" y="4221000"/>
            <a:ext cx="27367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1700" spc="-1" strike="noStrike">
                <a:solidFill>
                  <a:srgbClr val="ffffff"/>
                </a:solidFill>
                <a:latin typeface="Arial"/>
              </a:rPr>
              <a:t>FIN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6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4800" spc="-1" strike="noStrike">
                <a:solidFill>
                  <a:srgbClr val="000000"/>
                </a:solidFill>
                <a:latin typeface="Arial"/>
              </a:rPr>
              <a:t>Enfermedades mediadas inmunológicamente</a:t>
            </a: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0920" y="2636640"/>
            <a:ext cx="8291520" cy="35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6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AR" sz="4800" spc="-1" strike="noStrike">
                <a:solidFill>
                  <a:srgbClr val="000000"/>
                </a:solidFill>
                <a:latin typeface="Arial"/>
              </a:rPr>
              <a:t>La respuest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800" spc="-1" strike="noStrike">
                <a:solidFill>
                  <a:srgbClr val="000000"/>
                </a:solidFill>
                <a:latin typeface="Arial"/>
              </a:rPr>
              <a:t>inmune adaptativa humoral o celular es </a:t>
            </a:r>
            <a:r>
              <a:rPr b="1" lang="es-AR" sz="4800" spc="-1" strike="noStrike" u="sng">
                <a:solidFill>
                  <a:srgbClr val="000000"/>
                </a:solidFill>
                <a:uFillTx/>
                <a:latin typeface="Arial"/>
              </a:rPr>
              <a:t>responsable</a:t>
            </a:r>
            <a:r>
              <a:rPr b="1" lang="es-AR" sz="4800" spc="-1" strike="noStrike">
                <a:solidFill>
                  <a:srgbClr val="000000"/>
                </a:solidFill>
                <a:latin typeface="Arial"/>
              </a:rPr>
              <a:t> de daño tisul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8360" cy="2212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3481560"/>
            <a:ext cx="4572000" cy="33764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6529320" y="0"/>
            <a:ext cx="2614680" cy="3933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788000" y="4044960"/>
            <a:ext cx="4356000" cy="28130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140360" y="6237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492280"/>
            <a:ext cx="644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AR" sz="4400" spc="-1" strike="noStrike">
                <a:solidFill>
                  <a:srgbClr val="000000"/>
                </a:solidFill>
                <a:latin typeface="Arial"/>
              </a:rPr>
              <a:t>En Hipersensib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809880" cy="25401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046920" y="2205000"/>
            <a:ext cx="3097080" cy="4653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0" y="3618000"/>
            <a:ext cx="5076720" cy="3240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-92160" y="784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95640" y="260280"/>
            <a:ext cx="51483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0000"/>
                </a:solidFill>
                <a:latin typeface="Arial"/>
              </a:rPr>
              <a:t>En  Enfermed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0000"/>
                </a:solidFill>
                <a:latin typeface="Arial"/>
              </a:rPr>
              <a:t>Auto-inmu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136000" y="64911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Lup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5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5400" spc="-1" strike="noStrike">
                <a:solidFill>
                  <a:srgbClr val="000000"/>
                </a:solidFill>
                <a:latin typeface="Arial"/>
              </a:rPr>
              <a:t>Inmunodeficiencias y cáncer </a:t>
            </a: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7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5400" spc="-1" strike="noStrike">
                <a:solidFill>
                  <a:srgbClr val="000000"/>
                </a:solidFill>
                <a:latin typeface="Arial"/>
              </a:rPr>
              <a:t>El sistema inmune adaptativo está </a:t>
            </a:r>
            <a:r>
              <a:rPr b="1" lang="es-AR" sz="5400" spc="-1" strike="noStrike" u="sng">
                <a:solidFill>
                  <a:srgbClr val="000000"/>
                </a:solidFill>
                <a:uFillTx/>
                <a:latin typeface="Arial"/>
              </a:rPr>
              <a:t>enferm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6000" spc="-1" strike="noStrike">
                <a:solidFill>
                  <a:srgbClr val="000000"/>
                </a:solidFill>
                <a:latin typeface="Arial"/>
              </a:rPr>
              <a:t>a) Inmunodeficiencia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4000" y="1557360"/>
            <a:ext cx="3600360" cy="16556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4360" y="1197000"/>
            <a:ext cx="3024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Congéni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3789360"/>
            <a:ext cx="3600360" cy="1655640"/>
          </a:xfrm>
          <a:prstGeom prst="rect">
            <a:avLst/>
          </a:prstGeom>
          <a:gradFill rotWithShape="0">
            <a:gsLst>
              <a:gs pos="0">
                <a:srgbClr val="71fb92"/>
              </a:gs>
              <a:gs pos="100000">
                <a:srgbClr val="34734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11280" y="4221000"/>
            <a:ext cx="32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0000"/>
                </a:solidFill>
                <a:latin typeface="Arial"/>
              </a:rPr>
              <a:t>Adquirid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40360" y="2205000"/>
            <a:ext cx="1439640" cy="576360"/>
          </a:xfrm>
          <a:prstGeom prst="rightArrow">
            <a:avLst>
              <a:gd name="adj1" fmla="val 50000"/>
              <a:gd name="adj2" fmla="val 6244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40360" y="4292640"/>
            <a:ext cx="1511280" cy="576360"/>
          </a:xfrm>
          <a:prstGeom prst="rightArrow">
            <a:avLst>
              <a:gd name="adj1" fmla="val 50000"/>
              <a:gd name="adj2" fmla="val 6555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12000" y="2060640"/>
            <a:ext cx="2881080" cy="2879640"/>
          </a:xfrm>
          <a:prstGeom prst="rect">
            <a:avLst/>
          </a:prstGeom>
          <a:gradFill rotWithShape="0">
            <a:gsLst>
              <a:gs pos="0">
                <a:srgbClr val="edfd1f"/>
              </a:gs>
              <a:gs pos="100000">
                <a:srgbClr val="6d740e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2000" y="2708280"/>
            <a:ext cx="2808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Enferme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infeccio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1T18:59:47Z</dcterms:created>
  <dc:creator>Usuario</dc:creator>
  <dc:description/>
  <dc:language>en-US</dc:language>
  <cp:lastModifiedBy>Usuario</cp:lastModifiedBy>
  <dcterms:modified xsi:type="dcterms:W3CDTF">2006-10-16T18:57:50Z</dcterms:modified>
  <cp:revision>11</cp:revision>
  <dc:subject/>
  <dc:title>Diapositiva 1</dc:title>
</cp:coreProperties>
</file>