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4.png" ContentType="image/png"/>
  <Override PartName="/ppt/media/image21.png" ContentType="image/png"/>
  <Override PartName="/ppt/media/image5.jpeg" ContentType="image/jpeg"/>
  <Override PartName="/ppt/media/image3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27.jpeg" ContentType="image/jpeg"/>
  <Override PartName="/ppt/media/image6.jpeg" ContentType="image/jpeg"/>
  <Override PartName="/ppt/media/image2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31.png" ContentType="image/png"/>
  <Override PartName="/ppt/media/image33.png" ContentType="image/png"/>
  <Override PartName="/ppt/media/image14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20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95B4-DD50-4EF4-87BC-1B300B645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5AA3-DD52-43E5-B769-C459FD01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4676-D8AE-40A4-B6F9-6214D575E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624A-7910-470A-A5B4-DAF4A3518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BDCB-04BE-4110-BDB9-4AC03AB3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ABAA-0C93-42BF-9625-903FA117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718E-301E-4DDE-B565-04A4A34C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4B44-37D1-4940-9891-E76CD437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F5E2-7FA6-4F67-A2E2-DAB44859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DFC2-592E-4125-B013-1F4CF263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0CD2-271A-4B73-8FB5-BC4108F2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DDE7-D9AF-4AD8-9BAC-C17C36C3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3D57-05EF-402B-8E3E-97F00676C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sthma" TargetMode="External"/><Relationship Id="rId2" Type="http://schemas.openxmlformats.org/officeDocument/2006/relationships/hyperlink" Target="http://en.wikipedia.org/wiki/Conjunctivitis" TargetMode="External"/><Relationship Id="rId3" Type="http://schemas.openxmlformats.org/officeDocument/2006/relationships/hyperlink" Target="http://en.wikipedia.org/wiki/Allergic_rhinitis" TargetMode="External"/><Relationship Id="rId4" Type="http://schemas.openxmlformats.org/officeDocument/2006/relationships/hyperlink" Target="http://en.wikipedia.org/wiki/Anaphylaxis" TargetMode="External"/><Relationship Id="rId5" Type="http://schemas.openxmlformats.org/officeDocument/2006/relationships/hyperlink" Target="http://en.wikipedia.org/wiki/Angioedema" TargetMode="External"/><Relationship Id="rId6" Type="http://schemas.openxmlformats.org/officeDocument/2006/relationships/hyperlink" Target="http://en.wikipedia.org/wiki/Urticaria" TargetMode="External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naemia" TargetMode="External"/><Relationship Id="rId2" Type="http://schemas.openxmlformats.org/officeDocument/2006/relationships/hyperlink" Target="http://en.wikipedia.org/wiki/Goodpasture%27s_syndrome" TargetMode="External"/><Relationship Id="rId3" Type="http://schemas.openxmlformats.org/officeDocument/2006/relationships/hyperlink" Target="http://en.wikipedia.org/wiki/Goodpasture%27s_syndrome" TargetMode="External"/><Relationship Id="rId4" Type="http://schemas.openxmlformats.org/officeDocument/2006/relationships/hyperlink" Target="http://en.wikipedia.org/wiki/Erythroblastosis_Fetalis" TargetMode="External"/><Relationship Id="rId5" Type="http://schemas.openxmlformats.org/officeDocument/2006/relationships/hyperlink" Target="http://en.wikipedia.org/wiki/Pemphigus" TargetMode="External"/><Relationship Id="rId6" Type="http://schemas.openxmlformats.org/officeDocument/2006/relationships/hyperlink" Target="http://en.wikipedia.org/wiki/Pernicious_anemia" TargetMode="External"/><Relationship Id="rId7" Type="http://schemas.openxmlformats.org/officeDocument/2006/relationships/hyperlink" Target="http://en.wikipedia.org/wiki/Pernicious_anemia" TargetMode="External"/><Relationship Id="rId8" Type="http://schemas.openxmlformats.org/officeDocument/2006/relationships/hyperlink" Target="http://en.wikipedia.org/wiki/Thrombocytopenia" TargetMode="External"/><Relationship Id="rId9" Type="http://schemas.openxmlformats.org/officeDocument/2006/relationships/hyperlink" Target="http://en.wikipedia.org/wiki/Thrombocytopenia" TargetMode="External"/><Relationship Id="rId10" Type="http://schemas.openxmlformats.org/officeDocument/2006/relationships/hyperlink" Target="http://en.wikipedia.org/wiki/Blood_transfusion" TargetMode="External"/><Relationship Id="rId11" Type="http://schemas.openxmlformats.org/officeDocument/2006/relationships/hyperlink" Target="http://en.wikipedia.org/wiki/Hashimoto%27s_thyroiditis" TargetMode="External"/><Relationship Id="rId12" Type="http://schemas.openxmlformats.org/officeDocument/2006/relationships/hyperlink" Target="http://en.wikipedia.org/wiki/Hashimoto%27s_thyroiditis" TargetMode="External"/><Relationship Id="rId13" Type="http://schemas.openxmlformats.org/officeDocument/2006/relationships/hyperlink" Target="http://en.wikipedia.org/wiki/Hashimoto%27s_thyroiditis" TargetMode="External"/><Relationship Id="rId14" Type="http://schemas.openxmlformats.org/officeDocument/2006/relationships/hyperlink" Target="http://en.wikipedia.org/wiki/Graves%27_disease" TargetMode="External"/><Relationship Id="rId15" Type="http://schemas.openxmlformats.org/officeDocument/2006/relationships/hyperlink" Target="http://en.wikipedia.org/wiki/Myasthenia_gravis" TargetMode="External"/><Relationship Id="rId1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rthus_reaction" TargetMode="Externa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5400" spc="-1" strike="noStrike">
                <a:solidFill>
                  <a:srgbClr val="ffffff"/>
                </a:solidFill>
                <a:latin typeface="Arial"/>
              </a:rPr>
              <a:t>INMUNOPATOLOG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96000" y="640080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I.Pe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1280" y="849240"/>
            <a:ext cx="7524720" cy="6008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380360" y="90792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I.Pep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371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156360" y="4869000"/>
            <a:ext cx="3995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Inmunodefici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mbina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Sev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88000" y="404640"/>
            <a:ext cx="43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000000"/>
                </a:solidFill>
                <a:latin typeface="Arial"/>
              </a:rPr>
              <a:t>Congénit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08360" y="6524640"/>
            <a:ext cx="19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av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5943600"/>
            <a:ext cx="21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S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0"/>
            <a:ext cx="43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0000"/>
                </a:solidFill>
                <a:latin typeface="Arial"/>
              </a:rPr>
              <a:t>Adquirid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800280"/>
            <a:ext cx="9144000" cy="6057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907920"/>
            <a:ext cx="23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ffffff"/>
                </a:solidFill>
                <a:latin typeface="Arial"/>
              </a:rPr>
              <a:t>SI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0388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273640" y="765000"/>
            <a:ext cx="3870360" cy="6093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292720" y="0"/>
            <a:ext cx="3851280" cy="825120"/>
          </a:xfrm>
          <a:prstGeom prst="rect">
            <a:avLst/>
          </a:prstGeom>
          <a:solidFill>
            <a:srgbClr val="a4a8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4800" spc="-1" strike="noStrike">
                <a:solidFill>
                  <a:srgbClr val="000000"/>
                </a:solidFill>
                <a:latin typeface="Arial"/>
              </a:rPr>
              <a:t>b) Cánc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45336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Linfoma de Burki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267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25360"/>
            <a:ext cx="550872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Enfermedades mediadas inmunológic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68360" y="260280"/>
            <a:ext cx="3311640" cy="1584360"/>
          </a:xfrm>
          <a:prstGeom prst="rect">
            <a:avLst/>
          </a:prstGeom>
          <a:gradFill rotWithShape="0">
            <a:gsLst>
              <a:gs pos="0">
                <a:srgbClr val="f3fba3"/>
              </a:gs>
              <a:gs pos="100000">
                <a:srgbClr val="70734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64000" y="260280"/>
            <a:ext cx="3311640" cy="1584360"/>
          </a:xfrm>
          <a:prstGeom prst="rect">
            <a:avLst/>
          </a:prstGeom>
          <a:gradFill rotWithShape="0">
            <a:gsLst>
              <a:gs pos="0">
                <a:srgbClr val="72602d"/>
              </a:gs>
              <a:gs pos="100000">
                <a:srgbClr val="f9d26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40464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ntígeno proveniente del medio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64000" y="47628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ntigeno perteneciente al propio organ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35280" y="2060640"/>
            <a:ext cx="647640" cy="3097080"/>
          </a:xfrm>
          <a:prstGeom prst="downArrow">
            <a:avLst>
              <a:gd name="adj1" fmla="val 50000"/>
              <a:gd name="adj2" fmla="val 119553"/>
            </a:avLst>
          </a:prstGeom>
          <a:gradFill rotWithShape="0">
            <a:gsLst>
              <a:gs pos="0">
                <a:srgbClr val="f3fba3"/>
              </a:gs>
              <a:gs pos="100000">
                <a:srgbClr val="70734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16720" y="2060640"/>
            <a:ext cx="647640" cy="3097080"/>
          </a:xfrm>
          <a:prstGeom prst="downArrow">
            <a:avLst>
              <a:gd name="adj1" fmla="val 50000"/>
              <a:gd name="adj2" fmla="val 119553"/>
            </a:avLst>
          </a:prstGeom>
          <a:gradFill rotWithShape="0">
            <a:gsLst>
              <a:gs pos="0">
                <a:srgbClr val="72602d"/>
              </a:gs>
              <a:gs pos="100000">
                <a:srgbClr val="f9d26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5373720"/>
            <a:ext cx="4211640" cy="1079640"/>
          </a:xfrm>
          <a:prstGeom prst="rect">
            <a:avLst/>
          </a:prstGeom>
          <a:gradFill rotWithShape="0">
            <a:gsLst>
              <a:gs pos="0">
                <a:srgbClr val="f3fba3"/>
              </a:gs>
              <a:gs pos="100000">
                <a:srgbClr val="70734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16360" y="5373720"/>
            <a:ext cx="4211640" cy="1079640"/>
          </a:xfrm>
          <a:prstGeom prst="rect">
            <a:avLst/>
          </a:prstGeom>
          <a:gradFill rotWithShape="0">
            <a:gsLst>
              <a:gs pos="0">
                <a:srgbClr val="72602d"/>
              </a:gs>
              <a:gs pos="100000">
                <a:srgbClr val="f9d26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5661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Hipersensibil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32360" y="5373720"/>
            <a:ext cx="38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Enfermedad autoinmuni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24000" y="2852640"/>
            <a:ext cx="4753080" cy="1081080"/>
          </a:xfrm>
          <a:prstGeom prst="leftRightArrow">
            <a:avLst>
              <a:gd name="adj1" fmla="val 50000"/>
              <a:gd name="adj2" fmla="val 87525"/>
            </a:avLst>
          </a:prstGeom>
          <a:gradFill rotWithShape="0">
            <a:gsLst>
              <a:gs pos="0">
                <a:srgbClr val="754334"/>
              </a:gs>
              <a:gs pos="50000">
                <a:srgbClr val="fe9372"/>
              </a:gs>
              <a:gs pos="100000">
                <a:srgbClr val="7543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84360" y="3213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Mecanismos de daño inmun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NOMENCL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Aler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Mecanismos de daño inmunológico tipo I, II, III, IV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Hipersensibilidad de tipo I, II, III, 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nfermedades inmunológicas producidas por anticuerp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nfermedades inmunológicas producidas por linfocitos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nfermedades inmunológ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a)  Hipersensibilidad inmediata (Ig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(equivale al tipo 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b) Enfermedades causadas por  Ac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ontra antígenos celulares o hístico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fijos (equivale a tipo 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) Enfermedades producidas p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omplejos inmunes (equivale a tipo I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d) Enfermedades producidas por linfocitosT e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respuestas DTH (hipersensibilidad retardada) (equivale a tipo I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) Enfermedades producidas por linfoc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 citotóxicos (equivale a tipo I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83664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(Nomenclatura Abba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4000" y="981000"/>
            <a:ext cx="3816360" cy="2664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8da9a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3933720"/>
            <a:ext cx="3816360" cy="2664000"/>
          </a:xfrm>
          <a:prstGeom prst="rect">
            <a:avLst/>
          </a:prstGeom>
          <a:gradFill rotWithShape="0">
            <a:gsLst>
              <a:gs pos="0">
                <a:srgbClr val="edfd1f"/>
              </a:gs>
              <a:gs pos="100000">
                <a:srgbClr val="9da81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3280" y="3933720"/>
            <a:ext cx="3816360" cy="2664000"/>
          </a:xfrm>
          <a:prstGeom prst="rect">
            <a:avLst/>
          </a:prstGeom>
          <a:gradFill rotWithShape="0">
            <a:gsLst>
              <a:gs pos="0">
                <a:srgbClr val="71fb92"/>
              </a:gs>
              <a:gs pos="100000">
                <a:srgbClr val="52b66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43280" y="981000"/>
            <a:ext cx="3816360" cy="2664000"/>
          </a:xfrm>
          <a:prstGeom prst="rect">
            <a:avLst/>
          </a:prstGeom>
          <a:gradFill rotWithShape="0">
            <a:gsLst>
              <a:gs pos="0">
                <a:srgbClr val="fb927d"/>
              </a:gs>
              <a:gs pos="100000">
                <a:srgbClr val="cd77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4784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Mecanismos de daño inmunológ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332000" y="1916280"/>
            <a:ext cx="1428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ipo I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332000" y="4869000"/>
            <a:ext cx="1428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ipo III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651640" y="1844640"/>
            <a:ext cx="1428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ipo II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651640" y="4797360"/>
            <a:ext cx="1428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ipo IV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5003640" y="549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Nomenclatura tradicional (196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0" y="5589720"/>
            <a:ext cx="1332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Gell y Coom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19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En Hipersens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ntígeno proveniente del medio 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Daño tisular producto de la respuesta inmune a antígenos que no son dañ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g          Mecanismo de daño           Da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inmunológico                  Tis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19280" y="4149720"/>
            <a:ext cx="576360" cy="503280"/>
          </a:xfrm>
          <a:prstGeom prst="rightArrow">
            <a:avLst>
              <a:gd name="adj1" fmla="val 50000"/>
              <a:gd name="adj2" fmla="val 28630"/>
            </a:avLst>
          </a:prstGeom>
          <a:solidFill>
            <a:srgbClr val="f9d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40360" y="4149720"/>
            <a:ext cx="576360" cy="503280"/>
          </a:xfrm>
          <a:prstGeom prst="rightArrow">
            <a:avLst>
              <a:gd name="adj1" fmla="val 50000"/>
              <a:gd name="adj2" fmla="val 28630"/>
            </a:avLst>
          </a:prstGeom>
          <a:solidFill>
            <a:srgbClr val="f9d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61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9999"/>
                </a:solidFill>
                <a:latin typeface="Arial"/>
              </a:rPr>
              <a:t>Principales cuadros clínicos tipo I</a:t>
            </a:r>
            <a:br>
              <a:rPr sz="4000"/>
            </a:br>
            <a:r>
              <a:rPr b="1" lang="es-AR" sz="4000" spc="-1" strike="noStrike">
                <a:solidFill>
                  <a:srgbClr val="009999"/>
                </a:solidFill>
                <a:latin typeface="Arial"/>
              </a:rPr>
              <a:t>o hipersensibilidad inmedi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sma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alér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njuntiv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initis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alérgica (“fiebre de heno"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nafilaxis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– shock anafilác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angioedema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urticaria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(erupcione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Tipo I: anafiláctico-reagí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893880"/>
            <a:ext cx="9144000" cy="59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260280"/>
            <a:ext cx="914400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ffffff"/>
                </a:solidFill>
                <a:latin typeface="Arial"/>
              </a:rPr>
              <a:t>Mecanismo de Daño Tipo II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o Enfermedades causadas por  ACS contra antígenos celulares o hísticos fij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9999"/>
                </a:solidFill>
                <a:latin typeface="Arial"/>
              </a:rPr>
              <a:t>Principales cuadros clínicos tipo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emia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 hemolítica autoimm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índrome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 d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oodpas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eritroblastosis f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énfigo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anemia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ernicios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trombocitopenia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 inmune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reacciones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transfusion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tiroiditis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 d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ashimo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enfermedad de 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Graves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(tipo V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miastenia gravis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 (tipo V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4000" y="40464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Pénfigo vulg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932360" y="1557360"/>
            <a:ext cx="3379680" cy="4537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3549600" cy="4608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788000" y="1628640"/>
            <a:ext cx="435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Hipersensib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por mecanismo 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daño tipo II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o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Enfermedades producidas por complejos inmu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8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609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84360" y="6093000"/>
            <a:ext cx="84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9999"/>
                </a:solidFill>
                <a:latin typeface="Arial"/>
              </a:rPr>
              <a:t>Principales cuadros clínicos tipo I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9999"/>
                </a:solidFill>
                <a:uFillTx/>
                <a:latin typeface="Arial"/>
              </a:rPr>
              <a:t>glomerulonefritis por complejos inmu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9999"/>
                </a:solidFill>
                <a:uFillTx/>
                <a:latin typeface="Arial"/>
              </a:rPr>
              <a:t>artritis reumato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9999"/>
                </a:solidFill>
                <a:uFillTx/>
                <a:latin typeface="Arial"/>
              </a:rPr>
              <a:t>enfermedad del sue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9999"/>
                </a:solidFill>
                <a:uFillTx/>
                <a:latin typeface="Arial"/>
              </a:rPr>
              <a:t>endocarditis bacteriana subagu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9999"/>
                </a:solidFill>
                <a:uFillTx/>
                <a:latin typeface="Arial"/>
              </a:rPr>
              <a:t>lupus eritematoso sistém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9999"/>
                </a:solidFill>
                <a:uFillTx/>
                <a:latin typeface="Arial"/>
              </a:rPr>
              <a:t>reacción de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rth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9999"/>
                </a:solidFill>
                <a:uFillTx/>
                <a:latin typeface="Arial"/>
              </a:rPr>
              <a:t>síntomas de la mal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2133720"/>
            <a:ext cx="9144000" cy="172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Hipersensibilidad por mecanismo de daño Tipo I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9999"/>
                </a:solidFill>
                <a:latin typeface="Arial"/>
              </a:rPr>
              <a:t>Principales cuadros clínicos tipo I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dermatitis por contac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arteritis tempo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Síntomas de la le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Síntomas de la tubercul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Hipersensibilidad Tipo 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s igual al tipo II pero los anticuerpos, en vez de destruir la célula reconocida, la estimulan a secretar (Enfermedad de Basedow-Graves) o inhiben la recepción de un agonista (Miastenia grav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Utilizado por algunos autores especialmente ingl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Que sentido tienen estos tipos de respuesta en la inmunidad protectora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ipo I = respuesta frente a parásitos metazoos del tracto respiratorio y gastrointest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ipo II = microorganismos extracelula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ipo III = partículas virales circulantes en estados de vir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ipo IV: agentes extracelulares indigeribles tales como mycobacterium tuberculosis y huevos de schistos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260280"/>
            <a:ext cx="3816360" cy="2664000"/>
          </a:xfrm>
          <a:prstGeom prst="rect">
            <a:avLst/>
          </a:prstGeom>
          <a:gradFill rotWithShape="0">
            <a:gsLst>
              <a:gs pos="0">
                <a:srgbClr val="734339"/>
              </a:gs>
              <a:gs pos="50000">
                <a:srgbClr val="fb927d"/>
              </a:gs>
              <a:gs pos="100000">
                <a:srgbClr val="73433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3573360"/>
            <a:ext cx="3816360" cy="2664000"/>
          </a:xfrm>
          <a:prstGeom prst="rect">
            <a:avLst/>
          </a:prstGeom>
          <a:gradFill rotWithShape="0">
            <a:gsLst>
              <a:gs pos="0">
                <a:srgbClr val="6d740e"/>
              </a:gs>
              <a:gs pos="50000">
                <a:srgbClr val="edfd1f"/>
              </a:gs>
              <a:gs pos="100000">
                <a:srgbClr val="6d740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3280" y="3500280"/>
            <a:ext cx="3816360" cy="2664000"/>
          </a:xfrm>
          <a:prstGeom prst="rect">
            <a:avLst/>
          </a:prstGeom>
          <a:gradFill rotWithShape="0">
            <a:gsLst>
              <a:gs pos="0">
                <a:srgbClr val="347343"/>
              </a:gs>
              <a:gs pos="50000">
                <a:srgbClr val="71fb92"/>
              </a:gs>
              <a:gs pos="100000">
                <a:srgbClr val="34734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16360" y="260280"/>
            <a:ext cx="3816360" cy="2664000"/>
          </a:xfrm>
          <a:prstGeom prst="rect">
            <a:avLst/>
          </a:prstGeom>
          <a:gradFill rotWithShape="0">
            <a:gsLst>
              <a:gs pos="0">
                <a:srgbClr val="4b4d73"/>
              </a:gs>
              <a:gs pos="50000">
                <a:srgbClr val="a4a8fa"/>
              </a:gs>
              <a:gs pos="100000">
                <a:srgbClr val="4b4d7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112536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Hipersensi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4149720"/>
            <a:ext cx="360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Enferme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utoinmuni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16360" y="105264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Inmunodefici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4365720"/>
            <a:ext cx="25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Cá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27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33888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638172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435640" y="4221000"/>
            <a:ext cx="2736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7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4800" spc="-1" strike="noStrike">
                <a:solidFill>
                  <a:srgbClr val="000000"/>
                </a:solidFill>
                <a:latin typeface="Arial"/>
              </a:rPr>
              <a:t>Enfermedades mediadas inmunológicamente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2636640"/>
            <a:ext cx="8291520" cy="35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4800" spc="-1" strike="noStrike">
                <a:solidFill>
                  <a:srgbClr val="000000"/>
                </a:solidFill>
                <a:latin typeface="Arial"/>
              </a:rPr>
              <a:t>La respues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000000"/>
                </a:solidFill>
                <a:latin typeface="Arial"/>
              </a:rPr>
              <a:t>inmune adaptativa humoral o celular es </a:t>
            </a:r>
            <a:r>
              <a:rPr b="1" lang="es-AR" sz="4800" spc="-1" strike="noStrike" u="sng">
                <a:solidFill>
                  <a:srgbClr val="000000"/>
                </a:solidFill>
                <a:uFillTx/>
                <a:latin typeface="Arial"/>
              </a:rPr>
              <a:t>responsable</a:t>
            </a:r>
            <a:r>
              <a:rPr b="1" lang="es-AR" sz="4800" spc="-1" strike="noStrike">
                <a:solidFill>
                  <a:srgbClr val="000000"/>
                </a:solidFill>
                <a:latin typeface="Arial"/>
              </a:rPr>
              <a:t> de daño tisul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8360" cy="2212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3481560"/>
            <a:ext cx="4572000" cy="3376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529320" y="0"/>
            <a:ext cx="2614680" cy="3933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788000" y="4044960"/>
            <a:ext cx="4356000" cy="2813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14036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492280"/>
            <a:ext cx="64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En Hipersens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09880" cy="2540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046920" y="2205000"/>
            <a:ext cx="3097080" cy="4653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0" y="3618000"/>
            <a:ext cx="5076720" cy="3240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-92160" y="78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95640" y="260280"/>
            <a:ext cx="5148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En  Enferme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Auto-inmu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136000" y="64911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Lu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5400" spc="-1" strike="noStrike">
                <a:solidFill>
                  <a:srgbClr val="000000"/>
                </a:solidFill>
                <a:latin typeface="Arial"/>
              </a:rPr>
              <a:t>Inmunodeficiencias y cáncer </a:t>
            </a: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7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0000"/>
                </a:solidFill>
                <a:latin typeface="Arial"/>
              </a:rPr>
              <a:t>El sistema inmune adaptativo está </a:t>
            </a:r>
            <a:r>
              <a:rPr b="1" lang="es-AR" sz="5400" spc="-1" strike="noStrike" u="sng">
                <a:solidFill>
                  <a:srgbClr val="000000"/>
                </a:solidFill>
                <a:uFillTx/>
                <a:latin typeface="Arial"/>
              </a:rPr>
              <a:t>enferm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000000"/>
                </a:solidFill>
                <a:latin typeface="Arial"/>
              </a:rPr>
              <a:t>a) Inmunodeficienci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557360"/>
            <a:ext cx="3600360" cy="1655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197000"/>
            <a:ext cx="302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Congéni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3789360"/>
            <a:ext cx="3600360" cy="1655640"/>
          </a:xfrm>
          <a:prstGeom prst="rect">
            <a:avLst/>
          </a:prstGeom>
          <a:gradFill rotWithShape="0">
            <a:gsLst>
              <a:gs pos="0">
                <a:srgbClr val="71fb92"/>
              </a:gs>
              <a:gs pos="100000">
                <a:srgbClr val="34734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422100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Adquiri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40360" y="2205000"/>
            <a:ext cx="1439640" cy="576360"/>
          </a:xfrm>
          <a:prstGeom prst="rightArrow">
            <a:avLst>
              <a:gd name="adj1" fmla="val 50000"/>
              <a:gd name="adj2" fmla="val 6244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40360" y="4292640"/>
            <a:ext cx="1511280" cy="576360"/>
          </a:xfrm>
          <a:prstGeom prst="rightArrow">
            <a:avLst>
              <a:gd name="adj1" fmla="val 50000"/>
              <a:gd name="adj2" fmla="val 6555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2060640"/>
            <a:ext cx="2881080" cy="2879640"/>
          </a:xfrm>
          <a:prstGeom prst="rect">
            <a:avLst/>
          </a:prstGeom>
          <a:gradFill rotWithShape="0">
            <a:gsLst>
              <a:gs pos="0">
                <a:srgbClr val="edfd1f"/>
              </a:gs>
              <a:gs pos="100000">
                <a:srgbClr val="6d740e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2000" y="2708280"/>
            <a:ext cx="280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Enferme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infecci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1T18:59:47Z</dcterms:created>
  <dc:creator>Usuario</dc:creator>
  <dc:description/>
  <dc:language>en-US</dc:language>
  <cp:lastModifiedBy>Usuario</cp:lastModifiedBy>
  <dcterms:modified xsi:type="dcterms:W3CDTF">2006-10-16T18:57:50Z</dcterms:modified>
  <cp:revision>11</cp:revision>
  <dc:subject/>
  <dc:title>Diapositiva 1</dc:title>
</cp:coreProperties>
</file>