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0BC-E866-4B1B-B046-42A2FA28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F24-505D-4291-A86E-BC2B3BFE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4D9-9A1E-4FF7-895B-D9722353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D7E-E39A-422B-BCC1-306152AE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868-94B0-441E-A250-0696840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0C7-DEC5-486A-BCE7-928E96C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6F1-C3AE-46C8-957D-1A369B9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D8B-A248-4EB3-BD14-D824958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700-C0E8-4B7D-98CD-FB46DED2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6B9-D793-445F-9792-8BAE111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EA2-BF10-4885-8A32-A481941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608-FC54-4877-8120-30C8BBC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6B7-E91D-45C7-9182-5AE5394A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/article/003205.htm" TargetMode="External"/><Relationship Id="rId2" Type="http://schemas.openxmlformats.org/officeDocument/2006/relationships/hyperlink" Target="http://www.nlm.nih.gov/medlineplus/spanish/ency/article/003204.htm" TargetMode="External"/><Relationship Id="rId3" Type="http://schemas.openxmlformats.org/officeDocument/2006/relationships/hyperlink" Target="http://www.nlm.nih.gov/medlineplus/spanish/ency/article/003077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7596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</a:rPr>
              <a:t>Hipersensibilidad mediada por el mecanismo de daño inmunológico tipo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5805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cc"/>
                </a:solidFill>
                <a:latin typeface="Arial"/>
              </a:rPr>
              <a:t>Prof. I.Pe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4645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71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42100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                      Célula cebada en degran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(ME)                     Célula cebada en degranu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5580000" cy="48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 cebadas y pat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456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 ubican cerca de los vasos en lugares expuestos al medio ambiente: piel   y muc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. Producen mediadores                             preformados, derivados del AA y citoqui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quimioqu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26828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. Reclutan y activan selectivamente a diversas células mediante distintas cit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565360"/>
            <a:ext cx="410508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resan receptores de membrana relacionados con patógenos : TLR,  Fc  y 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78936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. Inician el reclutamiento selectivo de células efectoras adecuadas para el  patógeno inva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30064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6. Influyen en la naturaleza de respuestas adaptativas mediante citoquinas y quimi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05520" y="259920"/>
            <a:ext cx="43624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hysalia o “Portugese man of w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(Aquí se llama “malagua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80920"/>
            <a:ext cx="824364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élulas cebadas en respuesta a alerge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osinóf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308400"/>
            <a:ext cx="5219640" cy="34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3564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SE INMEDIATA Y TAR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resume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1956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ringe: reacción anafiláctica a la penici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ificultad respira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ibil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onidos respiratorios anormales (de tono al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fusió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la articulación del lenguaj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lso rápido o débi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iel azulosa (cianosis) que incluye los labios o el lecho ungu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smayo, mareo, vér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778200"/>
            <a:ext cx="5076720" cy="307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005360"/>
            <a:ext cx="399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incipe  de Mónaco Albert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1848-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916280"/>
            <a:ext cx="33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ul Portier Joven fisiólogo de la Sor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62064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harles Richet Connotad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rticaria y prurito gener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nsie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ensación de percibir los latidos cardíacos (palpitacion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áuseas y vóm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Diar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ólico o dolor abd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Enrojecimiento de la pi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ongestión na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Arial"/>
              </a:rPr>
              <a:t>Complicacione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h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cardíaco (no hay latidos cardíacos efectiv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respiratorio (ausencia de respira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bstrucción de las vías aé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20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6000" y="765000"/>
            <a:ext cx="2987640" cy="170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10 feb 19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ro + Toxina de anémona dosis b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26 días  después, el perro está sano, alegre, activo y con la piel brillante. A las 14 hrs. se le inyecta 0,12 cc/kg  de la misma toxina. En forma inmediata, se producen vómitos, defecación, temblores en las patas delanteras. Se cae al suelo, pierde el conocimiento y muere media hora después  (cuaderno laborator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T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término atopia fue introducido en 1923 por Coca y Cooke, su definición exacta ha sido objeto de controversia por numerosos 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pys define el término atopia como la presencia de respuesta IgE ante alergenos comunes; su definición no implica la presencia de síntomas clínicos sino que describe la reacción inmunológica del su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 autores definen la atopia sólo de acuerdo a la presencia de síntomas clínicos (rinitis, asma o dermatitis atóp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iksson propone la presencia de síntomas clínicos y al menos una prueba cutánea positiva a aeroalergenos comunes, como definición de at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56:12Z</dcterms:created>
  <dc:creator>Usuario</dc:creator>
  <dc:description/>
  <dc:language>en-US</dc:language>
  <cp:lastModifiedBy>Usuario</cp:lastModifiedBy>
  <dcterms:modified xsi:type="dcterms:W3CDTF">2007-10-22T15:54:56Z</dcterms:modified>
  <cp:revision>9</cp:revision>
  <dc:subject/>
  <dc:title>Diapositiva 1</dc:title>
</cp:coreProperties>
</file>