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1.jpeg" ContentType="image/jpeg"/>
  <Override PartName="/ppt/media/image4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32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6CE-BED9-4DB3-8DC9-912AE9A6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F8A-BC93-439F-887D-D0E75C39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09E-2749-4675-A4DB-A1A96D61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A64-1AF3-4249-A968-645331CE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A0E-393F-4720-9733-35067575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DEF-1D7A-4054-883E-E07CCED7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4D2-270E-4F96-BC26-6FFA6665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134-DE0C-416E-8075-03C25737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035-E96E-4B0E-9FE3-F31CCCA5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181-EEB1-44B7-9F54-3728ED69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032-B78A-49D1-A725-55A274CE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9BB-7885-4D4C-98AF-834A7FC1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61BA-A799-45D0-ACDB-637846C42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lm.nih.gov/medlineplus/spanish/ency/article/003205.htm" TargetMode="External"/><Relationship Id="rId2" Type="http://schemas.openxmlformats.org/officeDocument/2006/relationships/hyperlink" Target="http://www.nlm.nih.gov/medlineplus/spanish/ency/article/003204.htm" TargetMode="External"/><Relationship Id="rId3" Type="http://schemas.openxmlformats.org/officeDocument/2006/relationships/hyperlink" Target="http://www.nlm.nih.gov/medlineplus/spanish/ency/article/003077.ht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75963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1844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Arial"/>
              </a:rPr>
              <a:t>Hipersensibilidad mediada por el mecanismo de daño inmunológico tipo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5805360"/>
            <a:ext cx="42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cc"/>
                </a:solidFill>
                <a:latin typeface="Arial"/>
              </a:rPr>
              <a:t>Prof. I.Pe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1708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4645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5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9144000" cy="371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42100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                      Célula cebada en degran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(ME)                     Célula cebada en degranul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5580000" cy="480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élulas  cebadas y pat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4941720"/>
            <a:ext cx="345600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 ubican cerca de los vasos en lugares expuestos al medio ambiente: piel   y muc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2. Producen mediadores                             preformados, derivados del AA y citoquin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quimioqu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26828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3. Reclutan y activan selectivamente a diversas células mediante distintas cit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565360"/>
            <a:ext cx="410508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xpresan receptores de membrana relacionados con patógenos : TLR,  Fc  y  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378936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5. Inician el reclutamiento selectivo de células efectoras adecuadas para el  patógeno inva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530064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6. Influyen en la naturaleza de respuestas adaptativas mediante citoquinas y quimi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105520" y="259920"/>
            <a:ext cx="436248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Physalia o “Portugese man of wa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(Aquí se llama “malagua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80920"/>
            <a:ext cx="8243640" cy="597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células cebadas en respuesta a alerge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osinófi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367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3308400"/>
            <a:ext cx="5219640" cy="3475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35640" y="414972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ASE INMEDIATA Y TAR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resume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585800"/>
            <a:ext cx="91440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19564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67690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ringe: reacción anafiláctica a la penici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ificultad respirat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ibilanc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onidos respiratorios anormales (de tono alt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fusió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la articulación del lenguaj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ulso rápido o débi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Piel azulosa (cianosis) que incluye los labios o el lecho ungue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smayo, mareo, vérti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7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3778200"/>
            <a:ext cx="5076720" cy="307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005360"/>
            <a:ext cx="3995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incipe  de Mónaco Albert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1848-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1916280"/>
            <a:ext cx="338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ul Portier Joven fisiólogo de la Sorb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620640"/>
            <a:ext cx="37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harles Richet Connotad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Urticaria y prurito generaliz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nsie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Sensación de percibir los latidos cardíacos (palpitacion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Náuseas y vóm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Diar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ólico o dolor abd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Enrojecimiento de la pi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ongestión na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Arial"/>
              </a:rPr>
              <a:t>Complicaciones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h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cardíaco (no hay latidos cardíacos efectiv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respiratorio (ausencia de respirac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bstrucción de las vías aé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420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796000" y="765000"/>
            <a:ext cx="2987640" cy="170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10 feb 19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erro + Toxina de anémona dosis b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26 días  después, el perro está sano, alegre, activo y con la piel brillante. A las 14 hrs. se le inyecta 0,12 cc/kg  de la misma toxina. En forma inmediata, se producen vómitos, defecación, temblores en las patas delanteras. Se cae al suelo, pierde el conocimiento y muere media hora después  (cuaderno laboratori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T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nque el término atopia fue introducido en 1923 por Coca y Cooke, su definición exacta ha sido objeto de controversia por numerosos a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pys define el término atopia como la presencia de respuesta IgE ante alergenos comunes; su definición no implica la presencia de síntomas clínicos sino que describe la reacción inmunológica del suj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 autores definen la atopia sólo de acuerdo a la presencia de síntomas clínicos (rinitis, asma o dermatitis atópic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iksson propone la presencia de síntomas clínicos y al menos una prueba cutánea positiva a aeroalergenos comunes, como definición de ato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7:56:12Z</dcterms:created>
  <dc:creator>Usuario</dc:creator>
  <dc:description/>
  <dc:language>en-US</dc:language>
  <cp:lastModifiedBy>Usuario</cp:lastModifiedBy>
  <dcterms:modified xsi:type="dcterms:W3CDTF">2007-10-22T15:54:56Z</dcterms:modified>
  <cp:revision>9</cp:revision>
  <dc:subject/>
  <dc:title>Diapositiva 1</dc:title>
</cp:coreProperties>
</file>