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36.png" ContentType="image/png"/>
  <Override PartName="/ppt/media/image31.jpeg" ContentType="image/jpeg"/>
  <Override PartName="/ppt/media/image41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32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828-5A94-4C7F-81B1-03A41F3A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AAF-746B-4871-A23C-E0906BF4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469-8910-4510-8D08-0587F051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059-2DA6-47D4-BFF2-2FBA8850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CC9-A88F-4CA7-8BC7-963185E5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B47-EEB9-43C6-812D-EF15971D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5E3-9648-48E4-98D9-4C05B771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03E-5A4F-42E5-B4B2-FA3C21C7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25A-A5BB-460E-BE87-B4C139FD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FE1-9409-4970-A198-6E90BD69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1499-A2FC-4165-9113-74403AA4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95B-0C56-40DF-BB87-396F54BB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76E5-EF53-4348-AEC1-B90DE0C10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lm.nih.gov/medlineplus/spanish/ency/article/003205.htm" TargetMode="External"/><Relationship Id="rId2" Type="http://schemas.openxmlformats.org/officeDocument/2006/relationships/hyperlink" Target="http://www.nlm.nih.gov/medlineplus/spanish/ency/article/003204.htm" TargetMode="External"/><Relationship Id="rId3" Type="http://schemas.openxmlformats.org/officeDocument/2006/relationships/hyperlink" Target="http://www.nlm.nih.gov/medlineplus/spanish/ency/article/003077.htm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75963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1844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cc"/>
                </a:solidFill>
                <a:latin typeface="Arial"/>
              </a:rPr>
              <a:t>Hipersensibilidad mediada por el mecanismo de daño inmunológico tipo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32360" y="5805360"/>
            <a:ext cx="42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cc"/>
                </a:solidFill>
                <a:latin typeface="Arial"/>
              </a:rPr>
              <a:t>Prof. I.Pep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31708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46452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5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9144000" cy="371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242100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élula cebada intacta                        Célula cebada en degran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23736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élula cebada intacta  (ME)                     Célula cebada en degranul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5580000" cy="480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élulas  cebadas y patóg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4941720"/>
            <a:ext cx="345600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 ubican cerca de los vasos en lugares expuestos al medio ambiente: piel   y muco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0"/>
            <a:ext cx="410508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2. Producen mediadores                             preformados, derivados del AA y citoquina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quimioqui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1268280"/>
            <a:ext cx="410508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3. Reclutan y activan selectivamente a diversas células mediante distintas cito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2565360"/>
            <a:ext cx="410508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xpresan receptores de membrana relacionados con patógenos : TLR,  Fc  y  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3789360"/>
            <a:ext cx="410508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5. Inician el reclutamiento selectivo de células efectoras adecuadas para el  patógeno inva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5300640"/>
            <a:ext cx="410508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6. Influyen en la naturaleza de respuestas adaptativas mediante citoquinas y quimio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105520" y="259920"/>
            <a:ext cx="436248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Physalia o “Portugese man of wa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(Aquí se llama “malagua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57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9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880920"/>
            <a:ext cx="8243640" cy="5977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s células cebadas en respuesta a alergen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osinófi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825480"/>
            <a:ext cx="914400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3676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3308400"/>
            <a:ext cx="5219640" cy="3475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435640" y="414972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FASE INMEDIATA Y TAR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 resumen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585800"/>
            <a:ext cx="91440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219564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74920" y="0"/>
            <a:ext cx="676908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ringe: reacción anafiláctica a la penici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852480"/>
            <a:ext cx="91440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Dificultad respirato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ibilanc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onidos respiratorios anormales (de tono alt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fusió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la articulación del lenguaj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ulso rápido o débi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Piel azulosa (cianosis) que incluye los labios o el lecho ungue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Desmayo, mareo, vérti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9999"/>
                </a:solidFill>
                <a:latin typeface="Arial"/>
              </a:rPr>
              <a:t>Shock anafil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76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67280" y="3778200"/>
            <a:ext cx="5076720" cy="3079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005360"/>
            <a:ext cx="39956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incipe  de Mónaco Alberto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(1848-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1916280"/>
            <a:ext cx="338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aul Portier Joven fisiólogo de la Sorbo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620640"/>
            <a:ext cx="378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harles Richet Connotado cientí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9999"/>
                </a:solidFill>
                <a:latin typeface="Arial"/>
              </a:rPr>
              <a:t>Shock anafiláctico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Urticaria y prurito generaliz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Ansie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Sensación de percibir los latidos cardíacos (palpitacion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Náuseas y vóm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Diar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Cólico o dolor abdo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Enrojecimiento de la pi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Congestión na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9999"/>
                </a:solidFill>
                <a:latin typeface="Arial"/>
              </a:rPr>
              <a:t>Shock anafiláctico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99"/>
                </a:solidFill>
                <a:latin typeface="Arial"/>
              </a:rPr>
              <a:t>Complicaciones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h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Paro cardíaco (no hay latidos cardíacos efectivo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Paro respiratorio (ausencia de respirac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Obstrucción de las vías aé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4204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796000" y="765000"/>
            <a:ext cx="2987640" cy="170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10 feb 19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erro + Toxina de anémona dosis b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26 días  después, el perro está sano, alegre, activo y con la piel brillante. A las 14 hrs. se le inyecta 0,12 cc/kg  de la misma toxina. En forma inmediata, se producen vómitos, defecación, temblores en las patas delanteras. Se cae al suelo, pierde el conocimiento y muere media hora después  (cuaderno laboratorio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TOP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nque el término atopia fue introducido en 1923 por Coca y Cooke, su definición exacta ha sido objeto de controversia por numerosos au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pys define el término atopia como la presencia de respuesta IgE ante alergenos comunes; su definición no implica la presencia de síntomas clínicos sino que describe la reacción inmunológica del suje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tros  autores definen la atopia sólo de acuerdo a la presencia de síntomas clínicos (rinitis, asma o dermatitis atópic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riksson propone la presencia de síntomas clínicos y al menos una prueba cutánea positiva a aeroalergenos comunes, como definición de atop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7:56:12Z</dcterms:created>
  <dc:creator>Usuario</dc:creator>
  <dc:description/>
  <dc:language>en-US</dc:language>
  <cp:lastModifiedBy>Usuario</cp:lastModifiedBy>
  <dcterms:modified xsi:type="dcterms:W3CDTF">2007-10-22T15:54:56Z</dcterms:modified>
  <cp:revision>9</cp:revision>
  <dc:subject/>
  <dc:title>Diapositiva 1</dc:title>
</cp:coreProperties>
</file>