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4DB-BB17-45C7-9A5D-DF85E3E8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D2D-50FF-45AD-AFC4-A38E93CD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F17-5636-44FB-AFF0-D61FA595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230-FC06-4C75-A2C9-5CCA5B6F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5DD-A917-4074-9578-325B8DC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819-5E57-4CE6-BE73-EAAC5E7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639-4300-4298-8C34-4A55C1C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A72-427F-43FE-B4ED-D6A1C8B3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D99-297E-4989-8C07-3E3D812E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127-3A4E-44BB-8C3D-82013082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AE9-5CD0-4400-9A18-3032307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E9D-EFF1-4AC0-9AD2-660D0433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0B2E-12F5-4FDF-B97C-812A0A812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14400" y="1496880"/>
            <a:ext cx="72388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ndoscopia tiene utilidad para diagnosticar várices esofágicas y/o gástricas. Además es un medio por el cual se pueden tratar las várices esofág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 continuación se muestran endoscopias normales (ya conocidas) y cuatro de pacientes con Hipertensión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13372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 observa introducción del endoscopio (a izquierda la larin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yecto y mucosa de aspecto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osa de aspecto normal, es posible apreciar las características de gel y adherencia del muc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576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767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33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8101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8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0" y="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ces Esofá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800600" cy="313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2948040"/>
            <a:ext cx="4952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76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767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533520"/>
            <a:ext cx="3200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árices Gas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800600" cy="327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51814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206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67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33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666880" y="26812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60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 y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251000"/>
            <a:ext cx="76197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437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ódulos rodeados de tejido fibr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1214280"/>
          <a:ext cx="678168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4280"/>
                    <a:ext cx="678168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uficiencia Hepática: Síndromes asoci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ct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est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ema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morragíp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T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efalopatí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c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pulm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. Horm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ipertensión 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3760" y="52560"/>
            <a:ext cx="9120240" cy="6400800"/>
            <a:chOff x="23760" y="52560"/>
            <a:chExt cx="9120240" cy="64008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429080" y="52560"/>
              <a:ext cx="471492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3760" y="52560"/>
              <a:ext cx="439596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90476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aracterísticas clínicas del paciente con daño hepático inducido po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268920" cy="6400800"/>
            <a:chOff x="0" y="0"/>
            <a:chExt cx="9268920" cy="6400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9540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571640" y="0"/>
              <a:ext cx="469728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320" y="2160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51:20Z</dcterms:created>
  <dc:creator>Usuario</dc:creator>
  <dc:description/>
  <dc:language>en-US</dc:language>
  <cp:lastModifiedBy>Usuario</cp:lastModifiedBy>
  <dcterms:modified xsi:type="dcterms:W3CDTF">2007-10-19T21:51:43Z</dcterms:modified>
  <cp:revision>1</cp:revision>
  <dc:subject/>
  <dc:title>Esteatosis</dc:title>
</cp:coreProperties>
</file>