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4E7D-B4A5-4BDD-8AED-600F984A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0250-226C-40F7-B699-10285645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7F8-670D-4068-A8A5-D01E7383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4A5B-6E8B-4874-A746-4F9F3DBF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3B1-2574-4F33-BEEA-3611EADD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CE7-EADE-495D-85BE-7C3734A4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2EF5-1B0F-4264-9CBE-043A8CA3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94D-2C7C-4EFB-9705-769E5CA4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063-79C7-4386-B3C6-93E19540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B5BD-7D76-495F-87CF-A88AED9A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F9B1-94A3-4718-8DCD-5A554D14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CE42-93C1-4A45-AD68-425351E6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7A5E-86F4-4469-AD71-DF5B4D8E2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ea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14400" y="1496880"/>
            <a:ext cx="72388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doscop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endoscopia tiene utilidad para diagnosticar várices esofágicas y/o gástricas. Además es un medio por el cual se pueden tratar las várices esofág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A continuación se muestran endoscopias normales (ya conocidas) y cuatro de pacientes con Hipertensión p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10080" y="4191120"/>
            <a:ext cx="3505320" cy="2286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doscopia N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410080" y="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410080" y="2209680"/>
            <a:ext cx="350532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2133720"/>
            <a:ext cx="533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 observa introducción del endoscopio (a izquierda la laring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yecto y mucosa de aspecto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cosa de aspecto normal, es posible apreciar las características de gel y adherencia del muc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5767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767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233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8101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94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doscopia n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84872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08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0" y="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ces Esofá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4800600" cy="3130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191120" y="2948040"/>
            <a:ext cx="495288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276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2767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6734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533520"/>
            <a:ext cx="3200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árices Gas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051000"/>
            <a:ext cx="4800600" cy="3273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518148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2067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2067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6334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2666880" y="26812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60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3" dur="1" fill="hold"/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1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eatosis y fib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1251000"/>
            <a:ext cx="761976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ib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4376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ódulos rodeados de tejido fibro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106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143000" y="1214280"/>
          <a:ext cx="6781680" cy="48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4280"/>
                    <a:ext cx="678168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suficiencia Hepática: Síndromes asoci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cté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está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demat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morragíp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T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cefalopatía 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cí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pato r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pato pulmo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t. Horm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ipertensión por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3760" y="52560"/>
            <a:ext cx="9120240" cy="6400800"/>
            <a:chOff x="23760" y="52560"/>
            <a:chExt cx="9120240" cy="640080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4429080" y="52560"/>
              <a:ext cx="4714920" cy="64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3760" y="52560"/>
              <a:ext cx="4395960" cy="640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90476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Características clínicas del paciente con daño hepático inducido po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0"/>
            <a:ext cx="9268920" cy="6400800"/>
            <a:chOff x="0" y="0"/>
            <a:chExt cx="9268920" cy="640080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595400" cy="64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571640" y="0"/>
              <a:ext cx="4697280" cy="640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320" y="216000"/>
            <a:ext cx="899136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51:20Z</dcterms:created>
  <dc:creator>Usuario</dc:creator>
  <dc:description/>
  <dc:language>en-US</dc:language>
  <cp:lastModifiedBy>Usuario</cp:lastModifiedBy>
  <dcterms:modified xsi:type="dcterms:W3CDTF">2007-10-19T21:51:43Z</dcterms:modified>
  <cp:revision>1</cp:revision>
  <dc:subject/>
  <dc:title>Esteatosis</dc:title>
</cp:coreProperties>
</file>