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A7E-8E0E-498C-AC9A-9FA91078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EED-1C2F-4423-A158-A0399484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A16-A520-4500-87E7-19DEC6C7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C11-4E33-4818-8800-573D78D3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DFE-B3D6-48A6-A091-736322E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053-1520-455F-86C7-45867020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F0C-3760-4F5E-9F71-48B8E05A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6D6-B97B-44DD-89D5-1D009886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3F0-2AB3-44BB-A988-8E0C28C9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C7B-B945-40CD-BD04-DC24BDB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4C8-CB4F-49D8-8DD2-6513E8C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C3E-D7C2-473C-9356-9E6FB42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1447-6EFC-4E41-BFF7-11764AAE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496880"/>
            <a:ext cx="72388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ndoscopia tiene utilidad para diagnosticar várices esofágicas y/o gástricas. Además es un medio por el cual se pueden tratar las várices esofág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 continuación se muestran endoscopias normales (ya conocidas) y cuatro de pacientes con Hipertensión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13372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 observa introducción del endoscopio (a izquierda la lari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yecto y mucosa de aspecto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osa de aspecto normal, es posible apreciar las características de gel y adherencia del mu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576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767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33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8101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8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0" y="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ces Esofá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800600" cy="313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2948040"/>
            <a:ext cx="4952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76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767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533520"/>
            <a:ext cx="3200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árices Ga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800600" cy="327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51814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20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67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33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666880" y="26812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60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 y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251000"/>
            <a:ext cx="7619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437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ódulos rodeados de tejido fibr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214280"/>
          <a:ext cx="678168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4280"/>
                    <a:ext cx="67816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uficiencia Hepática: Síndromes asoci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ct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est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ema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rragí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T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efalopatí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c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pulm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. Horm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ipertensión 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760" y="52560"/>
            <a:ext cx="9120240" cy="6400800"/>
            <a:chOff x="23760" y="52560"/>
            <a:chExt cx="9120240" cy="64008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429080" y="52560"/>
              <a:ext cx="471492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3760" y="52560"/>
              <a:ext cx="439596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9047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aracterísticas clínicas del paciente con daño hepático inducido po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268920" cy="6400800"/>
            <a:chOff x="0" y="0"/>
            <a:chExt cx="9268920" cy="6400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9540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571640" y="0"/>
              <a:ext cx="469728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320" y="2160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51:20Z</dcterms:created>
  <dc:creator>Usuario</dc:creator>
  <dc:description/>
  <dc:language>en-US</dc:language>
  <cp:lastModifiedBy>Usuario</cp:lastModifiedBy>
  <dcterms:modified xsi:type="dcterms:W3CDTF">2007-10-19T21:51:43Z</dcterms:modified>
  <cp:revision>1</cp:revision>
  <dc:subject/>
  <dc:title>Esteatosis</dc:title>
</cp:coreProperties>
</file>