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ED4-FF7A-40B0-8F64-757286CE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A27-4A72-4B62-9879-D499937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557-05DB-43FC-9BC3-D4440D78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997-865D-44C4-9D98-9D58FAA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245-CC0C-4393-AA1E-8EB2D2FF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127-FDBD-4D81-87A3-0386CDDE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0CE-E73E-415B-AD5E-F5D4FB43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D6A-9CB8-4472-BFE8-697DFCFF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AE3-0ABE-42AA-B90C-6FBEDE87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115-0CB0-4D43-AAD2-3D07C74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B8B-97E9-4A50-9C53-3261BF5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FBC-7E93-4530-A222-43EE8A1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2C15-A14C-44A6-84B5-92ABF19F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496880"/>
            <a:ext cx="72388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ndoscopia tiene utilidad para diagnosticar várices esofágicas y/o gástricas. Además es un medio por el cual se pueden tratar las várices esofág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A continuación se muestran endoscopias normales (ya conocidas) y cuatro de pacientes con Hipertensión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410080" y="22096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13372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 observa introducción del endoscopio (a izquierda la lari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yecto y mucosa de aspecto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cosa de aspecto normal, es posible apreciar las características de gel y adherencia del muc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576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67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23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8101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94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doscopia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0" y="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ces Esofá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800600" cy="313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2948040"/>
            <a:ext cx="4952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76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2767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6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533520"/>
            <a:ext cx="3200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árices Ga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800600" cy="3273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1814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206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67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33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666880" y="26812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3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eatosis y 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1251000"/>
            <a:ext cx="7619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b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437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ódulos rodeados de tejido fibro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r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214280"/>
          <a:ext cx="6781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4280"/>
                    <a:ext cx="6781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uficiencia Hepática: Síndromes asoc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ct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est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ema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rragíp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T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efalopatía hep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c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pato pulm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. Horm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ipertensión por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3760" y="52560"/>
            <a:ext cx="9120240" cy="6400800"/>
            <a:chOff x="23760" y="52560"/>
            <a:chExt cx="9120240" cy="64008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429080" y="52560"/>
              <a:ext cx="471492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3760" y="52560"/>
              <a:ext cx="439596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90476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Características clínicas del paciente con daño hepático inducido po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268920" cy="6400800"/>
            <a:chOff x="0" y="0"/>
            <a:chExt cx="9268920" cy="6400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95400" cy="640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571640" y="0"/>
              <a:ext cx="4697280" cy="64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320" y="216000"/>
            <a:ext cx="89913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51:20Z</dcterms:created>
  <dc:creator>Usuario</dc:creator>
  <dc:description/>
  <dc:language>en-US</dc:language>
  <cp:lastModifiedBy>Usuario</cp:lastModifiedBy>
  <dcterms:modified xsi:type="dcterms:W3CDTF">2007-10-19T21:51:43Z</dcterms:modified>
  <cp:revision>1</cp:revision>
  <dc:subject/>
  <dc:title>Esteatosis</dc:title>
</cp:coreProperties>
</file>