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758-2FE9-44E8-8654-3E481AFD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B55-6793-4F4B-A39E-A4315A2F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31E-C8F3-4DFA-B1CD-1CA346D5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92E-2CEC-4394-B0CE-04894D2B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3ED-6424-4964-A52E-69F34505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BC6-AE99-41B4-8323-57B57A6D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304-0811-47D0-9C4B-A0D69C06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C69-896A-44A9-B79F-1BAA7C67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FFE-6AB5-4BF6-8EC9-07B8E8A5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2E0-A6C8-4FF7-ACFA-9E5E4C00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7DF-F8EE-4F54-AD79-1A3B689B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42B-86AC-411F-AB61-F615510B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0BAF-C308-4B16-8147-F04CD6DEC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abolismo del Etano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143000" y="1371600"/>
            <a:ext cx="73915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del Etanol en 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32628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569880"/>
            <a:ext cx="91440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ñ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200720" cy="54626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abolismo del Etano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etanol es oxidado por la alcohol deshidrogenasa, presente en en citosol de células de la mucosa gástrica y del hígado  dando como producto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acetaldeh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acetaldehido es oxidado por la acetaldehido deshidrogenasa dando como producto ace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n ambas reacciones se ocupa NAD y se genera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l daño hepático están dado básicamente por 2 tipos de alter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sbalance de la  relación NADH/NAD que conduce a alteraciones metabó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fectos del aumento de Acetaldeh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fectos del alcohol en el hi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umento del NADH y disminución del N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a la síntesis de lípidos produciendo esteato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nor actividad de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o de acido lá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o de ac. U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sbalance energ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ntro del hepatocito se genera una condición de hipermetabolismo: aumento del consumo de oxí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xiste daño mitocondrial por efecto del alcohol: desacoplamiento de la cadena respirato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nor producción de energía, consumo de ATP que no se utiliza adecuadamente: producción de calor (generación de calorías vací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s trastornos funcionales del hepatocito, y la disminución del número de ellos, causa una incapacidad del hígado para metabolizar hormonas normalmente y detoxificar productos endógenos y exógenos (en esto es especialmente importante la inducción del sistema M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acetaldehido induce daño hepático principalmente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ón a estructuras proteicas intracelulares: fenómenos de autoinmunidad, inflamación y daño 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flamación favorecida por endotoxinas provenientes del intestino debido a cambio de permeabilidad intest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íntesis de colágeno: formación exagerada de bandas de tejido fibr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teración de la hemodinamia intrahepática: Síndrome de Hipertensión por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del Acetaldeh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hepatocito queda propenso a sufrir daño por desbalance energético, siendo la zona de mayor riesgo la 3 del acino hep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a zona 3 existe también una mayor concentración de acetaldehido, lo que la hace más susceptible de d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Zonas del Acin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459080"/>
            <a:ext cx="7543800" cy="493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15000" y="685800"/>
            <a:ext cx="3429000" cy="3657600"/>
          </a:xfrm>
          <a:prstGeom prst="ellipse">
            <a:avLst/>
          </a:prstGeom>
          <a:noFill/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9:52Z</dcterms:created>
  <dc:creator>Usuario</dc:creator>
  <dc:description/>
  <dc:language>en-US</dc:language>
  <cp:lastModifiedBy>Usuario</cp:lastModifiedBy>
  <dcterms:modified xsi:type="dcterms:W3CDTF">2007-10-19T21:50:27Z</dcterms:modified>
  <cp:revision>1</cp:revision>
  <dc:subject/>
  <dc:title>Metabolismo del Etanol (1)</dc:title>
</cp:coreProperties>
</file>