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E9759-DC2D-49AA-B04A-4563A3232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5973B-951C-4CB2-A3AE-12957D77B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CA847-0D40-414C-A3F6-894C96EA2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59AF6-9411-4E42-B950-DC8AAE28E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6ECF7-C658-4BB8-A523-CDF733261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58ACE-1A60-490C-81EA-B0B27B04A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40527-8F23-4C7E-9BA2-B749B517C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55773-5C92-4EA8-8FE4-3C94C15F5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DAB08-327A-4922-A13A-00B4EBBA3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5221C-5A83-4863-BB08-B467A3E99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A41EB-D23E-42F5-A76A-5EF1902CC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4BEDB-5B4C-435B-9676-F2A51A6BD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B5EFD-5C9A-48B2-AF24-8BFF1D10C1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Metabolismo del Etanol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1143000" y="1371600"/>
            <a:ext cx="739152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55640" y="274320"/>
            <a:ext cx="756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Efectos del Etanol en el híga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143000" y="990720"/>
            <a:ext cx="6326280" cy="56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569880"/>
            <a:ext cx="9144000" cy="575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Daño hepát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762120" y="1066680"/>
            <a:ext cx="7200720" cy="5462640"/>
          </a:xfrm>
          <a:prstGeom prst="rect">
            <a:avLst/>
          </a:prstGeom>
          <a:ln w="38160">
            <a:solidFill>
              <a:srgbClr val="cc99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Metabolismo del Etanol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557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El etanol es oxidado por la alcohol deshidrogenasa, presente en en citosol de células de la mucosa gástrica y del hígado  dando como producto </a:t>
            </a:r>
            <a:r>
              <a:rPr b="1" i="1" lang="es-CL" sz="2800" spc="-1" strike="noStrike">
                <a:solidFill>
                  <a:srgbClr val="000000"/>
                </a:solidFill>
                <a:latin typeface="Arial"/>
              </a:rPr>
              <a:t>acetaldehi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El acetaldehido es oxidado por la acetaldehido deshidrogenasa dando como producto acet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En ambas reacciones se ocupa NAD y se genera NAD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68360" y="1773360"/>
            <a:ext cx="8207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El daño hepático están dado básicamente por 2 tipos de alteracion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Desbalance de la  relación NADH/NAD que conduce a alteraciones metabólic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Efectos del aumento de Acetaldehi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000000"/>
                </a:solidFill>
                <a:latin typeface="Arial"/>
                <a:ea typeface="Arial Unicode MS"/>
              </a:rPr>
              <a:t>Efectos del alcohol en el higa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Alteraciones metabólica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5960" y="1600200"/>
            <a:ext cx="8762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Aumento del NADH y disminución del NA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Aumenta la síntesis de lípidos produciendo esteatosi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Menor actividad del ciclo de Kre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Aumento de acido láct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Aumento de ac. Ur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Desbalance energét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Dentro del hepatocito se genera una condición de hipermetabolismo: aumento del consumo de oxígen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Existe daño mitocondrial por efecto del alcohol: desacoplamiento de la cadena respiratori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Menor producción de energía, consumo de ATP que no se utiliza adecuadamente: producción de calor (generación de calorías vacía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Alteraciones metabólica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Los trastornos funcionales del hepatocito, y la disminución del número de ellos, causa una incapacidad del hígado para metabolizar hormonas normalmente y detoxificar productos endógenos y exógenos (en esto es especialmente importante la inducción del sistema MEO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Alteraciones metabólica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52280" y="1143000"/>
            <a:ext cx="8839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El acetaldehido induce daño hepático principalmente a través d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Unión a estructuras proteicas intracelulares: fenómenos de autoinmunidad, inflamación y daño celul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Inflamación favorecida por endotoxinas provenientes del intestino debido a cambio de permeabilidad intestin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Síntesis de colágeno: formación exagerada de bandas de tejido fibros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Alteración de la hemodinamia intrahepática: Síndrome de Hipertensión port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Efectos del Acetaldehi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685800" y="18284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El hepatocito queda propenso a sufrir daño por desbalance energético, siendo la zona de mayor riesgo la 3 del acino hepátic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Alteraciones metabólica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3962520"/>
            <a:ext cx="777240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3333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n la zona 3 existe también una mayor concentración de acetaldehido, lo que la hace más susceptible de dañ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000000"/>
                </a:solidFill>
                <a:latin typeface="Arial"/>
                <a:ea typeface="Arial Unicode MS"/>
              </a:rPr>
              <a:t>Zonas del Acino Hepát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066680" y="1459080"/>
            <a:ext cx="7543800" cy="49384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5715000" y="685800"/>
            <a:ext cx="3429000" cy="3657600"/>
          </a:xfrm>
          <a:prstGeom prst="ellipse">
            <a:avLst/>
          </a:prstGeom>
          <a:noFill/>
          <a:ln cap="sq"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9T21:49:52Z</dcterms:created>
  <dc:creator>Usuario</dc:creator>
  <dc:description/>
  <dc:language>en-US</dc:language>
  <cp:lastModifiedBy>Usuario</cp:lastModifiedBy>
  <dcterms:modified xsi:type="dcterms:W3CDTF">2007-10-19T21:50:27Z</dcterms:modified>
  <cp:revision>1</cp:revision>
  <dc:subject/>
  <dc:title>Metabolismo del Etanol (1)</dc:title>
</cp:coreProperties>
</file>