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64D-C821-409F-82B7-9CB352D7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ADD-B461-4808-98C6-E71F870E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BB43-1662-4208-A42E-7C805CFC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081-05A7-4E7D-8A83-A5DC5011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6C5-A4CD-4C3A-8871-A0A323EF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0AD-4C5C-4612-A25D-58C7DEFC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03B-1BC2-4503-B3D6-39CAF74B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BAA-11B8-4CD6-8F1F-3434551C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153-5D5B-42F4-A772-41BFF8DD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91E-D508-4A3F-A6C2-710D9CB2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BC0-2841-4238-A779-42A1141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E78-0B21-4D27-8778-0D19244A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0402-473B-4806-8FD3-8D792E3B0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tan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se encuentra en las bebidas alcohólicas que ingiere el ser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Ha acompañado al hombre desde hace miles d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tiene un conjunto de características que lo hacen un elemento único en la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4760"/>
            <a:ext cx="342900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4883" t="0" r="13712" b="0"/>
          <a:stretch/>
        </p:blipFill>
        <p:spPr>
          <a:xfrm>
            <a:off x="4788000" y="1844640"/>
            <a:ext cx="4176720" cy="425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1600" y="1773360"/>
            <a:ext cx="42181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coholemia: 400mg/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4674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76520" y="0"/>
            <a:ext cx="5972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1295280"/>
            <a:ext cx="77724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alcohol prov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aciones en diversos órgan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presentan generalment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forma simultáne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Tien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lac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con la cantidad de alcohol ingerido y  con el tiempo de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órganos más lábiles a la influencia del alcohol, son el sistema nervioso central y el hí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98640" y="274320"/>
            <a:ext cx="346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3080" y="1600200"/>
            <a:ext cx="84582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 del sistema nervioso central se relacionan 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ómenos psicológicos de adicción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cia a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mpromiso orgánico, con alteracio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les del SN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re las diversas etiologías del daño hepático crónico, el alcohol juega un papel de gran importa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an parte 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bright="12000"/>
          </a:blip>
          <a:srcRect l="8488" t="30709" r="7882" b="12724"/>
          <a:stretch/>
        </p:blipFill>
        <p:spPr>
          <a:xfrm>
            <a:off x="1943280" y="304920"/>
            <a:ext cx="52578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914400"/>
            <a:ext cx="8686800" cy="56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babilidad 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fr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año hepático crónico por alcohol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correlaciona directamente con la magnitud de la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quiere una ingesta superior a los 60 g/día en el hombre y la mitad en la mujer para que se provoque un daño hepát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inge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important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estudio demostró que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os con ingesta mayor de 160 g/día pero por un periodo inferior a 5 años evolucionaron sin Hepatitis Alcoh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 un consumo alto por más de 20 años el 50% de los individuos desarrolló cir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gesta de alcohol y ries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7086600" cy="470052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674720"/>
            <a:ext cx="800100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 una cierta predisposición al daño hepático, cuyas causas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no se 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lo el 15% de los bebedores exagerados, presenta un 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ñ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páti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ón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 autop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tiene trascendencia el tipo de bebidas alcohólicas, importando 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mente la cantidad de alcohol que ellas contien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197000"/>
            <a:ext cx="853416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enfermedad hepática alcohólic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continuo 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pisodios de inflamación 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cual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gregan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 proceso fibro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existe y progresa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ebedores intermitentes le dan una oportunidad al hígado para recuperars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 as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iesgo que aquellos que beben en forma contin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abstinenci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a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encial de la mejoría del pronóstico en la enfermedad hepática alcohólic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Características del Etanol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Fárma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cambios metabólicos en el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Tóxi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ya que es capaz de producir daño cel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Drog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adi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Nutriente”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representa un aporte calórico significativo. Un gramo de etanol aporta 7.1 Kcal (más que un gramo de proteín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58680"/>
            <a:ext cx="2133720" cy="17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yor susceptibilidad de la mujer a sufrir 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nte a una misma dosis de etanol, la mujer alcanza mayores niveles de alcoholemia, esto se deb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actividad de la alcohol dehidrogenasa gástrica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lo que hace que una mayor cantidad de etanol sea absorvido como 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volumen de distribución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bido a la menor masa corporal y el mayor contenido proporcional de tejido ad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Efecto de hormonas femeninas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que predispone a desarrollar un proceso inflamatorio más intenso (Mayor número de receptores  CD-14 a endotoxinas y mayores niveles de Lipopolisacáridos después de ingerir alcohol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3320" y="0"/>
            <a:ext cx="3152880" cy="632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541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796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ebidas alcoholicas y equival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360" y="1143000"/>
            <a:ext cx="3454560" cy="533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81280" y="1123920"/>
            <a:ext cx="5562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97480" cy="482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5989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85080" y="3419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280" y="502920"/>
            <a:ext cx="41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idemiología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udios sobre el consumo de alcohol han mostrado que en la población chilena se encuent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% de BEBEDORES EXCE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 - 6% ALCOHO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últimos años ha aumentado el grupo de bebedores excesivos en mayores de 65 años y en jóvenes entre 15 y 19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70% de los estudiantes de Enseñanza Media  consumen alcohol. El 15% de ellos se ha embriagado antes de los 15 años y el 5% bebe más de una vez a la sema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E. Bustos Alcoholismo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666880"/>
            <a:ext cx="2743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6248520" cy="6324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5880" y="30492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iminación del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67280" y="620280"/>
            <a:ext cx="28195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inmediatos de la ingesta de et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532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0 a 3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cción lenta, motricidad fina disminuida y facultad crítica disminu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&gt; de 100 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Bajo la influencia de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0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7 veces riesgo de accidente automovilístico fatal, que el conductor que no ha bebido et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5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20ml wisky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67 a 92 mg/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,2 L cerveza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41 a 49 mg/dl)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7:05Z</dcterms:created>
  <dc:creator>Usuario</dc:creator>
  <dc:description/>
  <dc:language>en-US</dc:language>
  <cp:lastModifiedBy>Usuario</cp:lastModifiedBy>
  <dcterms:modified xsi:type="dcterms:W3CDTF">2007-10-19T21:47:23Z</dcterms:modified>
  <cp:revision>1</cp:revision>
  <dc:subject/>
  <dc:title>Etanol </dc:title>
</cp:coreProperties>
</file>