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992B-718F-4EC8-97B3-6E691C40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C4E5-96B6-4062-9250-957DCC29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9BE-AC21-45C0-A1FF-16A9D11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5C1-0ABF-4A70-88E2-E2CBBD54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A62A-F818-48AC-832D-ED50972B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6E09-6E89-4404-A0BD-B053F52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FAD-F3CD-48BF-A9CF-2E08CD92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BBF5-1E12-45F1-85E9-A5FAA428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648-7768-4E60-B6D4-9CFDF8D8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7B9-1D94-4BBB-A4EB-1592D96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FB1-25CB-4339-BC99-1ED7EA74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145-B35A-4DE1-ABCD-9190AB3D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2696-C705-4379-B6C1-863FE51F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tan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se encuentra en las bebidas alcohólicas que ingiere el ser hum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Ha acompañado al hombre desde hace miles d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El etanol tiene un conjunto de características que lo hacen un elemento único en la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86400" y="104760"/>
            <a:ext cx="3429000" cy="24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4883" t="0" r="13712" b="0"/>
          <a:stretch/>
        </p:blipFill>
        <p:spPr>
          <a:xfrm>
            <a:off x="4788000" y="1844640"/>
            <a:ext cx="4176720" cy="425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01600" y="1773360"/>
            <a:ext cx="421812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lcoholemia: 400mg/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46748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76520" y="0"/>
            <a:ext cx="59720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1295280"/>
            <a:ext cx="7772400" cy="39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alcohol provo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aciones en diversos órgano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 presentan generalment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forma simultáne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Tiene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lac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con la cantidad de alcohol ingerido y  con el tiempo de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órganos más lábiles a la influencia del alcohol, son el sistema nervioso central y el híg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98640" y="274320"/>
            <a:ext cx="3468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43080" y="1600200"/>
            <a:ext cx="8458200" cy="48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s alteraciones del sistema nervioso central se relacionan 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F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ómenos psicológicos de adicción y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cia a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 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mpromiso orgánico, con alteracio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tructurales del SN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tre las diversas etiologías del daño hepático crónico, el alcohol juega un papel de gran importanci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gran parte 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mun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bright="12000"/>
          </a:blip>
          <a:srcRect l="8488" t="30709" r="7882" b="12724"/>
          <a:stretch/>
        </p:blipFill>
        <p:spPr>
          <a:xfrm>
            <a:off x="1943280" y="304920"/>
            <a:ext cx="52578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8600" y="914400"/>
            <a:ext cx="8686800" cy="56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babilidad 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ufr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año hepático crónico por alcohol,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correlaciona directamente con la magnitud de la inge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requiere una ingesta superior a los 60 g/día en el hombre y la mitad en la mujer para que se provoque un daño hepátic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empo de ingest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importante: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estudio demostró que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os con ingesta mayor de 160 g/día pero por un periodo inferior a 5 años evolucionaron sin Hepatitis Alcohól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90000"/>
              </a:lnSpc>
              <a:spcBef>
                <a:spcPts val="1500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 un consumo alto por más de 20 años el 50% de los individuos desarrolló cirr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ngesta de alcohol y ries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28880" y="1600200"/>
            <a:ext cx="7086600" cy="4700520"/>
          </a:xfrm>
          <a:prstGeom prst="rect">
            <a:avLst/>
          </a:prstGeom>
          <a:ln w="2844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674720"/>
            <a:ext cx="8001000" cy="42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e una cierta predisposición al daño hepático, cuyas causas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 no se 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ólo el 15% de los bebedores exagerados, presenta un 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ñ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pátic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ón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n la autops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tiene trascendencia el tipo de bebidas alcohólicas, importando s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mente la cantidad de alcohol que ellas contien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tiopatogenia</a:t>
            </a: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ontinu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197000"/>
            <a:ext cx="853416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enfermedad hepática alcohólic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un continuo 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pisodios de inflamación 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uale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e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obre agregan 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 proceso fibros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que coexiste y progresa en el tiem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bebedores intermitentes le dan una oportunidad al hígado para recuperars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o as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meno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iesgo que aquellos que beben en forma continu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3333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a abstinencia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s un pas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encial de la mejoría del pronóstico en la enfermedad hepática alcohólic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Características del Etanol</a:t>
            </a:r>
            <a:r>
              <a:rPr b="0" lang="es-CL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280" y="19051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Fárma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cambios metabólicos en el orga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Tóx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ya que es capaz de producir daño cel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Drog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por su capacidad de inducir adi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 algn="just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0" i="1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Nutriente”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, representa un aporte calórico significativo. Un gramo de etanol aporta 7.1 Kcal (más que un gramo de proteína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010280" y="58680"/>
            <a:ext cx="2133720" cy="177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Mayor susceptibilidad de la mujer a sufrir daño hepático por alcoh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rente a una misma dosis de etanol, la mujer alcanza mayores niveles de alcoholemia, esto se debe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actividad de la alcohol dehidrogenasa gástrica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lo que hace que una mayor cantidad de etanol sea absorvido como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Menor volumen de distribución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debido a la menor masa corporal y el mayor contenido proporcional de tejido ad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Efecto de hormonas femeninas</a:t>
            </a:r>
            <a:r>
              <a:rPr b="1" lang="es-CL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que predispone a desarrollar un proceso inflamatorio más intenso (Mayor número de receptores  CD-14 a endotoxinas y mayores niveles de Lipopolisacáridos después de ingerir alcohol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3320" y="0"/>
            <a:ext cx="3152880" cy="632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0"/>
            <a:ext cx="3541680" cy="62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7960" y="2743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ebidas alcoholicas y equival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3360" y="1143000"/>
            <a:ext cx="3454560" cy="533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581280" y="1123920"/>
            <a:ext cx="55627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1413000"/>
            <a:ext cx="4497480" cy="4825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76360" y="1341360"/>
            <a:ext cx="59896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85080" y="341964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280" y="502920"/>
            <a:ext cx="41166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pidemiología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udios sobre el consumo de alcohol han mostrado que en la población chilena se encuent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1% de BEBEDORES EXCES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 - 6% ALCOHO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últimos años ha aumentado el grupo de bebedores excesivos en mayores de 65 años y en jóvenes entre 15 y 19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70% de los estudiantes de Enseñanza Media  consumen alcohol. El 15% de ellos se ha embriagado antes de los 15 años y el 5% bebe más de una vez a la seman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(E. Bustos Alcoholismo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2666880"/>
            <a:ext cx="27432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6248520" cy="6324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95880" y="304920"/>
            <a:ext cx="304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liminación del alcoh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67280" y="620280"/>
            <a:ext cx="281952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fectos inmediatos de la ingesta de etan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55324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86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lcoholem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20 a 3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Reacción lenta, motricidad fina disminuida y facultad crítica disminu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&gt; de 100 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Bajo la influencia del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0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7 veces riesgo de accidente automovilístico fatal, que el conductor que no ha bebido etan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150mg/dl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ve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20ml wisky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67 a 92 mg/d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44g de etano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1,2 L cerveza)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[41 a 49 mg/dl)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21:47:05Z</dcterms:created>
  <dc:creator>Usuario</dc:creator>
  <dc:description/>
  <dc:language>en-US</dc:language>
  <cp:lastModifiedBy>Usuario</cp:lastModifiedBy>
  <dcterms:modified xsi:type="dcterms:W3CDTF">2007-10-19T21:47:23Z</dcterms:modified>
  <cp:revision>1</cp:revision>
  <dc:subject/>
  <dc:title>Etanol </dc:title>
</cp:coreProperties>
</file>