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ct" ContentType="image/x-pict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4DD09DB-FC14-4E30-AA28-FDC56456FA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AA2-57E7-4B27-977F-2957B21A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DDC-B086-40D3-B12F-04BCB1EC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209-D43C-4ECF-B360-76B93134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230-0176-462C-A9DA-EE176DDA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4F4-1CD7-4E86-8B39-C78CEC8E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1E02-5F62-4C4F-A5B7-EF43A996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515F-9EB7-478B-94F1-1C827710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D9DD-8393-4778-8587-1AAA0406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B903-456C-4B57-A15A-E403DE4C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A202-07A7-4A2B-B447-07A7E60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7552-51D2-4258-918D-57C0058D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2AA-DDEB-4E8B-B820-E5C788D0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E99-DD15-4701-97FD-DCC6664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7CBF-F4F0-47F8-A951-60471EA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0E5C-CCB9-470A-B9C4-38BD1CF7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FD1B-D29D-4CE1-8E70-E0C75AD6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414-FEB0-472B-AE2F-91E44BA0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D90-E87F-4695-B251-4E06B531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0A0-92E3-4ED1-B467-A7CBB16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03F-3A3E-4C2E-BADD-0A225E6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752-F484-4117-A471-7190C1E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36E-F099-4F42-B46A-5B2CF6C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7F6-7C76-45D8-A30C-7651D2B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14C-208A-44DD-9D57-5E193EF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08CF-3886-4126-9501-8F9C19668418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F84-FC99-4EB5-B55F-E39895BF4736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Cristián Céspedes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Javier Villanueva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se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DP no garantiza el orden ni la consistencia de los datos (a diferencia d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bido a esto,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Cristián Céspedes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Javier Villanueva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745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, pero las 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Así se indica si se está transmitiendo 0 ó 1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2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00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ada uno de ustedes es una tarjeta de red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ada tarjeta de red envía al HUB un mensaje indicando destinatario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ada tarjeta envía mensaje al switch indicando destinatario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ay dos zonas independientes. Conectamos un router y enviar mensajes a la otra zona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Solo hay un acceso al exterior y por ahí debe enviar sus mensajes hacia allá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ebe solicitar al proxy que le consiga información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ACTIVIDAD</a:t>
            </a:r>
            <a:br>
              <a:rPr sz="4000"/>
            </a:b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Bloqueamos todo lo que se envía hacia uno de los destinatario.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8 bloques de 4 dígitos hexadecimales que van desde 0000 hasta FFFF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Valeria Herskovic</cp:lastModifiedBy>
  <dcterms:modified xsi:type="dcterms:W3CDTF">2007-09-06T15:10:08Z</dcterms:modified>
  <cp:revision>13</cp:revision>
  <dc:subject/>
  <dc:title>Protocolos</dc:title>
</cp:coreProperties>
</file>