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5.xml.rels" ContentType="application/vnd.openxmlformats-package.relationships+xml"/>
  <Override PartName="/ppt/notesSlides/_rels/notesSlide33.xml.rels" ContentType="application/vnd.openxmlformats-package.relationships+xml"/>
  <Override PartName="/ppt/notesSlides/notesSlide33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8.pct" ContentType="image/x-pict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6504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de2c4"/>
                </a:solidFill>
                <a:latin typeface="Arial"/>
              </a:rPr>
              <a:t>Click to move the slide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6504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A2BF9AA-7482-4082-B240-F332F4AD37A8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gt;         pienso montar un P1 233 con 128 en ram y 7 gb DD (slackwa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gt;         como servidor para unas 35 pcs, y queria q me dieran s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gt;         opinion de q es mejor si montar el proxy (SQUID) o montar 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gt;         nat y por q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No se por que preguntas si puedes montar uno O el otro, ya que no 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xcluyen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Con el PROXY puedes hacer caché, regular los dominios que se pueden 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o no y hasta regular el ancho de banda consumido por cada uno de l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clientes del demoni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l NAT es un servicio para traducir las IPs a una red loc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Según lo que quieres hacer ajuro vas a usar NAT, y eventualmente, 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quieres, puedes implementar el PROX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gt;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gt;         GRAC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gt;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xcelente opción al escojer Slackware Linux como tu distro para 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Gateway. Te cuento que yo en 2 maquinas con las mismas caracteristicas 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la tuya tengo montado un Gateway/Proxy. Te recomiendo que hagas 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siguient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1. Que tu maquina tenga 2 tarjetas de red, la eth0 sea la que viene de 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Inet y la eth1 la que se comunique con la red intern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. Bajar SQUID Proxy para Slackware de LinuxPackages.net y configurarlo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tu med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3. Para hacer el NAT necesitas iptables (el slack lo trae). Creas 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archivo llamado rc.firewall en /etc/rc.d/, le das permiso de ejecu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(chmod +x /etc/rc.d/rc.firewall). (Te lo adjunto con el correo, mosca 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s muy basico, solo enmascar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4. Cierres los puertos y desactives lo daemon's que trae por defecto y 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no vas a necesit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NAT: Network Address Translation es aquel que te permite que maquinas 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tengan IP no certificadas puedan salir a internet transparentemente p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una Sola IP si Certificad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PROXY: Te ayuda para cachear paginas y para denegar algunos sitios we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Sin NAT tus maquinas no salen a Internet y sin Proxy (que no 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obligatorio tenerlo) te puede ayudar a acelerar la conexion, ya que 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guarda las webs y archivos en el HD. En LinuxParatodos.Net hay un ejemp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de como montar el SQUID Proxy de forma Transparen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* Protege de intrusiones.- Solamente entran a la red las personas autorizadas basadas en la política de la red en base a las configuraci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* Optimización de acceso.- Identifica los elementos de la red internos y optimiza que la comunicación entre ellos sea más directa si así se desea. Esto ayuda a reconfigurar rápida y fácilmente los parámetros de segurida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* Protección de información privada.- Permite el acceso solamente a quien tenga privilegios a la información de cierta área o sector de la 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* Protección contra virus.- Evita que la red se vea infestada por nuevos virus que sean liberad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F877-34A6-46EE-91F7-447C547AA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454640"/>
            <a:ext cx="77724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409C-5030-461C-B9A5-CDA5D870A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74320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45464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45464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74DA-BCDC-4439-8F07-9AA82CF32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74320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74320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45464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45464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45464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EFFF-6FB6-429D-BE35-B2EFCE319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299FC-75D2-4B5C-A164-08762748C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76C3B-1A34-417D-951D-FB2D79B39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167F4-3571-4503-8E54-089B808B4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3792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2743200"/>
            <a:ext cx="3792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E5AFD-F307-495B-8130-4E7F1FF45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0F43E-AA41-4E01-B2ED-54BC18594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666520" y="121932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02D96-BB00-444E-A42D-EED25111D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2743200"/>
            <a:ext cx="3792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45464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F13A1-0F63-4552-85E4-51EFAC808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7C7F-F7DA-4043-B86F-B2C8D68ED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3792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74320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45464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4F957-8419-4B7C-85CB-A1146C5D2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274320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454640"/>
            <a:ext cx="77724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A96AD-7E0C-4BBF-85FD-36349768F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454640"/>
            <a:ext cx="77724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4900C-A90C-4CA6-B5CB-4CC2F27F9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274320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45464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45464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8162C-5377-42B9-9458-2F2277801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274320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274320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45464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45464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45464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72CC9-2685-45BB-83AF-EFC63130C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29F3-ABBE-4DC2-A0C7-96B8C2EAF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3792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743200"/>
            <a:ext cx="3792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0C7C-B1C4-4C89-9197-1874C2DD9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D870-EAC3-4536-85E1-138ACCC9D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666520" y="121932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509C-B988-4953-9876-DB98BF29D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743200"/>
            <a:ext cx="3792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45464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8F3C-A726-4680-9BE1-7DD8F9577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3792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74320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45464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2AD3-D063-4E5D-A713-66DC1F83C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74320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454640"/>
            <a:ext cx="77724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47BA-75B4-44ED-A529-A88F5DD0A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de2c4"/>
                </a:solidFill>
                <a:latin typeface="Arial"/>
              </a:rPr>
              <a:t>Click to edit the title text format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e2c4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e2c4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lvl="2" marL="1028520" indent="-205560"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e2c4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lvl="3" marL="1440000" indent="-205560"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e2c4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lvl="4" marL="1851480" indent="-205560"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e2c4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lvl="5" marL="1851480" indent="-205560"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e2c4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lvl="6" marL="1851480" indent="-205560"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e2c4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fde2c4"/>
                </a:solidFill>
                <a:latin typeface="Times New Roman"/>
                <a:ea typeface="ヒラギノ角ゴ Pro W3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de2c4"/>
                </a:solidFill>
                <a:latin typeface="Times New Roman"/>
                <a:ea typeface="ヒラギノ角ゴ Pro W3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720" y="6248520"/>
            <a:ext cx="2743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fde2c4"/>
                </a:solidFill>
                <a:latin typeface="Times New Roman"/>
                <a:ea typeface="ヒラギノ角ゴ Pro W3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de2c4"/>
                </a:solidFill>
                <a:latin typeface="Times New Roman"/>
                <a:ea typeface="ヒラギノ角ゴ Pro W3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fde2c4"/>
                </a:solidFill>
                <a:latin typeface="Times New Roman"/>
                <a:ea typeface="ヒラギノ角ゴ Pro W3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1CACF-D151-4258-8521-6FD786DD2877}" type="slidenum">
              <a:rPr b="0" lang="es-ES_tradnl" sz="1400" spc="-1" strike="noStrike">
                <a:solidFill>
                  <a:srgbClr val="fde2c4"/>
                </a:solidFill>
                <a:latin typeface="Times New Roman"/>
                <a:ea typeface="ヒラギノ角ゴ Pro W3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42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de2c4"/>
                </a:solidFill>
                <a:latin typeface="Arial"/>
              </a:rPr>
              <a:t>Click to edit the title text format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de2c4"/>
                </a:solidFill>
                <a:latin typeface="Times New Roman"/>
                <a:ea typeface="ヒラギノ角ゴ Pro W3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de2c4"/>
                </a:solidFill>
                <a:latin typeface="Times New Roman"/>
                <a:ea typeface="ヒラギノ角ゴ Pro W3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276720" y="6248520"/>
            <a:ext cx="2743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de2c4"/>
                </a:solidFill>
                <a:latin typeface="Times New Roman"/>
                <a:ea typeface="ヒラギノ角ゴ Pro W3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de2c4"/>
                </a:solidFill>
                <a:latin typeface="Times New Roman"/>
                <a:ea typeface="ヒラギノ角ゴ Pro W3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de2c4"/>
                </a:solidFill>
                <a:latin typeface="Times New Roman"/>
                <a:ea typeface="ヒラギノ角ゴ Pro W3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2E324-159D-4181-AFDA-65130E30FE8E}" type="slidenum">
              <a:rPr b="0" lang="de-DE" sz="1400" spc="-1" strike="noStrike">
                <a:solidFill>
                  <a:srgbClr val="fde2c4"/>
                </a:solidFill>
                <a:latin typeface="Times New Roman"/>
                <a:ea typeface="ヒラギノ角ゴ Pro W3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e2c4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de2c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de2c4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de2c4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de2c4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de2c4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de2c4"/>
              </a:buClr>
              <a:buFont typeface="Time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de2c4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de2c4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de2c4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de2c4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de2c4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de2c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hyperlink" Target="http://www.facildehacer.com/domotica/domotica_casa_inteligente/?pagina=034_034" TargetMode="External"/><Relationship Id="rId4" Type="http://schemas.openxmlformats.org/officeDocument/2006/relationships/hyperlink" Target="http://www.physorg.com/news3505.html" TargetMode="External"/><Relationship Id="rId5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742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Protocolos de comunicación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4114440"/>
            <a:ext cx="6400800" cy="15238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e2c4"/>
                </a:solidFill>
                <a:latin typeface="Arial"/>
              </a:rPr>
              <a:t>Rodolfo Toledo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de2c4"/>
                </a:solidFill>
                <a:latin typeface="Arial"/>
              </a:rPr>
              <a:t>Cristián Céspedes</a:t>
            </a:r>
            <a:endParaRPr b="0" lang="en-US" sz="1800" spc="-1" strike="noStrike">
              <a:solidFill>
                <a:srgbClr val="fde2c4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de2c4"/>
                </a:solidFill>
                <a:latin typeface="Arial"/>
              </a:rPr>
              <a:t>Javier Villanueva</a:t>
            </a:r>
            <a:endParaRPr b="0" lang="en-US" sz="1800" spc="-1" strike="noStrike">
              <a:solidFill>
                <a:srgbClr val="fde2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IPv6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En teoría permite conectarse a 3.403 x 10</a:t>
            </a:r>
            <a:r>
              <a:rPr b="0" lang="es-ES_tradnl" sz="2400" spc="-1" strike="noStrike" baseline="30000">
                <a:solidFill>
                  <a:srgbClr val="fde2c4"/>
                </a:solidFill>
                <a:latin typeface="Arial"/>
              </a:rPr>
              <a:t>38</a:t>
            </a: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 computadores al mismo tiempo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Si la Tierra estuviera hecha sólo de granos de arena, IPv6 permitiría darle a cada grano, en 300 millones de planetas del tamaño de la Tierra, una dirección única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80720" y="1219320"/>
            <a:ext cx="68389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IPv6 vs IPv4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de2c4"/>
                </a:solidFill>
                <a:latin typeface="Arial"/>
              </a:rPr>
              <a:t>IPv6 no ha logrado reemplazar a IPv4 porque: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Requiere modificar las aplicaciones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Proxy y NAT (Network Address Translation) permiten compartir una dirección IP entre varios equipos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Protocolo TCP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de2c4"/>
                </a:solidFill>
                <a:latin typeface="Arial"/>
              </a:rPr>
              <a:t>Transmission Control Protocol 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Es uno de los protocolos principales de la suite TCP/IP (es el más utilizado de Internet)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Implementa la capa 4 del modelo OSI/ISO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Usando TCP los programas pueden establecer conexiones entre distintos computadores y enviar datos a través de esta conexión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TCP garantiza que los datos enviados serán recibidos en el mismo orden por el receptor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Protocolo TCP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de2c4"/>
                </a:solidFill>
                <a:latin typeface="Arial"/>
              </a:rPr>
              <a:t>Para enviar la información TCP crea “paquetes”: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635280" y="3573360"/>
            <a:ext cx="4537080" cy="24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Protocolo TCP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Sobre TCP se utilizan otros protocolos de transmisión, entre los cuales destacan: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HTTP: Protocolo de transmisión de páginas web.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FTP: Protocolo de transmisión de archivos.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SMTP: Protocolo para el envío de correo electrónico.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SSH: Protocolo para conectarse remotamente a un servidor UNIX/LINUX.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MSN: Protocolo utilizado para enviar mensajes a amigos.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Protocolo UDP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User Datagram Protocol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Junto con TCP, son los principales protocolos de la suite TCP/IP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A través del Protocolo UDP los programas pueden enviar mensajes cortos, que se les denomina “datagramas”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UDP no garantiza el orden ni la consistencia de los datos (a diferencia de TCP)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Debido a esto, es mucho más rápido y eficiente, pero poco confiable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UDP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de2c4"/>
                </a:solidFill>
                <a:latin typeface="Arial"/>
              </a:rPr>
              <a:t>Los datagramas son de la siguiente forma: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3443400" y="3429000"/>
            <a:ext cx="285732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UDP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de2c4"/>
                </a:solidFill>
                <a:latin typeface="Arial"/>
              </a:rPr>
              <a:t>Algunos protocolos y aplicaciones que utilizan UDP son: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de2c4"/>
                </a:solidFill>
                <a:latin typeface="Arial"/>
              </a:rPr>
              <a:t>DNS: Resuelve los dominios a direcciones IP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de2c4"/>
                </a:solidFill>
                <a:latin typeface="Arial"/>
              </a:rPr>
              <a:t>VoIP: Voice Over IP (clase pasada)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de2c4"/>
                </a:solidFill>
                <a:latin typeface="Arial"/>
              </a:rPr>
              <a:t>Streaming Media: cualquier aplicación que transmita video/audio por la red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de2c4"/>
                </a:solidFill>
                <a:latin typeface="Arial"/>
              </a:rPr>
              <a:t>Juegos Online: Quake2, Lineage, Unreal Tournament, etc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2742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de2c4"/>
                </a:solidFill>
                <a:latin typeface="Arial"/>
              </a:rPr>
              <a:t>Dispositivos de Red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4114440"/>
            <a:ext cx="6400800" cy="15238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e2c4"/>
                </a:solidFill>
                <a:latin typeface="Arial"/>
              </a:rPr>
              <a:t>Rodolfo Toledo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de2c4"/>
                </a:solidFill>
                <a:latin typeface="Arial"/>
              </a:rPr>
              <a:t>Cristián Céspedes</a:t>
            </a:r>
            <a:endParaRPr b="0" lang="en-US" sz="1800" spc="-1" strike="noStrike">
              <a:solidFill>
                <a:srgbClr val="fde2c4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de2c4"/>
                </a:solidFill>
                <a:latin typeface="Arial"/>
              </a:rPr>
              <a:t>Javier Villanueva</a:t>
            </a:r>
            <a:endParaRPr b="0" lang="en-US" sz="1800" spc="-1" strike="noStrike">
              <a:solidFill>
                <a:srgbClr val="fde2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666520" y="22860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de2c4"/>
                </a:solidFill>
                <a:latin typeface="Arial"/>
              </a:rPr>
              <a:t>¿Para qué? (BONUS)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914400" y="2819520"/>
            <a:ext cx="7365960" cy="17143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660680" y="5029200"/>
            <a:ext cx="656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BMW Assist and Bluetooth® wireless communication for hands-free mobile phone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41560" y="5943600"/>
            <a:ext cx="867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ffff99"/>
                </a:solidFill>
                <a:uFillTx/>
                <a:latin typeface="Arial"/>
                <a:hlinkClick r:id="rId3"/>
              </a:rPr>
              <a:t>http://www.facildehacer.com/domotica/domotica_casa_inteligente/?pagina=034_034</a:t>
            </a:r>
            <a:endParaRPr b="0" lang="en-US" sz="1800" spc="-1" strike="noStrike">
              <a:solidFill>
                <a:srgbClr val="fde2c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ffff99"/>
                </a:solidFill>
                <a:uFillTx/>
                <a:latin typeface="Arial"/>
                <a:hlinkClick r:id="rId4"/>
              </a:rPr>
              <a:t>http://www.physorg.com/news3505.html</a:t>
            </a:r>
            <a:endParaRPr b="0" lang="en-US" sz="1800" spc="-1" strike="noStrike">
              <a:solidFill>
                <a:srgbClr val="fde2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Internet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7814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Es una red de redes a escala mundial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Interconecta millones de computadores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Utiliza el protocolo IP (Internet Protocol) en conjunto con muchos otros más (TCP, UDP, HTTP, POP3, etc.)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A todo el conjunto de protocolos usados por Internet se les denomina la Suite TCP/IP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Esta suite implementa las capas sobre las cuales funciona Internet (clase pasada)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74284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Modem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2707920"/>
            <a:ext cx="7772400" cy="3745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Computadores procesan señales digitales, pero las líneas telefónicas son análogas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de2c4"/>
                </a:solidFill>
                <a:latin typeface="Arial"/>
              </a:rPr>
              <a:t>Modulador emite señal analógica constante (portadora).</a:t>
            </a:r>
            <a:endParaRPr b="0" lang="en-US" sz="2200" spc="-1" strike="noStrike">
              <a:solidFill>
                <a:srgbClr val="fde2c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de2c4"/>
                </a:solidFill>
                <a:latin typeface="Arial"/>
              </a:rPr>
              <a:t>Para transmitir datos digitales se modifica alguna característica de la señal portadora</a:t>
            </a:r>
            <a:endParaRPr b="0" lang="en-US" sz="2200" spc="-1" strike="noStrike">
              <a:solidFill>
                <a:srgbClr val="fde2c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de2c4"/>
                </a:solidFill>
                <a:latin typeface="Arial"/>
              </a:rPr>
              <a:t>Así se indica si se está transmitiendo 0 ó 1.</a:t>
            </a:r>
            <a:endParaRPr b="0" lang="en-US" sz="2200" spc="-1" strike="noStrike">
              <a:solidFill>
                <a:srgbClr val="fde2c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de2c4"/>
                </a:solidFill>
                <a:latin typeface="Arial"/>
              </a:rPr>
              <a:t>Demodulador interpreta los cambios en la portadora para reconstruir el flujo de datos digitales.</a:t>
            </a:r>
            <a:endParaRPr b="0" lang="en-US" sz="2200" spc="-1" strike="noStrike">
              <a:solidFill>
                <a:srgbClr val="fde2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Modem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2590560"/>
            <a:ext cx="7772400" cy="327636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83000"/>
          </a:bodyPr>
          <a:p>
            <a:pPr lvl="1" marL="616680" indent="-237240">
              <a:lnSpc>
                <a:spcPct val="90000"/>
              </a:lnSpc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V.32. Transmisión a 9.600 Kbps.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V.32bis. Transmisión a 14.400 kbps.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V.90. Transmisión a 56.600 kbps.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V.92. Mejora sobre V.90 con compresión de datos y llamada en espera.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lvl="4" marL="1707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de2c4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Módems DSL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Utilizan espectro situado encima de la banda vocal (300 - 3400 Hz) del cable telefónico.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Permiten alcanzar velocidades mucho mayores que un módem telefónico. 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Posibilidad de establecer comunicación telefónica por voz simultáneamente.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de2c4"/>
                </a:solidFill>
                <a:latin typeface="Arial"/>
              </a:rPr>
              <a:t>Tarjeta de Red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de2c4"/>
                </a:solidFill>
                <a:latin typeface="Arial"/>
              </a:rPr>
              <a:t>Permite la comunicación y el intercambio de información entre computadoras en Red.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de2c4"/>
                </a:solidFill>
                <a:latin typeface="Arial"/>
              </a:rPr>
              <a:t>Velocidad transmisión 10/100/1000 Mbps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de2c4"/>
                </a:solidFill>
                <a:latin typeface="Arial"/>
              </a:rPr>
              <a:t>Posee número de identificación único de 48 bits, en hexadecimal llamado MAC (Media Access Control address)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2742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de2c4"/>
                </a:solidFill>
                <a:latin typeface="Arial"/>
              </a:rPr>
              <a:t>ACTIVIDAD</a:t>
            </a:r>
            <a:br>
              <a:rPr sz="4000"/>
            </a:br>
            <a:r>
              <a:rPr b="0" i="1" lang="en-US" sz="4000" spc="-1" strike="noStrike">
                <a:solidFill>
                  <a:srgbClr val="fde2c4"/>
                </a:solidFill>
                <a:latin typeface="Arial"/>
              </a:rPr>
              <a:t>Cada uno de ustedes es una tarjeta de red.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Hub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e2c4"/>
                </a:solidFill>
                <a:latin typeface="Arial"/>
              </a:rPr>
              <a:t>Dispositivo que permite centralizar el cableado de una red.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e2c4"/>
                </a:solidFill>
                <a:latin typeface="Arial"/>
              </a:rPr>
              <a:t>Opera en la capa 1 OSI.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e2c4"/>
                </a:solidFill>
                <a:latin typeface="Arial"/>
              </a:rPr>
              <a:t>Repite cada paquete de datos en cada uno de los puertos.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e2c4"/>
                </a:solidFill>
                <a:latin typeface="Arial"/>
              </a:rPr>
              <a:t>Ancho de banda compartido.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e2c4"/>
                </a:solidFill>
                <a:latin typeface="Arial"/>
              </a:rPr>
              <a:t>Base de redes tipo estrella.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315200" y="4724280"/>
            <a:ext cx="1152360" cy="1079640"/>
          </a:xfrm>
          <a:prstGeom prst="rect">
            <a:avLst/>
          </a:prstGeom>
          <a:solidFill>
            <a:srgbClr val="ffffff"/>
          </a:solidFill>
          <a:ln w="316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de2c4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7391520" y="4800600"/>
            <a:ext cx="102852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480" y="2742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de2c4"/>
                </a:solidFill>
                <a:latin typeface="Arial"/>
              </a:rPr>
              <a:t>ACTIVIDAD</a:t>
            </a:r>
            <a:br>
              <a:rPr sz="4000"/>
            </a:br>
            <a:r>
              <a:rPr b="0" i="1" lang="en-US" sz="4000" spc="-1" strike="noStrike">
                <a:solidFill>
                  <a:srgbClr val="fde2c4"/>
                </a:solidFill>
                <a:latin typeface="Arial"/>
              </a:rPr>
              <a:t>Cada tarjeta de red envía al HUB un mensaje indicando destinatario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Switch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de2c4"/>
                </a:solidFill>
                <a:latin typeface="Arial"/>
              </a:rPr>
              <a:t>Un switch interconecta dos o más segmentos de red.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de2c4"/>
                </a:solidFill>
                <a:latin typeface="Arial"/>
              </a:rPr>
              <a:t>Opera en la capa 2 OSI.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de2c4"/>
                </a:solidFill>
                <a:latin typeface="Arial"/>
              </a:rPr>
              <a:t>Disminuye colisiones.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de2c4"/>
                </a:solidFill>
                <a:latin typeface="Arial"/>
              </a:rPr>
              <a:t>Retransmite solo al punto de destino.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124080" cy="27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480" y="2742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ACTIVIDAD</a:t>
            </a:r>
            <a:br>
              <a:rPr sz="4000"/>
            </a:b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Cada tarjeta envía mensaje al switch indicando destinatario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Router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de2c4"/>
                </a:solidFill>
                <a:latin typeface="Arial"/>
              </a:rPr>
              <a:t>Dispositivo hardware o software de interconexión de redes o computadores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de2c4"/>
                </a:solidFill>
                <a:latin typeface="Arial"/>
              </a:rPr>
              <a:t>Opera en la capa 3 OSI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de2c4"/>
                </a:solidFill>
                <a:latin typeface="Arial"/>
              </a:rPr>
              <a:t>Toma decisiones lógicas con respecto a la mejor ruta para el envío de datos en base a: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de2c4"/>
                </a:solidFill>
                <a:latin typeface="Arial"/>
              </a:rPr>
              <a:t>Dirección IP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de2c4"/>
                </a:solidFill>
                <a:latin typeface="Arial"/>
              </a:rPr>
              <a:t>Tráfico de red en sus interfaces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de2c4"/>
                </a:solidFill>
                <a:latin typeface="Arial"/>
              </a:rPr>
              <a:t>Velocidad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960480"/>
            <a:ext cx="9144000" cy="49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Protocolo IP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de2c4"/>
                </a:solidFill>
                <a:latin typeface="Arial"/>
              </a:rPr>
              <a:t>Estándar que define el modo en que los sistemas intercambian información en Internet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Provee Mecanismos para fragmentar y llevar la información desde un equipo a otro a través de la red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Equivale a la capa 3 del modelo OSI/ISO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Cada mensaje a enviar es dividido en “paquetes”, el cual contiene además la dirección de origen y destino (direcciones IP)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480" y="2742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ACTIVIDAD</a:t>
            </a:r>
            <a:br>
              <a:rPr sz="4000"/>
            </a:b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Hay dos zonas independientes. Conectamos un router y enviar mensajes a la otra zona.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Gateway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de2c4"/>
                </a:solidFill>
                <a:latin typeface="Arial"/>
              </a:rPr>
              <a:t>Permite a máquinas de una red local (LAN) acceso a una red exterior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de2c4"/>
                </a:solidFill>
                <a:latin typeface="Arial"/>
              </a:rPr>
              <a:t>Generalmente realiza operaciones de traducción de direcciones IP (NAT: Network Address Translation).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de2c4"/>
                </a:solidFill>
                <a:latin typeface="Arial"/>
              </a:rPr>
              <a:t>Ejemplo de puerta de enlace: 192.168.100.1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71476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2742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de2c4"/>
                </a:solidFill>
                <a:latin typeface="Arial"/>
              </a:rPr>
              <a:t>ACTIVIDAD</a:t>
            </a:r>
            <a:br>
              <a:rPr sz="4000"/>
            </a:br>
            <a:r>
              <a:rPr b="0" i="1" lang="en-US" sz="4000" spc="-1" strike="noStrike">
                <a:solidFill>
                  <a:srgbClr val="fde2c4"/>
                </a:solidFill>
                <a:latin typeface="Arial"/>
              </a:rPr>
              <a:t>Solo hay un acceso al exterior y por ahí debe enviar sus mensajes hacia allá.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de2c4"/>
                </a:solidFill>
                <a:latin typeface="Arial"/>
              </a:rPr>
              <a:t>Proxy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Programa o dispositivo que realiza una acción en representación de otro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Cuando un equipo de la red desea acceder a una información o recurso, es el proxy quien realiza la comunicación y a continuación traslada el resultado al equipo inicial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Porque no es posible la comunicación directa o  porque añade funcionalidad adicional (ej. cache)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09480" y="2742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ACTIVIDAD</a:t>
            </a:r>
            <a:br>
              <a:rPr sz="4000"/>
            </a:b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Debe solicitar al proxy que le consiga información.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Firewall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62120" y="3276360"/>
            <a:ext cx="7772400" cy="327636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de2c4"/>
                </a:solidFill>
                <a:latin typeface="Arial"/>
              </a:rPr>
              <a:t>Elemento de hardware o software.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de2c4"/>
                </a:solidFill>
                <a:latin typeface="Arial"/>
              </a:rPr>
              <a:t>Protege de intrusiones.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de2c4"/>
                </a:solidFill>
                <a:latin typeface="Arial"/>
              </a:rPr>
              <a:t>Protección de información privada.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de2c4"/>
                </a:solidFill>
                <a:latin typeface="Arial"/>
              </a:rPr>
              <a:t>Protección contra virus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de2c4"/>
                </a:solidFill>
                <a:latin typeface="Arial"/>
              </a:rPr>
              <a:t>DeMilitarized Zone: permite que servidores interiores provean servicios al exterior, mientras protege la red interior.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4762800" cy="29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480" y="2742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de2c4"/>
                </a:solidFill>
                <a:latin typeface="Arial"/>
              </a:rPr>
              <a:t>ACTIVIDAD</a:t>
            </a:r>
            <a:br>
              <a:rPr sz="4000"/>
            </a:br>
            <a:r>
              <a:rPr b="0" i="1" lang="en-US" sz="4000" spc="-1" strike="noStrike">
                <a:solidFill>
                  <a:srgbClr val="fde2c4"/>
                </a:solidFill>
                <a:latin typeface="Arial"/>
              </a:rPr>
              <a:t>Bloqueamos todo lo que se envía hacia uno de los destinatario.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Access Point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de2c4"/>
                </a:solidFill>
                <a:latin typeface="Arial"/>
              </a:rPr>
              <a:t>Dispositivo transmisor/receptor en una WLAN (Wireless Local Area Network).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de2c4"/>
                </a:solidFill>
                <a:latin typeface="Arial"/>
              </a:rPr>
              <a:t>Se conecta a la red alambrada desde un punto fijo utilizando un cable Ethernet.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de2c4"/>
                </a:solidFill>
                <a:latin typeface="Arial"/>
              </a:rPr>
              <a:t>Hasta 30 usuarios simultáneos.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de2c4"/>
                </a:solidFill>
                <a:latin typeface="Arial"/>
              </a:rPr>
              <a:t>Rango de 30 a 100 metros.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Protocolo IP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de2c4"/>
                </a:solidFill>
                <a:latin typeface="Arial"/>
              </a:rPr>
              <a:t>Paquete IP: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348000" y="2924280"/>
            <a:ext cx="5040360" cy="30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Direcciones IP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Identifica a un computador en forma única dentro de una Red (LAN, Internet, etc.)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Se compone de 4 bloques que van entre 0 y 255 separados por puntos. Ej.: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64.233.187.99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Para recordarlas se usan los llamados “dominios”. </a:t>
            </a:r>
            <a:r>
              <a:rPr b="0" lang="es-ES" sz="2000" spc="-1" strike="noStrike">
                <a:solidFill>
                  <a:srgbClr val="fde2c4"/>
                </a:solidFill>
                <a:latin typeface="Arial"/>
              </a:rPr>
              <a:t>Ej.:</a:t>
            </a: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  </a:t>
            </a: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www.google.cl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A través de DNS (Domain Name System) los dominios se transforman en direcciones IP: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www.google.cl = 64.233.187.99 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Direcciones IP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Hay rangos que no pueden usarse en Internet (son para uso privado):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10.0.0.0 </a:t>
            </a:r>
            <a:r>
              <a:rPr b="0" lang="es-ES_tradnl" sz="2400" spc="-1" strike="noStrike">
                <a:solidFill>
                  <a:srgbClr val="fde2c4"/>
                </a:solidFill>
                <a:latin typeface="Wingdings"/>
                <a:ea typeface="Wingdings"/>
              </a:rPr>
              <a:t></a:t>
            </a: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 10.255.255.255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172.16.0.0 </a:t>
            </a:r>
            <a:r>
              <a:rPr b="0" lang="es-ES_tradnl" sz="2400" spc="-1" strike="noStrike">
                <a:solidFill>
                  <a:srgbClr val="fde2c4"/>
                </a:solidFill>
                <a:latin typeface="Wingdings"/>
                <a:ea typeface="Wingdings"/>
              </a:rPr>
              <a:t></a:t>
            </a: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 172.31.0.0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192.168.0.0 </a:t>
            </a:r>
            <a:r>
              <a:rPr b="0" lang="es-ES_tradnl" sz="2400" spc="-1" strike="noStrike">
                <a:solidFill>
                  <a:srgbClr val="fde2c4"/>
                </a:solidFill>
                <a:latin typeface="Wingdings"/>
                <a:ea typeface="Wingdings"/>
              </a:rPr>
              <a:t></a:t>
            </a: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 192.168.255.0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Otros rangos están reservados (son experimentales):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de2c4"/>
                </a:solidFill>
                <a:latin typeface="Arial"/>
              </a:rPr>
              <a:t>224.0.0.0 </a:t>
            </a:r>
            <a:r>
              <a:rPr b="0" lang="es-ES" sz="2400" spc="-1" strike="noStrike">
                <a:solidFill>
                  <a:srgbClr val="fde2c4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fde2c4"/>
                </a:solidFill>
                <a:latin typeface="Arial"/>
              </a:rPr>
              <a:t> 254.0.0.0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Clases de Redes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de2c4"/>
                </a:solidFill>
                <a:latin typeface="Arial"/>
              </a:rPr>
              <a:t>IANA (Internet Assigned Number Authority) es una empresa que reparte las direcciones IP de Internet.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de2c4"/>
                </a:solidFill>
                <a:latin typeface="Arial"/>
              </a:rPr>
              <a:t>Existen 3 clases de direcciones IP que se pueden otorgar: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de2c4"/>
                </a:solidFill>
                <a:latin typeface="Arial"/>
              </a:rPr>
              <a:t>Clase A:</a:t>
            </a:r>
            <a:endParaRPr b="0" lang="en-US" sz="1800" spc="-1" strike="noStrike">
              <a:solidFill>
                <a:srgbClr val="fde2c4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de2c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de2c4"/>
                </a:solidFill>
                <a:latin typeface="Arial"/>
              </a:rPr>
              <a:t>desde 1.0.0.0 </a:t>
            </a:r>
            <a:r>
              <a:rPr b="0" lang="es-ES" sz="1600" spc="-1" strike="noStrike">
                <a:solidFill>
                  <a:srgbClr val="fde2c4"/>
                </a:solidFill>
                <a:latin typeface="Wingdings"/>
                <a:ea typeface="Wingdings"/>
              </a:rPr>
              <a:t></a:t>
            </a:r>
            <a:r>
              <a:rPr b="0" lang="es-ES" sz="1600" spc="-1" strike="noStrike">
                <a:solidFill>
                  <a:srgbClr val="fde2c4"/>
                </a:solidFill>
                <a:latin typeface="Arial"/>
              </a:rPr>
              <a:t> 127.0.0.0 </a:t>
            </a:r>
            <a:endParaRPr b="0" lang="en-US" sz="1600" spc="-1" strike="noStrike">
              <a:solidFill>
                <a:srgbClr val="fde2c4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de2c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de2c4"/>
                </a:solidFill>
                <a:latin typeface="Arial"/>
              </a:rPr>
              <a:t>1 sóla red, 1.6 millones hosts</a:t>
            </a:r>
            <a:endParaRPr b="0" lang="en-US" sz="1600" spc="-1" strike="noStrike">
              <a:solidFill>
                <a:srgbClr val="fde2c4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de2c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de2c4"/>
                </a:solidFill>
                <a:latin typeface="Arial"/>
              </a:rPr>
              <a:t>Se les otorga sólo a los gobiernos de todo el mundo.</a:t>
            </a:r>
            <a:endParaRPr b="0" lang="en-US" sz="1600" spc="-1" strike="noStrike">
              <a:solidFill>
                <a:srgbClr val="fde2c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de2c4"/>
                </a:solidFill>
                <a:latin typeface="Arial"/>
              </a:rPr>
              <a:t>Clase B:</a:t>
            </a:r>
            <a:endParaRPr b="0" lang="en-US" sz="1800" spc="-1" strike="noStrike">
              <a:solidFill>
                <a:srgbClr val="fde2c4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de2c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de2c4"/>
                </a:solidFill>
                <a:latin typeface="Arial"/>
              </a:rPr>
              <a:t>desde 128.0.0.0 </a:t>
            </a:r>
            <a:r>
              <a:rPr b="0" lang="es-ES" sz="1600" spc="-1" strike="noStrike">
                <a:solidFill>
                  <a:srgbClr val="fde2c4"/>
                </a:solidFill>
                <a:latin typeface="Wingdings"/>
                <a:ea typeface="Wingdings"/>
              </a:rPr>
              <a:t></a:t>
            </a:r>
            <a:r>
              <a:rPr b="0" lang="es-ES" sz="1600" spc="-1" strike="noStrike">
                <a:solidFill>
                  <a:srgbClr val="fde2c4"/>
                </a:solidFill>
                <a:latin typeface="Arial"/>
              </a:rPr>
              <a:t> 191.255.0.0</a:t>
            </a:r>
            <a:endParaRPr b="0" lang="en-US" sz="1600" spc="-1" strike="noStrike">
              <a:solidFill>
                <a:srgbClr val="fde2c4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de2c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de2c4"/>
                </a:solidFill>
                <a:latin typeface="Arial"/>
              </a:rPr>
              <a:t>16.320 redes, 65.024 hosts</a:t>
            </a:r>
            <a:endParaRPr b="0" lang="en-US" sz="1600" spc="-1" strike="noStrike">
              <a:solidFill>
                <a:srgbClr val="fde2c4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de2c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de2c4"/>
                </a:solidFill>
                <a:latin typeface="Arial"/>
              </a:rPr>
              <a:t>Se les otorga a las medianas empresas.</a:t>
            </a:r>
            <a:endParaRPr b="0" lang="en-US" sz="1600" spc="-1" strike="noStrike">
              <a:solidFill>
                <a:srgbClr val="fde2c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de2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Clases de Redes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de2c4"/>
                </a:solidFill>
                <a:latin typeface="Arial"/>
              </a:rPr>
              <a:t>Clase C: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de2c4"/>
                </a:solidFill>
                <a:latin typeface="Arial"/>
              </a:rPr>
              <a:t>192.0.0.0 -&gt; 223.255.255.0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de2c4"/>
                </a:solidFill>
                <a:latin typeface="Arial"/>
              </a:rPr>
              <a:t>2 millones de redes, 254 host 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Para el resto de los solicitantes.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de2c4"/>
                </a:solidFill>
                <a:latin typeface="Arial"/>
              </a:rPr>
              <a:t>Clase D, E y F: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de2c4"/>
                </a:solidFill>
                <a:latin typeface="Arial"/>
              </a:rPr>
              <a:t>224.0.0.0 </a:t>
            </a:r>
            <a:r>
              <a:rPr b="0" lang="es-ES" sz="2000" spc="-1" strike="noStrike">
                <a:solidFill>
                  <a:srgbClr val="fde2c4"/>
                </a:solidFill>
                <a:latin typeface="Wingdings"/>
                <a:ea typeface="Wingdings"/>
              </a:rPr>
              <a:t></a:t>
            </a:r>
            <a:r>
              <a:rPr b="0" lang="es-ES" sz="2000" spc="-1" strike="noStrike">
                <a:solidFill>
                  <a:srgbClr val="fde2c4"/>
                </a:solidFill>
                <a:latin typeface="Arial"/>
              </a:rPr>
              <a:t> 254.0.0.0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de2c4"/>
                </a:solidFill>
                <a:latin typeface="Arial"/>
              </a:rPr>
              <a:t>Sólo para uso experimental.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IPv6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Dado el gran crecimiento de Internet, se están acabando las direcciones IP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Por esto se creó una segunda versión de IP, llamada IPv6: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Las direcciones se escriben como 8 bloques de 4 dígitos hexadecimales que van desde 0000 hasta FFFF.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Ej: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de2c4"/>
                </a:solidFill>
                <a:latin typeface="Arial"/>
              </a:rPr>
              <a:t>2001:0123:0004:00ab:0cde:3403:0001:0063 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2001:123:4:ab:cde:3403:1:63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8T03:25:31Z</dcterms:created>
  <dc:creator>ccv</dc:creator>
  <dc:description/>
  <dc:language>en-US</dc:language>
  <cp:lastModifiedBy>Valeria Herskovic</cp:lastModifiedBy>
  <dcterms:modified xsi:type="dcterms:W3CDTF">2007-09-06T15:10:08Z</dcterms:modified>
  <cp:revision>13</cp:revision>
  <dc:subject/>
  <dc:title>Protocolos</dc:title>
</cp:coreProperties>
</file>