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ct" ContentType="image/x-pict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move the slide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4C2186B-E568-4656-93F0-B13A303C26A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pienso montar un P1 233 con 128 en ram y 7 gb DD (slackw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como servidor para unas 35 pcs, y queria q me dieran 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opinion de q es mejor si montar el proxy (SQUID) o montar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nat y por q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se por que preguntas si puedes montar uno O el otro, ya que no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cluy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 el PROXY puedes hacer caché, regular los dominios que se pueden 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 no y hasta regular el ancho de banda consumido por cada uno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lientes del demon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NAT es un servicio para traducir las IPs a una red lo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gún lo que quieres hacer ajuro vas a usar NAT, y eventualmente, 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quieres, puedes implementar el 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GRA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celente opción al escojer Slackware Linux como tu distro para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ateway. Te cuento que yo en 2 maquinas con las mismas caracteristicas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tuya tengo montado un Gateway/Proxy. Te recomiendo que hagas 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guien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. Que tu maquina tenga 2 tarjetas de red, la eth0 sea la que viene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et y la eth1 la que se comunique con la red inte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. Bajar SQUID Proxy para Slackware de LinuxPackages.net y configurarlo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u med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. Para hacer el NAT necesitas iptables (el slack lo trae). Creas 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rchivo llamado rc.firewall en /etc/rc.d/, le das permiso de ejec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chmod +x /etc/rc.d/rc.firewall). (Te lo adjunto con el correo, mosca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 muy basico, solo enmasc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4. Cierres los puertos y desactives lo daemon's que trae por defecto y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vas a necesi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AT: Network Address Translation es aquel que te permite que maquinas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gan IP no certificadas puedan salir a internet transparentemente 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una Sola IP si Certific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XY: Te ayuda para cachear paginas y para denegar algunos sitios we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n NAT tus maquinas no salen a Internet y sin Proxy (que no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bligatorio tenerlo) te puede ayudar a acelerar la conexion, ya que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uarda las webs y archivos en el HD. En LinuxParatodos.Net hay un ejemp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como montar el SQUID Proxy de forma Transpar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ge de intrusiones.- Solamente entran a la red las personas autorizadas basadas en la política de la red en base a las configur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Optimización de acceso.- Identifica los elementos de la red internos y optimiza que la comunicación entre ellos sea más directa si así se desea. Esto ayuda a reconfigurar rápida y fácilmente los parámetros de seguri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cción de información privada.- Permite el acceso solamente a quien tenga privilegios a la información de cierta área o sector de la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cción contra virus.- Evita que la red se vea infestada por nuevos virus que sean liber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C455-FBD1-4716-89C8-A63B980A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CBD1-CF17-4848-A250-F1D5C450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5A9D-A9F9-4965-AF7C-7CA5321C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23B4-B2F9-492B-ACE2-69B2D167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DF52-8D48-470E-B2E8-2FE0E4AD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B07B-27C9-4C49-97B2-141B3B2F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3E41-5609-49B1-BCF7-E07631C8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C53B-F7EC-446D-9A64-5427CEE3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C40B-19E5-439A-B37F-8C930FC6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6520" y="121932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1006-77A5-46BB-9A49-6CBF603A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5060-3888-403E-8E95-E4DBCBE1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2ED1-78D0-4CFB-BE16-E40BA1E3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2184-7AEF-4B87-9537-EE8B7240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240B-62A2-493D-A14E-E0015BA4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7E8C-53B5-4324-ADF8-69988AB9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98BE-525A-4192-9494-740C73BE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24E3-D9ED-475A-99D1-736E53C5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AD60-D494-4FAB-BD9C-C0FD8847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C0B9-1E0F-43D1-94B6-8A66DE0F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8600-36F7-48EC-9BC6-4B0624A9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6520" y="121932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C72E-4F1F-4E8B-9DCF-F54F741D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2BA1-75B4-4932-A9EF-E9CDF272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E595-7BE3-4484-861B-9C5AE80D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C11F-ECBF-4D81-8891-A8D4158A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2" marL="102852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3" marL="144000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4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5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6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72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233D-B620-4ADD-9D1B-C9EF2F20D814}" type="slidenum"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27672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945F-3513-4C9B-B395-B1599D05C4C7}" type="slidenum"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hyperlink" Target="http://www.facildehacer.com/domotica/domotica_casa_inteligente/?pagina=034_034" TargetMode="External"/><Relationship Id="rId4" Type="http://schemas.openxmlformats.org/officeDocument/2006/relationships/hyperlink" Target="http://www.physorg.com/news3505.html" TargetMode="External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s de comunicación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Rodolfo Toledo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Cristián Céspedes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Javier Villanueva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n teoría permite conectarse a 3.403 x 10</a:t>
            </a:r>
            <a:r>
              <a:rPr b="0" lang="es-ES_tradnl" sz="2400" spc="-1" strike="noStrike" baseline="30000">
                <a:solidFill>
                  <a:srgbClr val="fde2c4"/>
                </a:solidFill>
                <a:latin typeface="Arial"/>
              </a:rPr>
              <a:t>38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computadores al mismo tiemp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Si la Tierra estuviera hecha sólo de granos de arena, IPv6 permitiría darle a cada grano, en 300 millones de planetas del tamaño de la Tierra, una dirección única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0720" y="1219320"/>
            <a:ext cx="68389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 vs IPv4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IPv6 no ha logrado reemplazar a IPv4 porque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Requiere modificar las aplicacion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xy y NAT (Network Address Translation) permiten compartir una dirección IP entre varios equipos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Transmission Control Protocol 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 uno de los protocolos principales de la suite TCP/IP (es el más utilizado de Internet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Implementa la capa 4 del modelo OSI/IS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sando TCP los programas pueden establecer conexiones entre distintos computadores y enviar datos a través de esta conexión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TCP garantiza que los datos enviados serán recibidos en el mismo orden por el receptor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ara enviar la información TCP crea “paquetes”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635280" y="3573360"/>
            <a:ext cx="45370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Sobre TCP se utilizan otros protocolos de transmisión, entre los cuales destacan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HTTP: Protocolo de transmisión de páginas web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FTP: Protocolo de transmisión de archivo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MTP: Protocolo para el envío de correo electrónico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SH: Protocolo para conectarse remotamente a un servidor UNIX/LINUX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MSN: Protocolo utilizado para enviar mensajes a amigo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ser Datagram Protoco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Junto con TCP, son los principales protocolos de la suite TCP/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A través del Protocolo UDP los programas pueden enviar mensajes cortos, que se les denomina “datagramas”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DP no garantiza el orden ni la consistencia de los datos (a diferencia de TCP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Debido a esto, es mucho más rápido y eficiente, pero poco confiable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Los datagramas son de la siguiente forma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443400" y="3429000"/>
            <a:ext cx="28573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de2c4"/>
                </a:solidFill>
                <a:latin typeface="Arial"/>
              </a:rPr>
              <a:t>Algunos protocolos y aplicaciones que utilizan UDP son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DNS: Resuelve los dominios a direcciones 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VoIP: Voice Over IP (clase pasada)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Streaming Media: cualquier aplicación que transmita video/audio por la red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Juegos Online: Quake2, Lineage, Unreal Tournament, etc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Dispositivos de Red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Rodolfo Toledo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Cristián Céspedes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Javier Villanueva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¿Para qué? (BONUS)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14400" y="2819520"/>
            <a:ext cx="7365960" cy="171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60680" y="5029200"/>
            <a:ext cx="656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BMW Assist and Bluetooth® wireless communication for hands-free mobile phone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1560" y="5943600"/>
            <a:ext cx="86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99"/>
                </a:solidFill>
                <a:uFillTx/>
                <a:latin typeface="Arial"/>
                <a:hlinkClick r:id="rId3"/>
              </a:rPr>
              <a:t>http://www.facildehacer.com/domotica/domotica_casa_inteligente/?pagina=034_034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99"/>
                </a:solidFill>
                <a:uFillTx/>
                <a:latin typeface="Arial"/>
                <a:hlinkClick r:id="rId4"/>
              </a:rPr>
              <a:t>http://www.physorg.com/news3505.htm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nterne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781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 una red de redes a escala mundial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Interconecta millones de computador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tiliza el protocolo IP (Internet Protocol) en conjunto con muchos otros más (TCP, UDP, HTTP, POP3, etc.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A todo el conjunto de protocolos usados por Internet se les denomina la Suite TCP/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ta suite implementa las capas sobre las cuales funciona Internet (clase pasada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4284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Modem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707920"/>
            <a:ext cx="7772400" cy="3745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omputadores procesan señales digitales, pero las líneas telefónicas son análoga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de2c4"/>
                </a:solidFill>
                <a:latin typeface="Arial"/>
              </a:rPr>
              <a:t>Modulador emite señal analógica constante (portadora).</a:t>
            </a:r>
            <a:endParaRPr b="0" lang="en-US" sz="22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de2c4"/>
                </a:solidFill>
                <a:latin typeface="Arial"/>
              </a:rPr>
              <a:t>Para transmitir datos digitales se modifica alguna característica de la señal portadora</a:t>
            </a:r>
            <a:endParaRPr b="0" lang="en-US" sz="22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de2c4"/>
                </a:solidFill>
                <a:latin typeface="Arial"/>
              </a:rPr>
              <a:t>Así se indica si se está transmitiendo 0 ó 1.</a:t>
            </a:r>
            <a:endParaRPr b="0" lang="en-US" sz="22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de2c4"/>
                </a:solidFill>
                <a:latin typeface="Arial"/>
              </a:rPr>
              <a:t>Demodulador interpreta los cambios en la portadora para reconstruir el flujo de datos digitales.</a:t>
            </a:r>
            <a:endParaRPr b="0" lang="en-US" sz="22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Modem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3000"/>
          </a:bodyPr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32. Transmisión a 9.600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32bis. Transmisión a 14.400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90. Transmisión a 56.600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92. Mejora sobre V.90 con compresión de datos y llamada en espera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4" marL="170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Módems DS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Utilizan espectro situado encima de la banda vocal (300 - 3400 Hz) del cable telefónico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ermiten alcanzar velocidades mucho mayores que un módem telefónico.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osibilidad de establecer comunicación telefónica por voz simultáneamente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Tarjeta de Red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ermite la comunicación y el intercambio de información entre computadoras en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Velocidad transmisión 10/100/1000 Mbp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osee número de identificación único de 48 bits, en hexadecimal llamado MAC (Media Access Control address)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ACTIVIDAD</a:t>
            </a:r>
            <a:br>
              <a:rPr sz="4000"/>
            </a:b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ada uno de ustedes es una tarjeta de red.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Hub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Dispositivo que permite centralizar el cableado de una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Opera en la capa 1 OSI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Repite cada paquete de datos en cada uno de los puert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Ancho de banda compartido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Base de redes tipo estrella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4724280"/>
            <a:ext cx="1152360" cy="10796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391520" y="4800600"/>
            <a:ext cx="10285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ACTIVIDAD</a:t>
            </a:r>
            <a:br>
              <a:rPr sz="4000"/>
            </a:b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ada tarjeta de red envía al HUB un mensaje indicando destinatario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Switch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Un switch interconecta dos o más segmentos de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Opera en la capa 2 OSI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isminuye colisione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Retransmite solo al punto de destino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240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ACTIVIDAD</a:t>
            </a:r>
            <a:br>
              <a:rPr sz="4000"/>
            </a:b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Cada tarjeta envía mensaje al switch indicando destinatario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Router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Dispositivo hardware o software de interconexión de redes o computador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Opera en la capa 3 OSI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Toma decisiones lógicas con respecto a la mejor ruta para el envío de datos en base a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Dirección IP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Tráfico de red en sus interfaces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Velocidad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960480"/>
            <a:ext cx="91440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Estándar que define el modo en que los sistemas intercambian información en Internet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vee Mecanismos para fragmentar y llevar la información desde un equipo a otro a través de la red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quivale a la capa 3 del modelo OSI/IS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ada mensaje a enviar es dividido en “paquetes”, el cual contiene además la dirección de origen y destino (direcciones IP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ACTIVIDAD</a:t>
            </a:r>
            <a:br>
              <a:rPr sz="4000"/>
            </a:b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Hay dos zonas independientes. Conectamos un router y enviar mensajes a la otra zona.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Gateway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ermite a máquinas de una red local (LAN) acceso a una red exterior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Generalmente realiza operaciones de traducción de direcciones IP (NAT: Network Address Translation)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Ejemplo de puerta de enlace: 192.168.100.1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14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ACTIVIDAD</a:t>
            </a:r>
            <a:br>
              <a:rPr sz="4000"/>
            </a:b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Solo hay un acceso al exterior y por ahí debe enviar sus mensajes hacia allá.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Proxy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grama o dispositivo que realiza una acción en representación de otr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uando un equipo de la red desea acceder a una información o recurso, es el proxy quien realiza la comunicación y a continuación traslada el resultado al equipo inicial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orque no es posible la comunicación directa o  porque añade funcionalidad adicional (ej. cache)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ACTIVIDAD</a:t>
            </a:r>
            <a:br>
              <a:rPr sz="4000"/>
            </a:b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Debe solicitar al proxy que le consiga información.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Firewall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Elemento de hardware o software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ge de intrusione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cción de información privada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cción contra viru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eMilitarized Zone: permite que servidores interiores provean servicios al exterior, mientras protege la red interior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476280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ACTIVIDAD</a:t>
            </a:r>
            <a:br>
              <a:rPr sz="4000"/>
            </a:b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Bloqueamos todo lo que se envía hacia uno de los destinatario.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Access Poin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ispositivo transmisor/receptor en una WLAN (Wireless Local Area Network)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Se conecta a la red alambrada desde un punto fijo utilizando un cable Ethernet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Hasta 30 usuarios simultáne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Rango de 30 a 100 metr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aquete IP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348000" y="2924280"/>
            <a:ext cx="50403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Direcciones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Identifica a un computador en forma única dentro de una Red (LAN, Internet, etc.)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e compone de 4 bloques que van entre 0 y 255 separados por puntos. Ej.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64.233.187.99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ara recordarlas se usan los llamados “dominios”. 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Ej.: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www.google.cl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A través de DNS (Domain Name System) los dominios se transforman en direcciones IP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www.google.cl = 64.233.187.99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Direcciones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Hay rangos que no pueden usarse en Internet (son para uso privado)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0.0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0.255.255.255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72.16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72.31.0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92.168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92.168.255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Otros rangos están reservados (son experimentales)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224.0.0.0 </a:t>
            </a:r>
            <a:r>
              <a:rPr b="0" lang="es-ES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 254.0.0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Clases de Redes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IANA (Internet Assigned Number Authority) es una empresa que reparte las direcciones IP de Internet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Existen 3 clases de direcciones IP que se pueden otorgar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de2c4"/>
                </a:solidFill>
                <a:latin typeface="Arial"/>
              </a:rPr>
              <a:t>Clase A: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desde 1.0.0.0 </a:t>
            </a:r>
            <a:r>
              <a:rPr b="0" lang="es-ES" sz="16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 127.0.0.0 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1 sóla red, 1.6 millones hosts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de2c4"/>
                </a:solidFill>
                <a:latin typeface="Arial"/>
              </a:rPr>
              <a:t>Se les otorga sólo a los gobiernos de todo el mundo.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de2c4"/>
                </a:solidFill>
                <a:latin typeface="Arial"/>
              </a:rPr>
              <a:t>Clase B: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desde 128.0.0.0 </a:t>
            </a:r>
            <a:r>
              <a:rPr b="0" lang="es-ES" sz="16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 191.255.0.0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16.320 redes, 65.024 hosts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de2c4"/>
                </a:solidFill>
                <a:latin typeface="Arial"/>
              </a:rPr>
              <a:t>Se les otorga a las medianas empresas.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Clases de Redes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Clase C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192.0.0.0 -&gt; 223.255.255.0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 millones de redes, 254 host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ara el resto de los solicitante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Clase D, E y F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24.0.0.0 </a:t>
            </a:r>
            <a:r>
              <a:rPr b="0" lang="es-ES" sz="20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 254.0.0.0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Sólo para uso experimental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Dado el gran crecimiento de Internet, se están acabando las direcciones IP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or esto se creó una segunda versión de IP, llamada IPv6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Las direcciones se escriben como 8 bloques de 4 dígitos hexadecimales que van desde 0000 hasta FFFF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Ej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001:0123:0004:00ab:0cde:3403:0001:0063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2001:123:4:ab:cde:3403:1:63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3:25:31Z</dcterms:created>
  <dc:creator>ccv</dc:creator>
  <dc:description/>
  <dc:language>en-US</dc:language>
  <cp:lastModifiedBy>Valeria Herskovic</cp:lastModifiedBy>
  <dcterms:modified xsi:type="dcterms:W3CDTF">2007-09-06T15:10:08Z</dcterms:modified>
  <cp:revision>13</cp:revision>
  <dc:subject/>
  <dc:title>Protocolos</dc:title>
</cp:coreProperties>
</file>