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5B7-FE45-40ED-8A81-B5FE5858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9F3-4BDF-4697-9F28-B8A1C8F3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131-E2E9-47D2-8A60-266E903F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2A1-FA5C-4541-BA86-7D00964E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90B-32A5-45E7-B32B-E98C79B1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894D-5727-43AE-8708-79BF493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031-3B5F-48A1-A214-0219672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2880-871A-448E-B878-D713A6B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2227-0441-4395-A4DC-1A931D6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DD8-E1FD-40D9-9275-803AA0FE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DBC1-6545-43FA-84C9-DAB646A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085-F3BC-455C-A8C5-76197D5F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7B83-5D21-442A-8FCC-6F0E906F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E9A-7A60-4F68-89E7-065966B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777-8757-44F2-916D-BAF1FF3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8EFE-0BED-4F42-8F07-C19DAAEE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F208-F660-4338-9013-12AC4A1B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834-6734-4076-BAC1-6A1327F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66C-A7A0-416C-98D3-0F0C29E2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761-8AA6-44C8-8486-F1A8FC9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707-4881-472F-9FED-566A6F89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9D9-6BF7-4676-BDC2-F28AFA5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7FD-4190-472D-91F2-DB0CE43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B46-F44B-43E0-81DA-1313B49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82E0-B0A9-41D6-8F47-0A0BCC459DF6}" type="datetime">
              <a:rPr b="0" lang="es-ES" sz="1400" spc="-1" strike="noStrike">
                <a:solidFill>
                  <a:srgbClr val="ff99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88E6-15E8-4E34-B2DD-66158BECCCFE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8560" y="1798560"/>
            <a:ext cx="7377120" cy="0"/>
          </a:xfrm>
          <a:prstGeom prst="line">
            <a:avLst/>
          </a:prstGeom>
          <a:ln cap="sq"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C4B0-FF26-4679-A3AA-6D1BA265E32A}" type="datetime">
              <a:rPr b="0" lang="es-ES" sz="1400" spc="-1" strike="noStrike">
                <a:solidFill>
                  <a:srgbClr val="ff99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35FA-9090-4402-942F-5B7985EE2ADC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 Narrow"/>
              </a:rPr>
              <a:t>Disponibilidad de alimento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334120"/>
            <a:ext cx="60958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duardo Atalah 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epartamento de Nutrició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atalah@med.uchile.cl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11034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1044360" cy="16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4268-6BF5-40F3-9FA8-CD686A0F7D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ff"/>
                </a:solidFill>
                <a:latin typeface="Arial"/>
              </a:rPr>
              <a:t>Cambios en el consumo aparente de alimentos per cápita 1995- 2005 (%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447920"/>
          <a:ext cx="914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3520" y="5334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ereales      Azúcar        Verduras     Carne         Leche         Huevo</a:t>
            </a: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6095880"/>
            <a:ext cx="6934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Fuente: Hojas de balance, FAO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1995 =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FE5-C72E-413C-A92C-7A814F97AC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644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Cambios en el consumo aparente de nutrientes per cápita 1993 - 2003 (%)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05120"/>
          <a:ext cx="8178840" cy="42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6934320" cy="5630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Fuente: Hojas de balance, FAO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0FA-C94B-44A5-AE69-CEB91CB64E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ff"/>
                </a:solidFill>
                <a:latin typeface="Arial"/>
              </a:rPr>
              <a:t>Consumo promedio per cápita día 2005 (gramos/persona/día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066680" y="6095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Fuente: Hojas de balance, FAO, 2007</a:t>
            </a: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108-3308-4185-96F1-E0049A3EEF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233280"/>
            <a:ext cx="8816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Que otras fuentes de información existen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4" name="mar" descr=""/>
          <p:cNvPicPr/>
          <p:nvPr/>
        </p:nvPicPr>
        <p:blipFill>
          <a:blip r:embed="rId1"/>
          <a:stretch/>
        </p:blipFill>
        <p:spPr>
          <a:xfrm>
            <a:off x="2819520" y="2185920"/>
            <a:ext cx="44956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93D-A221-42F1-8D5D-C9D3A48F7F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817560"/>
            <a:ext cx="8381880" cy="542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0400" y="6324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Times New Roman"/>
              </a:rPr>
              <a:t>www.ine.c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87F-4644-4EA6-8F5F-58D3B1D445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200" y="1619280"/>
            <a:ext cx="8929800" cy="36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6CE-122B-415B-94B2-829333D2A6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6554520" cy="41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982-46AB-4C64-9730-3B5A25F58A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2000" y="233280"/>
            <a:ext cx="8816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Alguna otra fuente de información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0" name="sep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3962520" cy="29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6CB-8E75-4496-9A15-414EB98FC2B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685800"/>
            <a:ext cx="8064720" cy="582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6400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152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Monotype Corsiva"/>
              </a:rPr>
              <a:t>¿ Los pecados de la carne 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84C-7D8B-400E-8554-38A79071BD2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76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onsumo promedio de bebidas gaseosas el primer </a:t>
            </a:r>
            <a:br>
              <a:rPr sz="2800"/>
            </a:b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semestre de cada año 1999-2006 (ml/persona/día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1120" y="1676520"/>
          <a:ext cx="900288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676520"/>
                    <a:ext cx="90028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E51-3F20-4752-8562-9133618288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¿Que indicadores se pueden utilizar para evaluar el estado nutricional?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3" name="jul" descr=""/>
          <p:cNvPicPr/>
          <p:nvPr/>
        </p:nvPicPr>
        <p:blipFill>
          <a:blip r:embed="rId1"/>
          <a:stretch/>
        </p:blipFill>
        <p:spPr>
          <a:xfrm>
            <a:off x="3276720" y="2722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8558-6E3D-44C3-98B0-F6AD65B673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533520"/>
          <a:ext cx="85914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33520"/>
                    <a:ext cx="8591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23880" y="64771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Fuente: El Mercurio, marzo 2007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ff"/>
                </a:solidFill>
                <a:latin typeface="Arial"/>
              </a:rPr>
              <a:t>Consumo de líquidos en </a:t>
            </a:r>
            <a:br>
              <a:rPr sz="3600"/>
            </a:br>
            <a:r>
              <a:rPr b="1" lang="es-ES" sz="3600" spc="-1" strike="noStrike">
                <a:solidFill>
                  <a:srgbClr val="3366ff"/>
                </a:solidFill>
                <a:latin typeface="Arial"/>
              </a:rPr>
              <a:t>Chile 2006</a:t>
            </a:r>
            <a:r>
              <a:rPr b="1" lang="es-ES" sz="5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004-6E7E-4D49-B7CF-0B151842295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533520"/>
            <a:ext cx="7925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Times New Roman"/>
              </a:rPr>
              <a:t>Años de vida saludables perdidos atribuibles al déficit de energía (%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9622" r="0" b="0"/>
          <a:stretch/>
        </p:blipFill>
        <p:spPr>
          <a:xfrm>
            <a:off x="228600" y="2286000"/>
            <a:ext cx="855648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3DD-C64E-407E-9608-A0E0243513E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42040" cy="4419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75240" y="5484960"/>
            <a:ext cx="1296720" cy="141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533520"/>
            <a:ext cx="7925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Times New Roman"/>
              </a:rPr>
              <a:t>Años de vida saludables perdidos atribuibles al exceso de energía (%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6A5-2D66-4AF2-8AD4-EF9FDCC6EC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38480" y="4038480"/>
            <a:ext cx="3657600" cy="2452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14800" y="1676520"/>
            <a:ext cx="3581280" cy="238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3505320" cy="2398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19520" y="6094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¡¡ </a:t>
            </a:r>
            <a:r>
              <a:rPr b="1" lang="es-ES_tradnl" sz="4800" spc="-1" strike="noStrike">
                <a:solidFill>
                  <a:srgbClr val="003399"/>
                </a:solidFill>
                <a:latin typeface="Times New Roman"/>
              </a:rPr>
              <a:t>Gracias !!!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1079640" cy="1752480"/>
          </a:xfrm>
          <a:prstGeom prst="rect">
            <a:avLst/>
          </a:prstGeom>
          <a:ln w="0">
            <a:noFill/>
          </a:ln>
        </p:spPr>
      </p:pic>
      <p:pic>
        <p:nvPicPr>
          <p:cNvPr id="152" name="Logodenut" descr=""/>
          <p:cNvPicPr/>
          <p:nvPr/>
        </p:nvPicPr>
        <p:blipFill>
          <a:blip r:embed="rId6"/>
          <a:stretch/>
        </p:blipFill>
        <p:spPr>
          <a:xfrm>
            <a:off x="838080" y="7621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525-1208-437B-947C-5BB2CB414A91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Indicadores directos para evaluar 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el estado nutricional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828800"/>
            <a:ext cx="830556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Antropométr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Encuestas alimentarias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Bioquím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Signos clín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AAAF-258E-447E-BE01-551C1CED50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Indicadores indirectos para evaluar 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el estado nutricional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828800"/>
            <a:ext cx="830556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Variables socioeconómico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9999"/>
                </a:solidFill>
                <a:latin typeface="Arial"/>
              </a:rPr>
              <a:t>Disponibilidad de aliment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Tasas o estructura de la mortalida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4F0-79F1-474C-ADFE-B2D5E3C71A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2000" y="233280"/>
            <a:ext cx="8816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Que fuentes de información se pueden usar para conocer la disponibilidad de alimentos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oct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886200" cy="34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393-3701-49A9-A39F-CB2BE6DF21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9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Hojas de balance o disponibilidad de alimentos (FAO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057400"/>
            <a:ext cx="83055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Hojas de balance o consumo aparent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Calculo = (producción nacional + importaciones - exportaciones - consumo animal - semillas - uso no alimentario)/ població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Se calcula en Kg de alimentos/persona/año o en nutriente/persona/dí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Se obtiene un valor promed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No permite conocer diferencias en el consumo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117-975D-43FB-A16E-C4C4B40C65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4440" cy="543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1280" y="6324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Times New Roman"/>
              </a:rPr>
              <a:t>www.fao.or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009-C2C9-422B-8860-79D3640748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477720"/>
            <a:ext cx="7467480" cy="57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602-D660-40CA-B8BB-7935E483D3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4600" y="374760"/>
            <a:ext cx="8254800" cy="61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247-8890-44E8-A0F4-3BD495CCA3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8:16:15Z</dcterms:created>
  <dc:creator>yo</dc:creator>
  <dc:description/>
  <dc:language>en-US</dc:language>
  <cp:lastModifiedBy>Fac. de Medicina</cp:lastModifiedBy>
  <cp:lastPrinted>2003-05-16T20:59:28Z</cp:lastPrinted>
  <dcterms:modified xsi:type="dcterms:W3CDTF">2007-08-07T19:37:04Z</dcterms:modified>
  <cp:revision>407</cp:revision>
  <dc:subject/>
  <dc:title>General</dc:title>
</cp:coreProperties>
</file>