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6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C63-1CC3-469F-A702-008B5BE6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BAF-61E3-4857-8455-640D71A4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0A8-65FB-493D-AE36-85A48DA3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D20-1FC7-441A-A50E-A3144F66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3B93-EE0F-4CB9-BE93-50C6D075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E2EC-5BA3-4F4B-912B-C13DC505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7732-FC9F-454E-A834-C46D34DB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9ABC-28BC-4921-86BC-7BF8CEC2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B717-A74A-43E8-A306-73E88A37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C378-FE50-427E-B057-15F341F1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1BC4-CECD-497B-B744-D70EF2BF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6E0-8DCE-419D-A0BA-6017F549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30C5-BD84-43C5-823E-E4860F1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3AC-5B6F-48A1-8721-06DA2FF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B39B-067F-4A03-9764-C78831A5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3465-77C9-45BB-AC32-2FA52400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E59B-FD9E-4B40-AE52-9332E943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3DA-752E-4E43-B932-8C7115D8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E91-A2F3-4D74-A374-E43D44A4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78D-48F1-493B-9434-D648BB33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014-162D-4AC5-AA31-6BFDDD3E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FF3-B672-4069-90B0-AB79454B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52A-8677-467C-BA71-8A46B325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32D-3A68-4171-B6E8-9EDEA8C6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0496-C6A8-4C2D-9FDE-CAE7FB8A4B0E}" type="datetime">
              <a:rPr b="0" lang="es-ES" sz="1400" spc="-1" strike="noStrike">
                <a:solidFill>
                  <a:srgbClr val="ff9966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36EB-4C7D-4278-AF6E-CBBFF2F33B5A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8560" y="1798560"/>
            <a:ext cx="7377120" cy="0"/>
          </a:xfrm>
          <a:prstGeom prst="line">
            <a:avLst/>
          </a:prstGeom>
          <a:ln cap="sq"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F309-6988-4A56-A780-EA63ABCBCA54}" type="datetime">
              <a:rPr b="0" lang="es-ES" sz="1400" spc="-1" strike="noStrike">
                <a:solidFill>
                  <a:srgbClr val="ff9966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ED5C-BD8B-49D2-9E36-BBDA92A4E729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6699"/>
                </a:solidFill>
                <a:latin typeface="Arial Narrow"/>
              </a:rPr>
              <a:t>Disponibilidad de alimento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5334120"/>
            <a:ext cx="60958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duardo Atalah 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Departamento de Nutrició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atalah@med.uchile.cl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11034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2759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1044360" cy="167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6547-E6D9-4622-8D30-E78E72B3A62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ff"/>
                </a:solidFill>
                <a:latin typeface="Arial"/>
              </a:rPr>
              <a:t>Cambios en el consumo aparente de alimentos per cápita 1995- 2005 (%)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447920"/>
          <a:ext cx="914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33520" y="53341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Cereales      Azúcar        Verduras     Carne         Leche         Huevo</a:t>
            </a: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6095880"/>
            <a:ext cx="6934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Fuente: Hojas de balance, FAO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2514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1995 = 100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F1F-D3A7-4DD8-9E15-CDEF09F91D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0644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Cambios en el consumo aparente de nutrientes per cápita 1993 - 2003 (%)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05120"/>
          <a:ext cx="8178840" cy="42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178840" cy="42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066680" y="5943600"/>
            <a:ext cx="6934320" cy="5630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Fuente: Hojas de balance, FAO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39F-A04B-4665-A852-35B8556E89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ff"/>
                </a:solidFill>
                <a:latin typeface="Arial"/>
              </a:rPr>
              <a:t>Consumo promedio per cápita día 2005 (gramos/persona/día)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066680" y="60958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Fuente: Hojas de balance, FAO, 2007</a:t>
            </a: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259-0A8F-46A2-9666-92F44450295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2000" y="233280"/>
            <a:ext cx="8816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 Narrow"/>
              </a:rPr>
              <a:t>¿Que otras fuentes de información existen?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4" name="mar" descr=""/>
          <p:cNvPicPr/>
          <p:nvPr/>
        </p:nvPicPr>
        <p:blipFill>
          <a:blip r:embed="rId1"/>
          <a:stretch/>
        </p:blipFill>
        <p:spPr>
          <a:xfrm>
            <a:off x="2819520" y="2185920"/>
            <a:ext cx="449568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D83-91A5-4394-A311-F279D7757DA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817560"/>
            <a:ext cx="8381880" cy="5427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00400" y="6324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Times New Roman"/>
              </a:rPr>
              <a:t>www.ine.c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26D-A45D-4B86-8866-50D43B2EE36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200" y="1619280"/>
            <a:ext cx="8929800" cy="36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AB1-9329-45CF-A6F1-970B464538F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6554520" cy="415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337-0C26-4666-933A-75B9F50876B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2000" y="233280"/>
            <a:ext cx="8816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 Narrow"/>
              </a:rPr>
              <a:t>¿Alguna otra fuente de información?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0" name="sep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3962520" cy="29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31E-6DFC-4BB0-BEFA-129F720FA7E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685800"/>
            <a:ext cx="8064720" cy="5821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43000" y="6400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152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Monotype Corsiva"/>
              </a:rPr>
              <a:t>¿ Los pecados de la carne ?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618-53A7-4BDA-8EAD-C5C0FF0B5D8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76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Consumo promedio de bebidas gaseosas el primer </a:t>
            </a:r>
            <a:br>
              <a:rPr sz="2800"/>
            </a:b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semestre de cada año 1999-2006 (ml/persona/día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1120" y="1676520"/>
          <a:ext cx="9002880" cy="46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676520"/>
                    <a:ext cx="900288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D3B-4026-4DDA-B652-D8293FE25C7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14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¿Que indicadores se pueden utilizar para evaluar el estado nutricional?</a:t>
            </a:r>
            <a:r>
              <a:rPr b="1" lang="es-ES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3" name="jul" descr=""/>
          <p:cNvPicPr/>
          <p:nvPr/>
        </p:nvPicPr>
        <p:blipFill>
          <a:blip r:embed="rId1"/>
          <a:stretch/>
        </p:blipFill>
        <p:spPr>
          <a:xfrm>
            <a:off x="3276720" y="2722680"/>
            <a:ext cx="3429000" cy="27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77B1-C5C6-4583-B32C-AA6EF2C546D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24000" y="533520"/>
          <a:ext cx="8591400" cy="57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33520"/>
                    <a:ext cx="85914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523880" y="64771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Fuente: El Mercurio, marzo 2007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ff"/>
                </a:solidFill>
                <a:latin typeface="Arial"/>
              </a:rPr>
              <a:t>Consumo de líquidos en </a:t>
            </a:r>
            <a:br>
              <a:rPr sz="3600"/>
            </a:br>
            <a:r>
              <a:rPr b="1" lang="es-ES" sz="3600" spc="-1" strike="noStrike">
                <a:solidFill>
                  <a:srgbClr val="3366ff"/>
                </a:solidFill>
                <a:latin typeface="Arial"/>
              </a:rPr>
              <a:t>Chile 2006</a:t>
            </a:r>
            <a:r>
              <a:rPr b="1" lang="es-ES" sz="5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E2E-253D-4555-ADF7-D4B30634E99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66680" y="533520"/>
            <a:ext cx="7925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  <a:ea typeface="Times New Roman"/>
              </a:rPr>
              <a:t>Años de vida saludables perdidos atribuibles al déficit de energía (%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9622" r="0" b="0"/>
          <a:stretch/>
        </p:blipFill>
        <p:spPr>
          <a:xfrm>
            <a:off x="228600" y="2286000"/>
            <a:ext cx="855648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FD0-53DA-415F-878F-262F216559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42040" cy="4419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75240" y="5484960"/>
            <a:ext cx="1296720" cy="141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533520"/>
            <a:ext cx="7925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  <a:ea typeface="Times New Roman"/>
              </a:rPr>
              <a:t>Años de vida saludables perdidos atribuibles al exceso de energía (%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EE3-59C0-4755-9F3F-517E321B255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038480" y="4038480"/>
            <a:ext cx="3657600" cy="2452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14800" y="1676520"/>
            <a:ext cx="3581280" cy="2382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85800" y="4114800"/>
            <a:ext cx="3505320" cy="2398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819520" y="6094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¡¡ </a:t>
            </a:r>
            <a:r>
              <a:rPr b="1" lang="es-ES_tradnl" sz="4800" spc="-1" strike="noStrike">
                <a:solidFill>
                  <a:srgbClr val="003399"/>
                </a:solidFill>
                <a:latin typeface="Times New Roman"/>
              </a:rPr>
              <a:t>Gracias !!!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7772400" y="4800600"/>
            <a:ext cx="1079640" cy="1752480"/>
          </a:xfrm>
          <a:prstGeom prst="rect">
            <a:avLst/>
          </a:prstGeom>
          <a:ln w="0">
            <a:noFill/>
          </a:ln>
        </p:spPr>
      </p:pic>
      <p:pic>
        <p:nvPicPr>
          <p:cNvPr id="152" name="Logodenut" descr=""/>
          <p:cNvPicPr/>
          <p:nvPr/>
        </p:nvPicPr>
        <p:blipFill>
          <a:blip r:embed="rId6"/>
          <a:stretch/>
        </p:blipFill>
        <p:spPr>
          <a:xfrm>
            <a:off x="838080" y="762120"/>
            <a:ext cx="1148040" cy="144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A8B-0916-4A3F-9FD8-492D61563BD0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14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Indicadores directos para evaluar </a:t>
            </a:r>
            <a:br>
              <a:rPr sz="4400"/>
            </a:b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el estado nutricional</a:t>
            </a:r>
            <a:r>
              <a:rPr b="1" lang="es-ES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828800"/>
            <a:ext cx="830556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Antropométricos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Encuestas alimentarias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Bioquímicos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Signos clínicos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22C6-222E-4E9E-909B-2F9B97EE3A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14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Indicadores indirectos para evaluar </a:t>
            </a:r>
            <a:br>
              <a:rPr sz="4400"/>
            </a:b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el estado nutricional</a:t>
            </a:r>
            <a:r>
              <a:rPr b="1" lang="es-ES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828800"/>
            <a:ext cx="8305560" cy="27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Variables socioeconómico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9999"/>
                </a:solidFill>
                <a:latin typeface="Arial"/>
              </a:rPr>
              <a:t>Disponibilidad de alimento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Tasas o estructura de la mortalida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49DB-FC3F-44DB-8D15-D2B0FDE84E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2000" y="233280"/>
            <a:ext cx="88167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 Narrow"/>
              </a:rPr>
              <a:t>¿Que fuentes de información se pueden usar para conocer la disponibilidad de alimentos?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1" name="oct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886200" cy="34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7DA-0893-4494-972E-CCAA55E853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9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Hojas de balance o disponibilidad de alimentos (FAO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057400"/>
            <a:ext cx="83055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Hojas de balance o consumo aparent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Calculo = (producción nacional + importaciones - exportaciones - consumo animal - semillas - uso no alimentario)/ població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Se calcula en Kg de alimentos/persona/año o en nutriente/persona/día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Se obtiene un valor promedi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No permite conocer diferencias en el consumo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4590-5D0E-4ACD-AC49-94FF5AA71E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704440" cy="5430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81280" y="6324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Times New Roman"/>
              </a:rPr>
              <a:t>www.fao.org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CE6-A1EA-4781-AA28-8578983D75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477720"/>
            <a:ext cx="7467480" cy="578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C8C-EF15-4ADB-A87F-228E3BA86E0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4600" y="374760"/>
            <a:ext cx="8254800" cy="611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3B4-7013-4446-AA7A-485A7BC5E7D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8:16:15Z</dcterms:created>
  <dc:creator>yo</dc:creator>
  <dc:description/>
  <dc:language>en-US</dc:language>
  <cp:lastModifiedBy>Fac. de Medicina</cp:lastModifiedBy>
  <cp:lastPrinted>2003-05-16T20:59:28Z</cp:lastPrinted>
  <dcterms:modified xsi:type="dcterms:W3CDTF">2007-08-07T19:37:04Z</dcterms:modified>
  <cp:revision>407</cp:revision>
  <dc:subject/>
  <dc:title>General</dc:title>
</cp:coreProperties>
</file>