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8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7.png" ContentType="image/png"/>
  <Override PartName="/ppt/media/image6.wmf" ContentType="image/x-wmf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png" ContentType="image/png"/>
  <Override PartName="/ppt/media/image14.wmf" ContentType="image/x-wmf"/>
  <Override PartName="/ppt/media/image18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FE68-CB49-4A3B-AF9D-36C9C0679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5D07-E363-45B5-B620-CF4D30D7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BA02-2029-431A-84CF-4FD8D0F37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54B1-77B7-44C3-ACB6-48C05F267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702D-6534-4D2C-85C1-FE6A3D01A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895B-29DA-41E3-A181-0986DC40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671B-5DAE-49B9-9306-0A4060E9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3D65-E620-431C-AF7C-68B77B75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CC2D-8E5E-469F-BDFC-782F6F40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4C01-4445-4515-99EE-7F211C58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47C2-BE66-424F-B8DB-DB55B8A8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6311-91A1-4268-AE3D-2F9FC784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2C0D-D3AA-4CFB-9243-43C9C471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1CAA-ECE2-4E66-9D1B-D58C2A36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C118-4AF2-4A26-823F-9A921C80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33B4-DDB3-4FF8-AE6A-022B0A0B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45FA-E78F-4F05-8284-D0C0C7EBF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2A16-2AD4-49EF-AF31-DCB02C50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D336-69CD-4B06-BEF1-992E01E8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58BB-5657-4EF7-9444-09FC3D03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BC1E-84C6-4D14-8919-4E366A5E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BB02-CEED-494C-B709-68E5E0B2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3981-B8C2-43DE-97EA-535D185C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F1C0-C1C3-4324-BC31-55F13CE6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7A1C-BB75-442D-92B6-E182DDAFC168}" type="datetime">
              <a:rPr b="0" lang="es-ES" sz="1400" spc="-1" strike="noStrike">
                <a:solidFill>
                  <a:srgbClr val="ff9966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F818-F8E1-4CE1-8C97-100FA76D8D9C}" type="slidenum">
              <a:rPr b="0" lang="es-E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98560" y="1798560"/>
            <a:ext cx="7377120" cy="0"/>
          </a:xfrm>
          <a:prstGeom prst="line">
            <a:avLst/>
          </a:prstGeom>
          <a:ln cap="sq"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B973-4466-433D-B4CF-16BA51EB8338}" type="datetime">
              <a:rPr b="0" lang="es-ES" sz="1400" spc="-1" strike="noStrike">
                <a:solidFill>
                  <a:srgbClr val="ff9966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E700-7835-431C-9C58-DF3518B6D25F}" type="slidenum">
              <a:rPr b="0" lang="es-E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1.pn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640" y="232920"/>
            <a:ext cx="881676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6699"/>
                </a:solidFill>
                <a:latin typeface="Arial Narrow"/>
              </a:rPr>
              <a:t>Disponibilidad de alimentos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"/>
          <p:cNvSpPr/>
          <p:nvPr/>
        </p:nvSpPr>
        <p:spPr>
          <a:xfrm>
            <a:off x="6481800" y="5307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5334120"/>
            <a:ext cx="609588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Eduardo Atalah S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Departamento de Nutrición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eatalah@med.uchile.cl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1103400" cy="2286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276720" y="2286000"/>
            <a:ext cx="4114800" cy="2759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33520" y="3886200"/>
            <a:ext cx="1044360" cy="1676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DB7D-1986-4424-A57B-A9BB1866D9C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ff"/>
                </a:solidFill>
                <a:latin typeface="Arial"/>
              </a:rPr>
              <a:t>Cambios en el consumo aparente de alimentos per cápita 1995- 2005 (%)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1447920"/>
          <a:ext cx="9144000" cy="419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144000" cy="41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533520" y="533412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Cereales      Azúcar        Verduras     Carne         Leche         Huevo</a:t>
            </a:r>
            <a:r>
              <a:rPr b="1" lang="es-ES_tradnl" sz="1800" spc="-1" strike="noStrike">
                <a:solidFill>
                  <a:srgbClr val="336699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6095880"/>
            <a:ext cx="69343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ff"/>
                </a:solidFill>
                <a:latin typeface="Arial"/>
              </a:rPr>
              <a:t>Fuente: Hojas de balance, FAO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81080" y="2514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1995 = 100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54F1-8744-4036-B8BA-FE92B73C809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06440" y="22860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99"/>
                </a:solidFill>
                <a:latin typeface="Arial"/>
              </a:rPr>
              <a:t>Cambios en el consumo aparente de nutrientes per cápita 1993 - 2003 (%)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905120"/>
          <a:ext cx="8178840" cy="42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05120"/>
                    <a:ext cx="8178840" cy="42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066680" y="5943600"/>
            <a:ext cx="6934320" cy="56304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Fuente: Hojas de balance, FAO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BDE3-AEF4-42F5-B329-52E932B92C5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51080" y="228600"/>
            <a:ext cx="710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ff"/>
                </a:solidFill>
                <a:latin typeface="Arial"/>
              </a:rPr>
              <a:t>Consumo promedio per cápita día 2005 (gramos/persona/día)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1066680" y="6095880"/>
            <a:ext cx="693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ff"/>
                </a:solidFill>
                <a:latin typeface="Arial"/>
              </a:rPr>
              <a:t>Fuente: Hojas de balance, FAO, 2007</a:t>
            </a: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61DC-4C1D-44F9-8E7D-9A6FB08E09C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62000" y="233280"/>
            <a:ext cx="8816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 Narrow"/>
              </a:rPr>
              <a:t>¿Que otras fuentes de información existen? 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4" name="mar" descr=""/>
          <p:cNvPicPr/>
          <p:nvPr/>
        </p:nvPicPr>
        <p:blipFill>
          <a:blip r:embed="rId1"/>
          <a:stretch/>
        </p:blipFill>
        <p:spPr>
          <a:xfrm>
            <a:off x="2819520" y="2185920"/>
            <a:ext cx="4495680" cy="372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A987-62BB-4A0A-8032-6B71D45CB38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8600" y="817560"/>
            <a:ext cx="8381880" cy="5427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200400" y="63244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99"/>
                </a:solidFill>
                <a:latin typeface="Times New Roman"/>
              </a:rPr>
              <a:t>www.ine.cl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076E-CE08-4122-A242-29A527F55C5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6200" y="1619280"/>
            <a:ext cx="8929800" cy="362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FB9C-A3DD-4240-A345-355430490E0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6554520" cy="415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6D10-DA05-49C6-8550-823D24175AA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62000" y="233280"/>
            <a:ext cx="8816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 Narrow"/>
              </a:rPr>
              <a:t>¿Alguna otra fuente de información? 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30" name="sep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3962520" cy="292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1A9B-D46A-431D-909A-1B084EFCA94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39640" y="685800"/>
            <a:ext cx="8064720" cy="5821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143000" y="64008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1522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Monotype Corsiva"/>
              </a:rPr>
              <a:t>¿ Los pecados de la carne ?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CC6E-4019-4C2D-BB68-CB84FFB776C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763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Consumo promedio de bebidas gaseosas el primer </a:t>
            </a:r>
            <a:br>
              <a:rPr sz="2800"/>
            </a:b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semestre de cada año 1999-2006 (ml/persona/día)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41120" y="1676520"/>
          <a:ext cx="9002880" cy="46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" y="1676520"/>
                    <a:ext cx="9002880" cy="46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E673-D980-4426-BCCB-49A994D165F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640" y="232920"/>
            <a:ext cx="8816760" cy="14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 Narrow"/>
              </a:rPr>
              <a:t>¿Que indicadores se pueden utilizar para evaluar el estado nutricional?</a:t>
            </a:r>
            <a:r>
              <a:rPr b="1" lang="es-ES" sz="66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"/>
          <p:cNvSpPr/>
          <p:nvPr/>
        </p:nvSpPr>
        <p:spPr>
          <a:xfrm>
            <a:off x="6481800" y="5307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3" name="jul" descr=""/>
          <p:cNvPicPr/>
          <p:nvPr/>
        </p:nvPicPr>
        <p:blipFill>
          <a:blip r:embed="rId1"/>
          <a:stretch/>
        </p:blipFill>
        <p:spPr>
          <a:xfrm>
            <a:off x="3276720" y="2722680"/>
            <a:ext cx="3429000" cy="279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CF63-3710-4F75-87E2-591936D24B0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24000" y="533520"/>
          <a:ext cx="8591400" cy="57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533520"/>
                    <a:ext cx="859140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1523880" y="647712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Arial"/>
              </a:rPr>
              <a:t>Fuente: El Mercurio, marzo 2007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66ff"/>
                </a:solidFill>
                <a:latin typeface="Arial"/>
              </a:rPr>
              <a:t>Consumo de líquidos en </a:t>
            </a:r>
            <a:br>
              <a:rPr sz="3600"/>
            </a:br>
            <a:r>
              <a:rPr b="1" lang="es-ES" sz="3600" spc="-1" strike="noStrike">
                <a:solidFill>
                  <a:srgbClr val="3366ff"/>
                </a:solidFill>
                <a:latin typeface="Arial"/>
              </a:rPr>
              <a:t>Chile 2006</a:t>
            </a:r>
            <a:r>
              <a:rPr b="1" lang="es-ES" sz="54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741D-CC81-4790-855C-183BD0FBD78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066680" y="533520"/>
            <a:ext cx="79250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Tahoma"/>
                <a:ea typeface="Times New Roman"/>
              </a:rPr>
              <a:t>Años de vida saludables perdidos atribuibles al déficit de energía (%)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9622" r="0" b="0"/>
          <a:stretch/>
        </p:blipFill>
        <p:spPr>
          <a:xfrm>
            <a:off x="228600" y="2286000"/>
            <a:ext cx="8556480" cy="396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4AF5-984A-4A23-AF19-3ED32925A7E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042040" cy="4419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675240" y="5484960"/>
            <a:ext cx="1296720" cy="141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533520"/>
            <a:ext cx="79250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Tahoma"/>
                <a:ea typeface="Times New Roman"/>
              </a:rPr>
              <a:t>Años de vida saludables perdidos atribuibles al exceso de energía (%)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06BB-79D8-4F7C-A492-E1470C48802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038480" y="4038480"/>
            <a:ext cx="3657600" cy="2452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3352680" cy="2400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114800" y="1676520"/>
            <a:ext cx="3581280" cy="2382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685800" y="4114800"/>
            <a:ext cx="3505320" cy="23986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819520" y="609480"/>
            <a:ext cx="510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¡¡ </a:t>
            </a:r>
            <a:r>
              <a:rPr b="1" lang="es-ES_tradnl" sz="4800" spc="-1" strike="noStrike">
                <a:solidFill>
                  <a:srgbClr val="003399"/>
                </a:solidFill>
                <a:latin typeface="Times New Roman"/>
              </a:rPr>
              <a:t>Gracias !!!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7772400" y="4800600"/>
            <a:ext cx="1079640" cy="1752480"/>
          </a:xfrm>
          <a:prstGeom prst="rect">
            <a:avLst/>
          </a:prstGeom>
          <a:ln w="0">
            <a:noFill/>
          </a:ln>
        </p:spPr>
      </p:pic>
      <p:pic>
        <p:nvPicPr>
          <p:cNvPr id="152" name="Logodenut" descr=""/>
          <p:cNvPicPr/>
          <p:nvPr/>
        </p:nvPicPr>
        <p:blipFill>
          <a:blip r:embed="rId6"/>
          <a:stretch/>
        </p:blipFill>
        <p:spPr>
          <a:xfrm>
            <a:off x="838080" y="762120"/>
            <a:ext cx="1148040" cy="144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C21B-CE97-498D-92BD-2390AB42A98D}" type="slidenum">
              <a:t>23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640" y="232920"/>
            <a:ext cx="8816760" cy="14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 Narrow"/>
              </a:rPr>
              <a:t>Indicadores directos para evaluar </a:t>
            </a:r>
            <a:br>
              <a:rPr sz="4400"/>
            </a:br>
            <a:r>
              <a:rPr b="1" lang="es-ES" sz="4400" spc="-1" strike="noStrike">
                <a:solidFill>
                  <a:srgbClr val="336699"/>
                </a:solidFill>
                <a:latin typeface="Arial Narrow"/>
              </a:rPr>
              <a:t>el estado nutricional</a:t>
            </a:r>
            <a:r>
              <a:rPr b="1" lang="es-ES" sz="66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"/>
          <p:cNvSpPr/>
          <p:nvPr/>
        </p:nvSpPr>
        <p:spPr>
          <a:xfrm>
            <a:off x="6481800" y="5307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1828800"/>
            <a:ext cx="8305560" cy="33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9999"/>
                </a:solidFill>
                <a:latin typeface="Arial"/>
              </a:rPr>
              <a:t>Antropométricos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9999"/>
                </a:solidFill>
                <a:latin typeface="Arial"/>
              </a:rPr>
              <a:t>Encuestas alimentarias 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9999"/>
                </a:solidFill>
                <a:latin typeface="Arial"/>
              </a:rPr>
              <a:t>Bioquímicos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9999"/>
                </a:solidFill>
                <a:latin typeface="Arial"/>
              </a:rPr>
              <a:t>Signos clínicos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2A4F-63F2-4646-BEA6-F7BD1083634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1640" y="232920"/>
            <a:ext cx="8816760" cy="14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 Narrow"/>
              </a:rPr>
              <a:t>Indicadores indirectos para evaluar </a:t>
            </a:r>
            <a:br>
              <a:rPr sz="4400"/>
            </a:br>
            <a:r>
              <a:rPr b="1" lang="es-ES" sz="4400" spc="-1" strike="noStrike">
                <a:solidFill>
                  <a:srgbClr val="336699"/>
                </a:solidFill>
                <a:latin typeface="Arial Narrow"/>
              </a:rPr>
              <a:t>el estado nutricional</a:t>
            </a:r>
            <a:r>
              <a:rPr b="1" lang="es-ES" sz="66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"/>
          <p:cNvSpPr/>
          <p:nvPr/>
        </p:nvSpPr>
        <p:spPr>
          <a:xfrm>
            <a:off x="6481800" y="5307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828800"/>
            <a:ext cx="8305560" cy="27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7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Variables socioeconómicos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7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es-ES_tradnl" sz="2800" spc="-1" strike="noStrike">
                <a:solidFill>
                  <a:srgbClr val="009999"/>
                </a:solidFill>
                <a:latin typeface="Arial"/>
              </a:rPr>
              <a:t>Disponibilidad de alimento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7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Tasas o estructura de la mortalidad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68B4-1EAF-4F2A-A89D-B054B10963B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2000" y="233280"/>
            <a:ext cx="88167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 Narrow"/>
              </a:rPr>
              <a:t>¿Que fuentes de información se pueden usar para conocer la disponibilidad de alimentos? 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01" name="oct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3886200" cy="340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6015-0C3C-453F-B21A-16F6963B29E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1640" y="232920"/>
            <a:ext cx="8816760" cy="9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 Narrow"/>
              </a:rPr>
              <a:t>Hojas de balance o disponibilidad de alimentos (FAO)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"/>
          <p:cNvSpPr/>
          <p:nvPr/>
        </p:nvSpPr>
        <p:spPr>
          <a:xfrm>
            <a:off x="6481800" y="5307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2057400"/>
            <a:ext cx="830556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Hojas de balance o consumo aparente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Calculo = (producción nacional + importaciones - exportaciones - consumo animal - semillas - uso no alimentario)/ población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Se calcula en Kg de alimentos/persona/año o en nutriente/persona/día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Se obtiene un valor promedio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No permite conocer diferencias en el consumo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3EAC-12C0-4F18-98E9-868C05ED98F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704440" cy="5430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581280" y="63244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99"/>
                </a:solidFill>
                <a:latin typeface="Times New Roman"/>
              </a:rPr>
              <a:t>www.fao.org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94BF-13F3-4C31-BFE8-93C7E1BCAC4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477720"/>
            <a:ext cx="7467480" cy="578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C015-8AED-464F-A03A-516DF96D75A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4600" y="374760"/>
            <a:ext cx="8254800" cy="611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5D95-784F-411B-B326-ACB3DFAB104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7T18:16:15Z</dcterms:created>
  <dc:creator>yo</dc:creator>
  <dc:description/>
  <dc:language>en-US</dc:language>
  <cp:lastModifiedBy>Fac. de Medicina</cp:lastModifiedBy>
  <cp:lastPrinted>2003-05-16T20:59:28Z</cp:lastPrinted>
  <dcterms:modified xsi:type="dcterms:W3CDTF">2007-08-07T19:37:04Z</dcterms:modified>
  <cp:revision>407</cp:revision>
  <dc:subject/>
  <dc:title>General</dc:title>
</cp:coreProperties>
</file>