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D64-5861-4249-B079-965AB730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F0F-2ABD-4EC4-91D6-7BCA5774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B6C-0E39-4978-92B0-1AFC6AE5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87F-5F06-4B89-9522-06BC4D89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11A6-ACE8-4BAC-B245-1950D303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B54A-6283-454E-905E-3054B35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CC07-581B-481C-B6D4-2C255D9E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F6C3-3877-4DF9-894C-53AD8D05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8CC7-1C4E-4BB0-AD2D-E41A6A48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AB4A-F955-4A0D-A168-BF472009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3DF2-4130-4C9C-B2D0-9199A71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3E1-E84C-49EE-8FF0-FE984B96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8621-1F0D-45E0-98A3-363902B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DB04-08BA-4C08-85E6-D9DCE13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B6DF-66CA-49AD-8557-BB67ACA2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FEB0-4D66-4604-B816-472C23A4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AA12-64B2-4910-B862-61D1ABC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DFB-503B-4EE4-9635-4D86EA06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AE3-1CCF-47FE-B9FF-F275472B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960-2D25-435A-BB0F-3592CFC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64C-125E-4300-88B3-F0C512F8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EAD-A44C-4535-BD6D-4785D91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45C-C65B-489E-9F0D-4D0E83E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3A9-96C3-4C26-AF01-3FD04DF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B64-B0B5-48FB-8C10-6EBF130D773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070D-34EA-4169-AFCA-73314174579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rolina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724360" y="3860640"/>
          <a:ext cx="341964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860640"/>
                    <a:ext cx="34196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332000" y="620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76280"/>
            <a:ext cx="79182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Producción Lechera  Nacional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Profesora  : Liliana Maier N. M.V; MS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Universidad Santo Tom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16280"/>
            <a:ext cx="428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16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b7"/>
                </a:solidFill>
                <a:latin typeface="Arial Black"/>
              </a:rPr>
              <a:t>Recepción de leche en plantas industriales (2000-2005)</a:t>
            </a:r>
            <a:br>
              <a:rPr sz="3600"/>
            </a:br>
            <a:r>
              <a:rPr b="0" lang="es-CL" sz="1600" spc="-1" strike="noStrike">
                <a:solidFill>
                  <a:srgbClr val="ffffb7"/>
                </a:solidFill>
                <a:latin typeface="Arial Black"/>
              </a:rPr>
              <a:t>Odepa 2005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905120"/>
          <a:ext cx="8007480" cy="435456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pción (millones de litro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vari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b7"/>
                </a:solidFill>
                <a:latin typeface="Arial Black"/>
              </a:rPr>
              <a:t>Principales productos lácteos elaborados (2000-2005)</a:t>
            </a:r>
            <a:br>
              <a:rPr sz="3600"/>
            </a:br>
            <a:r>
              <a:rPr b="0" lang="es-CL" sz="1600" spc="-1" strike="noStrike">
                <a:solidFill>
                  <a:srgbClr val="ffffb7"/>
                </a:solidFill>
                <a:latin typeface="Arial Black"/>
              </a:rPr>
              <a:t>Odepa 2005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905120"/>
          <a:ext cx="8007480" cy="46623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flui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.153.835 litros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u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060.808 lts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en pol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440.339 Kg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991.271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condensada, manjar, suero en polvo, crema,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quilla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quesillos, leche evaporada, leche modific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161.175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Importaciones v/s exporta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tendencia en importaciones ha disminuido, especialmente desde Argent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(leche en pol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s exportaciones han presentado un incremento susta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96000" y="4749840"/>
            <a:ext cx="30589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estino exportación de lácte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er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Origen de Importaciones  de lácte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007120" cy="419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rgenti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Nueva Zelan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generales se puede decir que las exportaciones duplican las importaciones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lance positivo de disponibilidad de leche y productos láct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hile ¿Potencia lechera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Ventajas competitiv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lud An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bilidad económ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structuración del sector (costos competitiv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cesos productivos ecológicamente susten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alidad de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ituyentes de la leche (sólidos totales y sólidos no gras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enido de células somá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uento microbi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ult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acterísticas organolép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stitución de la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87%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4,6% lact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,5 proteína cru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3,4% materia grasa (componente más vari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0,8 ceni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sólidos no grasos 8,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idos Totales 12,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Factores que modifican la grasa de la lech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apa de lacta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dad v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656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exto Mund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incipales países productores de lech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ión Europ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 Zela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920" y="3357720"/>
            <a:ext cx="758664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orcentaje de grasa puede variar desde un 3,4% en razas como la Hostein Frisian hasta 5,37% en la raza Yers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90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b7"/>
                </a:solidFill>
                <a:latin typeface="Arial Black"/>
              </a:rPr>
              <a:t>Características ácidos grasos de la lech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390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caseí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a Fosfoproteína predominante de la leche . Las otras lactoalbúminas, lactoglobuli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secuencia peptídica de la caseína contiene un número inusual de residuos de </a:t>
            </a: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proli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 15%). Como resultado, es relativamente hidrofóbica (poco soluble en agu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caseí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nzima tripsina reduce la caseína a un hidrolizado fosfatado llamado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pto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aracterísticas de los rumian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ueden utilizar el  nitrógeno no prote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a ello se debe entregar dieta balanceada en fibra, concentrado, ensilaje, mezclar distintas fuentes de proteína de manera de balancear la ración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Sanidad animal, fundamental en la producción lecher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anidad de la glándula ma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185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Presencia de residuos en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6784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antibióticos pueden persistir por más de 72 hrs en la le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leche con residuos de antibióticos, se deshecha por pérdida de inocu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terferencia en fermen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ciones dese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67280" y="3860640"/>
            <a:ext cx="2808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Enfermedades de importancia en salud públic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ruce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uc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ptospi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ster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¿Por qué ha subido tanto el precio de la lech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mento del precio del grano a nivel mundial, por uso alternativo del grano en la obtención de bioenerg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quía en Nueva Zela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minución de terrenos cultiv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32360" y="4653000"/>
            <a:ext cx="3529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umento precio a productor nivel histórico en Julio de este año precio bordea los $2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Producción y comercio mundi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 aumento sostenido en la producción de leche, a nivel mund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 aumentado la demanda de leche, principalmente en países en vías de  desarrol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yor conocimiento acerca de los beneficios en la salud de los productos derivados de la leche (probióticos, leches ferment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210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Situación chil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Arial"/>
              </a:rPr>
              <a:t>Cambios en la Producción lecher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ás intensiva (extensi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 (estac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 calidad higié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 precio al produ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yor número de animales seleccionados genética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000"/>
            </a:b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Consumo de leche por   habitante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90560" y="2565360"/>
          <a:ext cx="8353440" cy="2340000"/>
        </p:xfrm>
        <a:graphic>
          <a:graphicData uri="http://schemas.openxmlformats.org/drawingml/2006/table">
            <a:tbl>
              <a:tblPr/>
              <a:tblGrid>
                <a:gridCol w="1855800"/>
                <a:gridCol w="2871720"/>
                <a:gridCol w="36259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en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7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AO 199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Situación chil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hile no se autoabastece , sin embargo presenta un incremento significativo y sostenido en las export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oducto que presenta mayor incremento en producción y consumo  en los últimos años es el Yog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80000" y="1699920"/>
            <a:ext cx="4464000" cy="3832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bicación geográfica de la producción lechera en C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concentra en la VIII; IX ; X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39% masa ganadera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R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13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0" y="1699920"/>
            <a:ext cx="4464000" cy="3832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rcado productos larga vida sur de C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che fresca y productos frescos Región Metropolit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13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b7"/>
                </a:solidFill>
                <a:latin typeface="Arial Black"/>
              </a:rPr>
              <a:t>Principales empresas lácteas por volumen 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p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stlé(fuerte exportac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lú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ncole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ulén-Mulpul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r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lla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2274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7:10:53Z</dcterms:created>
  <dc:creator>Jose Cieza</dc:creator>
  <dc:description/>
  <dc:language>en-US</dc:language>
  <cp:lastModifiedBy>Fca. de Medicina</cp:lastModifiedBy>
  <dcterms:modified xsi:type="dcterms:W3CDTF">2007-08-01T19:56:42Z</dcterms:modified>
  <cp:revision>157</cp:revision>
  <dc:subject/>
  <dc:title>Diapositiva 1</dc:title>
</cp:coreProperties>
</file>