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AE1-5DED-4875-B780-2B8EECF9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C04-9837-40DF-94EB-DF1827A1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95A-F3A9-4DFE-B401-7B5F9B38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B0B-9F81-45CD-A01B-D97309B4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C767-81DE-4562-B41A-D76C7E75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849-6C48-4299-946F-ABFC9F80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2512-F60B-4B36-AF83-944DF070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4389-5F9D-4B68-9671-4D441058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3426-144A-4EF7-9F7B-556CCC7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4FF5-CC49-48E9-A83C-85CE245D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AA3-D05F-461B-BFCD-21F0173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4B1-5084-4717-B545-DB256F2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445A-41FD-46B8-AF7D-8B4EC3E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04BA-965F-4B7D-BA24-5ACC379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2398-2C5A-4F4D-A44C-7E1FF22B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80DA-56D5-4DCD-8AD6-15CE202C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BB51-0C16-4A73-BF91-091F045F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839-D830-4D47-B013-5D11D6EF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3C7-DC50-4978-93A4-AD346081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37E-2B45-4805-BCF5-EA6ED0A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8BC-3403-4811-844D-130E8CE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85D-0753-4B47-954A-6532FD04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C02-8FC2-45CA-AA48-3BFBF65E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3EB-6E82-4667-980F-D36A7553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1A20-E12E-4638-9193-11491A5B1F2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6E18-4748-4A77-B953-FA13FCACC9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rolina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724360" y="3860640"/>
          <a:ext cx="34196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860640"/>
                    <a:ext cx="34196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332000" y="620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76280"/>
            <a:ext cx="79182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Producción Lechera  Nacional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Profesora  : Liliana Maier N. M.V; MS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Universidad Santo Tom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16280"/>
            <a:ext cx="428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16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b7"/>
                </a:solidFill>
                <a:latin typeface="Arial Black"/>
              </a:rPr>
              <a:t>Recepción de leche en plantas industriales (2000-2005)</a:t>
            </a:r>
            <a:br>
              <a:rPr sz="3600"/>
            </a:br>
            <a:r>
              <a:rPr b="0" lang="es-CL" sz="1600" spc="-1" strike="noStrike">
                <a:solidFill>
                  <a:srgbClr val="ffffb7"/>
                </a:solidFill>
                <a:latin typeface="Arial Black"/>
              </a:rPr>
              <a:t>Odepa 2005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905120"/>
          <a:ext cx="8007480" cy="435456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pción (millones de litro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vari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b7"/>
                </a:solidFill>
                <a:latin typeface="Arial Black"/>
              </a:rPr>
              <a:t>Principales productos lácteos elaborados (2000-2005)</a:t>
            </a:r>
            <a:br>
              <a:rPr sz="3600"/>
            </a:br>
            <a:r>
              <a:rPr b="0" lang="es-CL" sz="1600" spc="-1" strike="noStrike">
                <a:solidFill>
                  <a:srgbClr val="ffffb7"/>
                </a:solidFill>
                <a:latin typeface="Arial Black"/>
              </a:rPr>
              <a:t>Odepa 2005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905120"/>
          <a:ext cx="8007480" cy="46623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flui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.153.835 litros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u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060.808 lts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en pol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440.339 Kg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991.271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condensada, manjar, suero en polvo, crema,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quilla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quesillos, leche evaporada, leche modific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161.17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Importaciones v/s exporta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tendencia en importaciones ha disminuido, especialmente desde Argent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(leche en pol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s exportaciones han presentado un incremento susta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96000" y="4749840"/>
            <a:ext cx="3058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stino exportación de lácte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er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Origen de Importaciones  de lácte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07120" cy="419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rgenti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Nueva Zelan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generales se puede decir que las exportaciones duplican las importaciones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lance positivo de disponibilidad de leche y productos láct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hile ¿Potencia lechera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Ventajas competitiv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lud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bilidad económ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structuración del sector (costos competitiv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cesos productivos ecológicamente susten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alidad de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ituyentes de la leche (sólidos totales y sólidos no gras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enido de células somá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uento microbi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ult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acterísticas organolép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stitución de la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87%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4,6% la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,5 proteína cru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3,4% materia grasa (componente más vari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0,8 ceni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sólidos no grasos 8,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idos Totales 12,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actores que modifican la grasa de la lech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apa de lacta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dad v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656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xto Mund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incipales países productores de lech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ión Europ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 Zela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920" y="3357720"/>
            <a:ext cx="758664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orcentaje de grasa puede variar desde un 3,4% en razas como la Hostein Frisian hasta 5,37% en la raza Yers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90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b7"/>
                </a:solidFill>
                <a:latin typeface="Arial Black"/>
              </a:rPr>
              <a:t>Características ácidos grasos de la lech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390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caseí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a Fosfoproteína predominante de la leche . Las otras lactoalbúminas, lactoglobuli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secuencia peptídica de la caseína contiene un número inusual de residuos de </a:t>
            </a: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proli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 15%). Como resultado, es relativamente hidrofóbica (poco soluble en agu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caseí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zima tripsina reduce la caseína a un hidrolizado fosfatado llamado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pto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aracterísticas de los rumian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ueden utilizar el  nitrógeno no prote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a ello se debe entregar dieta balanceada en fibra, concentrado, ensilaje, mezclar distintas fuentes de proteína de manera de balancear la ració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Sanidad animal, fundamental en la producción lecher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anidad de la glándula ma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185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Presencia de residuos en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6784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antibióticos pueden persistir por más de 72 hrs en la le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leche con residuos de antibióticos, se deshecha por pérdida de inocu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terferencia en fermen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ciones dese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808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Enfermedades de importancia en salud públic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ruce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u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ptospi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ster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¿Por qué ha subido tanto el precio de la lech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mento del precio del grano a nivel mundial, por uso alternativo del grano en la obtención de bioenerg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quía en Nueva Zela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minución de terrenos cultiv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32360" y="4653000"/>
            <a:ext cx="3529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umento precio a productor nivel histórico en Julio de este año precio bordea los $2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Producción y comercio mundi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 aumento sostenido en la producción de leche, a nivel mund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 aumentado la demanda de leche, principalmente en países en vías de  desarrol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yor conocimiento acerca de los beneficios en la salud de los productos derivados de la leche (probióticos, leches ferment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210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Situación chil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Arial"/>
              </a:rPr>
              <a:t>Cambios en la Producción lecher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ás intensiva (extensi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 (estac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 calidad higié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 precio al produ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yor número de animales seleccionados genética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000"/>
            </a:b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umo de leche por   habitante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90560" y="2565360"/>
          <a:ext cx="8353440" cy="2340000"/>
        </p:xfrm>
        <a:graphic>
          <a:graphicData uri="http://schemas.openxmlformats.org/drawingml/2006/table">
            <a:tbl>
              <a:tblPr/>
              <a:tblGrid>
                <a:gridCol w="1855800"/>
                <a:gridCol w="2871720"/>
                <a:gridCol w="36259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en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7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AO 199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Situación chil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hile no se autoabastece , sin embargo presenta un incremento significativo y sostenido en las export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oducto que presenta mayor incremento en producción y consumo  en los últimos años es el Yog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80000" y="1699920"/>
            <a:ext cx="4464000" cy="3832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bicación geográfica de la producción lechera en C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concentra en la VIII; IX ; X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39% masa ganadera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R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13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0" y="1699920"/>
            <a:ext cx="4464000" cy="3832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rcado productos larga vida sur de C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che fresca y productos frescos Región Metropolit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13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b7"/>
                </a:solidFill>
                <a:latin typeface="Arial Black"/>
              </a:rPr>
              <a:t>Principales empresas lácteas por volumen 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p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stlé(fuerte exportac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lú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ncole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ulén-Mulpul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r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lla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2274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10:53Z</dcterms:created>
  <dc:creator>Jose Cieza</dc:creator>
  <dc:description/>
  <dc:language>en-US</dc:language>
  <cp:lastModifiedBy>Fca. de Medicina</cp:lastModifiedBy>
  <dcterms:modified xsi:type="dcterms:W3CDTF">2007-08-01T19:56:42Z</dcterms:modified>
  <cp:revision>157</cp:revision>
  <dc:subject/>
  <dc:title>Diapositiva 1</dc:title>
</cp:coreProperties>
</file>