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CB4-543C-4570-933A-63034BBF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C95-F059-4787-8715-52135267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427-72AE-4652-86EB-F91E3A73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620-DE09-4EB2-B183-6FEA64FE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A53F-FA82-463C-99E0-170A0BD9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5F8D-64BB-4ACE-A078-77B5B76D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9F88-09A1-4ABD-8ED2-0423DD9B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6348-94C4-4762-A20E-AC81EE47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ADBB-CD5F-49A8-81AC-A5953AD3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CA94-3D47-485F-AF15-F6207E92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840E-0F95-4A7F-A80D-6A4EC351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DCF-1902-4800-8DAE-AD784A16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3E28-5359-4F56-9D53-ACF3F53D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A3A2-B589-4348-969A-4D59B78E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59EE-7EA5-45E3-809B-4BE1B8F4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05F7-DF5C-4101-85FB-247633A9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363A-5DDD-4DD9-BE4F-B3FB37E5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495-C7C1-4792-9E1C-A4C01E5C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8E2-039F-4E77-B509-431683E6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EF5-A111-4BFC-8FAF-F1F52154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FEF-1041-4C3E-A99A-46866B44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217-726D-478A-B947-81EC993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1AF-A925-4369-BDAB-F59CE5B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146-EA06-4075-9499-5C559EA9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3F14-8EBB-4F91-B30D-872F2AEABE3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95B4-F1A8-4B1F-8F44-2C53970F51F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rolina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724360" y="3860640"/>
          <a:ext cx="341964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3860640"/>
                    <a:ext cx="341964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332000" y="620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476280"/>
            <a:ext cx="79182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Producción Lechera  Nacional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Profesora  : Liliana Maier N. M.V; MS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Universidad Santo Tom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16280"/>
            <a:ext cx="428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16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b7"/>
                </a:solidFill>
                <a:latin typeface="Arial Black"/>
              </a:rPr>
              <a:t>Recepción de leche en plantas industriales (2000-2005)</a:t>
            </a:r>
            <a:br>
              <a:rPr sz="3600"/>
            </a:br>
            <a:r>
              <a:rPr b="0" lang="es-CL" sz="1600" spc="-1" strike="noStrike">
                <a:solidFill>
                  <a:srgbClr val="ffffb7"/>
                </a:solidFill>
                <a:latin typeface="Arial Black"/>
              </a:rPr>
              <a:t>Odepa 2005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905120"/>
          <a:ext cx="8007480" cy="435456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pción (millones de litro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vari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b7"/>
                </a:solidFill>
                <a:latin typeface="Arial Black"/>
              </a:rPr>
              <a:t>Principales productos lácteos elaborados (2000-2005)</a:t>
            </a:r>
            <a:br>
              <a:rPr sz="3600"/>
            </a:br>
            <a:r>
              <a:rPr b="0" lang="es-CL" sz="1600" spc="-1" strike="noStrike">
                <a:solidFill>
                  <a:srgbClr val="ffffb7"/>
                </a:solidFill>
                <a:latin typeface="Arial Black"/>
              </a:rPr>
              <a:t>Odepa 2005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905120"/>
          <a:ext cx="8007480" cy="46623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he flui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.153.835 litros/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gu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060.808 lts/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he en pol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440.339 Kg/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991.271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he condensada, manjar, suero en polvo, crema,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quilla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quesillos, leche evaporada, leche modific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161.175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Importaciones v/s exporta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tendencia en importaciones ha disminuido, especialmente desde Argent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(leche en polv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s exportaciones han presentado un incremento sustan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96000" y="4749840"/>
            <a:ext cx="30589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estino exportación de lácte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er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sta 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Origen de Importaciones  de lácte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007120" cy="419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rgenti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Nueva Zelan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términos generales se puede decir que las exportaciones duplican las importaciones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alance positivo de disponibilidad de leche y productos láct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hile ¿Potencia lechera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Ventajas competitiv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alud An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bilidad económ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estructuración del sector (costos competitiv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cesos productivos ecológicamente sustent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alidad de lech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stituyentes de la leche (sólidos totales y sólidos no gras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tenido de células somá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uento microbi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ult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acterísticas organolép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stitución de la lech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87%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4,6% lact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3,5 proteína cru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3,4% materia grasa (componente más vari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0,8 ceni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sólidos no grasos 8,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ólidos Totales 12,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Factores que modifican la grasa de la lech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apa de lacta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dad v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i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a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656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exto Mund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incipales países productores de leche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ión Europ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 Zela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920" y="3357720"/>
            <a:ext cx="758664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orcentaje de grasa puede variar desde un 3,4% en razas como la Hostein Frisian hasta 5,37% en la raza Yers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90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b7"/>
                </a:solidFill>
                <a:latin typeface="Arial Black"/>
              </a:rPr>
              <a:t>Características ácidos grasos de la lech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390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caseí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a Fosfoproteína predominante de la leche . Las otras lactoalbúminas, lactoglobuli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secuencia peptídica de la caseína contiene un número inusual de residuos de </a:t>
            </a:r>
            <a:r>
              <a:rPr b="0" lang="es-E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prolin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( 15%). Como resultado, es relativamente hidrofóbica (poco soluble en agu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caseí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nzima tripsina reduce la caseína a un hidrolizado fosfatado llamado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pton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aracterísticas de los rumian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ueden utilizar el  nitrógeno no prote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a ello se debe entregar dieta balanceada en fibra, concentrado, ensilaje, mezclar distintas fuentes de proteína de manera de balancear la ración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Sanidad animal, fundamental en la producción lecher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anidad de la glándula mam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185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Presencia de residuos en lech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6784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antibióticos pueden persistir por más de 72 hrs en la le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a leche con residuos de antibióticos, se deshecha por pérdida de inocu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terferencia en fermen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ciones dese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867280" y="3860640"/>
            <a:ext cx="2808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Enfermedades de importancia en salud públic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ruce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uc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ptospi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ister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¿Por qué ha subido tanto el precio de la lech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mento del precio del grano a nivel mundial, por uso alternativo del grano en la obtención de bioenerg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quía en Nueva Zelan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sminución de terrenos cultiv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32360" y="4653000"/>
            <a:ext cx="3529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umento precio a productor nivel histórico en Julio de este año precio bordea los $2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Producción y comercio mundi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 un aumento sostenido en la producción de leche, a nivel mund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 aumentado la demanda de leche, principalmente en países en vías de  desarrol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yor conocimiento acerca de los beneficios en la salud de los productos derivados de la leche (probióticos, leches ferment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2103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Situación chil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Arial"/>
              </a:rPr>
              <a:t>Cambios en la Producción lecher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ás intensiva (extensi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ual (estac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 calidad higié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 precio al produ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yor número de animales seleccionados genética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br>
              <a:rPr sz="4000"/>
            </a:b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Consumo de leche por   habitante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90560" y="2565360"/>
          <a:ext cx="8353440" cy="2340000"/>
        </p:xfrm>
        <a:graphic>
          <a:graphicData uri="http://schemas.openxmlformats.org/drawingml/2006/table">
            <a:tbl>
              <a:tblPr/>
              <a:tblGrid>
                <a:gridCol w="1855800"/>
                <a:gridCol w="2871720"/>
                <a:gridCol w="36259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en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n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7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litros/año/habi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AO 199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/año/habi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/año/habi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Situación chil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hile no se autoabastece , sin embargo presenta un incremento significativo y sostenido en las export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oducto que presenta mayor incremento en producción y consumo  en los últimos años es el Yogu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80000" y="1699920"/>
            <a:ext cx="4464000" cy="3832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bicación geográfica de la producción lechera en Ch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concentra en la VIII; IX ; X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39% masa ganadera)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R.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13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0" y="1699920"/>
            <a:ext cx="4464000" cy="3832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rcado productos larga vida sur de Ch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che fresca y productos frescos Región Metropolit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13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b7"/>
                </a:solidFill>
                <a:latin typeface="Arial Black"/>
              </a:rPr>
              <a:t>Principales empresas lácteas por volumen 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op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stlé(fuerte exportaci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lú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ncole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mulén-Mulpul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r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Quilla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32274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7:10:53Z</dcterms:created>
  <dc:creator>Jose Cieza</dc:creator>
  <dc:description/>
  <dc:language>en-US</dc:language>
  <cp:lastModifiedBy>Fca. de Medicina</cp:lastModifiedBy>
  <dcterms:modified xsi:type="dcterms:W3CDTF">2007-08-01T19:56:42Z</dcterms:modified>
  <cp:revision>157</cp:revision>
  <dc:subject/>
  <dc:title>Diapositiva 1</dc:title>
</cp:coreProperties>
</file>