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65C-6D06-4E33-9916-D582E067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711-9B82-4C34-A6EB-F2203BA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94E-3C2B-4D87-8848-CF587F6B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EC9-E6CF-4405-87DC-26820E1D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A215-125F-482B-988A-C7BAD59A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923-E70C-440F-BE52-63B9E976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2D9D-A7D8-4791-BC1C-6B5466E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C53-041A-451A-BFA1-342FE721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9444-BDE2-4C2E-AAB2-C5747FE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D3CE-F46E-4103-9472-EA783BF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2E6-41EC-4496-B9F5-22931E1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445-2614-4D4A-9FDB-A0D4FD5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5711-43C7-4EEE-BA3F-012D747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6A4-E0D0-4CE4-B2C3-C832420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0F0F-8B21-4AD1-AEA7-61832F0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1E6-7C17-43FE-A34D-42504CEF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0D6C-A2AF-4477-8823-904110F7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881-DC9B-432E-BDD0-EF7E84B2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717-4096-4662-A476-7CE2150C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E43-34AD-40D7-A82E-659CB2C4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843-1653-4FEA-84FC-C2F5AE1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AFB-A374-4B9B-A6F8-FDFD490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2E1-AE47-4C81-A6DF-2AD2449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31F-5B8F-498F-8826-20B206C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FA09-4606-4D17-B5BF-91E6BE8711B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V.Qui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DD1-6AFE-4D4D-BD13-409892FDAD7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6svnum%3D10%26hl%3Des%26lr%3Dlang_es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usalud.com.mx/images/botulismo.jpg&amp;imgrefurl=http://www.tusalud.com.mx/120670.HTM&amp;h=177&amp;w=295&amp;sz=14&amp;hl=es&amp;start=9&amp;tbnid=i1YuoCqiTqTC8M:&amp;tbnh=69&amp;tbnw=115&amp;prev=/images%3Fq%3Dalimentos%2Bprocesados%26svnum%3D10%26hl%3Des%26lr%3Dlang_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es/imgres?imgurl=http://www.rree.gob.sv/segundaferia/imagenes/sectores1.gif&amp;imgrefurl=http://www.rree.gob.sv/segundaferia/index.htm&amp;h=148&amp;w=152&amp;sz=13&amp;hl=es&amp;start=12&amp;tbnid=ron8KfSXrE0JeM:&amp;tbnh=93&amp;tbnw=96&amp;prev=/images%3Fq%3Dalimentos%2Bprocesados%26svnum%3D10%26hl%3Des%26lr%3Dlang_es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es/imgres?imgurl=http://www.proamazonia.gob.pe/bpa/images/trazabilidad_alimentos.gif&amp;imgrefurl=http://www.proamazonia.gob.pe/bpa/trazabilidad.htm&amp;h=207&amp;w=307&amp;sz=51&amp;hl=es&amp;start=2&amp;tbnid=jjL46qSYH33OPM:&amp;tbnh=79&amp;tbnw=117&amp;prev=/images%3Fq%3Dalimentos%2Bprocesados%26svnum%3D10%26hl%3Des%26lr%3Dlang_es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es/imgres?imgurl=http://www.sagan-gea.org/hojared_radiacion/imagenes/radiaciongamma2.jpg&amp;imgrefurl=http://www.sagan-gea.org/hojared_radiacion/paginas/Radiaci%25F3n_de_alimentos.html&amp;h=257&amp;w=374&amp;sz=33&amp;hl=es&amp;start=4&amp;tbnid=F9PfMKkO-ZibdM:&amp;tbnh=84&amp;tbnw=122&amp;prev=/images%3Fq%3Dalimentos%2Bprocesados%26svnum%3D10%26hl%3Des%26lr%3Dlang_es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terra.com.mx/Galeria_de_fotos/images/131/261772.jpg&amp;imgrefurl=http://www.terra.com.mx/sportlife/articulo/173890/&amp;h=289&amp;w=214&amp;sz=40&amp;hl=es&amp;start=1&amp;tbnid=iydxMXovSGzLVM:&amp;tbnh=115&amp;tbnw=85&amp;prev=/images%3Fq%3Dalimentos%2Bprocesados%26svnum%3D10%26hl%3Des%26lr%3Dlang_es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es/imgres?imgurl=http://www.alimentacion-sana.com.ar/Portal%2520nuevo/imagenesplanillas/originales/alimentos%2520combinados.jpg&amp;imgrefurl=http://www.alimentacion-sana.com.ar/Portal%2520nuevo/actualizaciones/La%2520combinacion%2520alimentos.htm&amp;h=374&amp;w=300&amp;sz=19&amp;hl=es&amp;start=4&amp;tbnid=jBTSZpSazXcEnM:&amp;tbnh=122&amp;tbnw=98&amp;prev=/images%3Fq%3Dalimentos%2B%26svnum%3D10%26hl%3Des%26lr%3Dlang_es%26sa%3DG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reteteculinare.ro/forum/files/ingrediente_855.jpeg&amp;imgrefurl=http://www.reteteculinare.ro/forum/discutii/chec_preferat_de_mine-533/&amp;h=450&amp;w=600&amp;sz=162&amp;hl=es&amp;start=10&amp;tbnid=A4hxvSoVLsR15M:&amp;tbnh=101&amp;tbnw=135&amp;prev=/images%3Fq%3Dingrediente%26svnum%3D10%26hl%3Des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100" spc="-1" strike="noStrike">
                <a:solidFill>
                  <a:srgbClr val="336666"/>
                </a:solidFill>
                <a:latin typeface="Arial Black"/>
              </a:rPr>
              <a:t>Tecnología de Alimentos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étodos de conserva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alter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es aquel que por </a:t>
            </a:r>
            <a:r>
              <a:rPr b="0" lang="es-CL" sz="3100" spc="-1" strike="noStrike" u="sng">
                <a:solidFill>
                  <a:srgbClr val="336666"/>
                </a:solidFill>
                <a:uFillTx/>
                <a:latin typeface="Arial"/>
              </a:rPr>
              <a:t>causas naturales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de índole física, química o biológica, o por causas derivadas de tratamientos tecnológicos, aisladas o combinadas, ha sufrido modificación o deterioro en sus características organolépticas, en composición y/o valor nutritiv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pardeamiento de papas, rancidez de gras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1768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90720" y="3473280"/>
            <a:ext cx="1611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6666"/>
                </a:solidFill>
                <a:latin typeface="Arial Black"/>
              </a:rPr>
              <a:t>Alimento adulterado</a:t>
            </a:r>
            <a:endParaRPr b="0" lang="en-US" sz="3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s aquel que ha experimentado por </a:t>
            </a:r>
            <a:r>
              <a:rPr b="1" lang="es-CL" sz="2400" spc="-1" strike="noStrike" u="sng">
                <a:solidFill>
                  <a:srgbClr val="336666"/>
                </a:solidFill>
                <a:uFillTx/>
                <a:latin typeface="Arial"/>
              </a:rPr>
              <a:t>intervención del hombre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cambios que le modifican sus características o cualidades propias tales co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extracción parcial o total de cualquiera de los componentes del producto origi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leche descremada por leche ent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sustitución parcial o total de cualquiera de los componentes del producto original por otros inertes o extraños, incluida la adición de agua u otro material de relle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Ejemplo: leche recombinada con grasa extraña por leche entera, leche aguada, pimentón con af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mezcla, coloración, pulverización o encubrimiento, de tal forma que se oculte su inferioridad o disminuya su pureza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jemplo: pimentón decolorado con tinción con un color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falsific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Se designa, rotula o expenda con nombre o calificativo que no corresponda a su origen, identidad, valor nutritivo o estimulante; (Ej. Margarina por mantequilla, sucedáneos del café por café, jurel tipo salmón)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yo envase, rótulo o anuncio, contenga cualquier diseño o declaración ambigua, falsa o que pueda inducir a error, respecto a los ingredientes que componen el alimento. Ejemplo: figura de olivas, si el aceite es de maravilla; Pisco elaborado en zona diferente del Norte Ch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Alimento contaminad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aquel que conteng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icroorganismos, virus y/o parásitos, sustancias extrañas o deletéreas de origen mineral, orgánico o biológico, sustancias radioactivas y/o sustancias tóxicas en cantidades superiores a las permitidas en las normas vigentes, o que se presuman nocivas para la salu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metales pesados (plomo, mercurio, cadmio, etc.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tipo de suciedad, restos o excremento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ditivos no autorizados por las normas vigentes o en cantidades superiores a las permitidas. ·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3. Según la tecnología aplicada en su elaboración.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3.1. 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2. 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3. 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4. 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5. Métodos combinad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3.6. Métodos no tradicionales 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emergen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27320" y="981000"/>
            <a:ext cx="46213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400480" y="1900080"/>
          <a:ext cx="512424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0480" y="1900080"/>
                    <a:ext cx="512424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6920" y="2100240"/>
            <a:ext cx="5329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90200" y="11473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549360"/>
          <a:ext cx="8569080" cy="62118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microorganism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omposición proteica (mal olor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edaba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bios físicos y químic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1fb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mentación glúcidos (sabor picant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9cae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enzimátic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9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 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minación sust. extrañ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dd8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ranciamiento de las gras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ba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ión vectores de germen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9a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0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xidación de las vitamin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bdfb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229000" y="4581000"/>
            <a:ext cx="240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La Cienci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Propiedad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450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162864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2419200"/>
            <a:ext cx="1800000" cy="1730520"/>
          </a:xfrm>
          <a:custGeom>
            <a:avLst/>
            <a:gdLst/>
            <a:ahLst/>
            <a:rect l="l" t="t" r="r" b="b"/>
            <a:pathLst>
              <a:path w="1134" h="1090">
                <a:moveTo>
                  <a:pt x="0" y="1"/>
                </a:moveTo>
                <a:cubicBezTo>
                  <a:pt x="291" y="0"/>
                  <a:pt x="582" y="0"/>
                  <a:pt x="771" y="182"/>
                </a:cubicBezTo>
                <a:cubicBezTo>
                  <a:pt x="960" y="364"/>
                  <a:pt x="1047" y="727"/>
                  <a:pt x="1134" y="10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149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3500280"/>
            <a:ext cx="14558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6666"/>
                </a:solidFill>
                <a:latin typeface="Arial Black"/>
              </a:rPr>
              <a:t>Vida útil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197000"/>
          <a:ext cx="8229600" cy="4917960"/>
        </p:xfrm>
        <a:graphic>
          <a:graphicData uri="http://schemas.openxmlformats.org/drawingml/2006/table">
            <a:tbl>
              <a:tblPr/>
              <a:tblGrid>
                <a:gridCol w="3970440"/>
                <a:gridCol w="4259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as de almacenamiento a 21º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y pescado desecado, salado o ahum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t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talizas de hojas ver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í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llas se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o má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Factores que influyen en el desarrollo microbiano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tencial oxido-red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ustancias inhibidor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de pH necesario para crecimiento de m.o.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057400"/>
          <a:ext cx="7772400" cy="3963960"/>
        </p:xfrm>
        <a:graphic>
          <a:graphicData uri="http://schemas.openxmlformats.org/drawingml/2006/table">
            <a:tbl>
              <a:tblPr/>
              <a:tblGrid>
                <a:gridCol w="4664160"/>
                <a:gridCol w="1552320"/>
                <a:gridCol w="15559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n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xim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monella typhi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6666"/>
                </a:solidFill>
                <a:latin typeface="Tahoma"/>
              </a:rPr>
              <a:t>Valores aproximados de pH de alimentos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2057400"/>
          <a:ext cx="7696080" cy="4038480"/>
        </p:xfrm>
        <a:graphic>
          <a:graphicData uri="http://schemas.openxmlformats.org/drawingml/2006/table">
            <a:tbl>
              <a:tblPr/>
              <a:tblGrid>
                <a:gridCol w="5562360"/>
                <a:gridCol w="2133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aliment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ur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2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13680">
                      <a:solidFill>
                        <a:srgbClr val="ff99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 – 4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s y av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 – 6.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s y maris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 – 7.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s lácte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 – 6.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9933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Clasificación de alimentos según pH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907920"/>
          <a:ext cx="8991720" cy="6375240"/>
        </p:xfrm>
        <a:graphic>
          <a:graphicData uri="http://schemas.openxmlformats.org/drawingml/2006/table">
            <a:tbl>
              <a:tblPr/>
              <a:tblGrid>
                <a:gridCol w="2105280"/>
                <a:gridCol w="1296720"/>
                <a:gridCol w="3341880"/>
                <a:gridCol w="224784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ificación de l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de 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 de al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85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eitunas, huevos, leche, maiz, pollos, bacalao, sardin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isantes, zanahorias, espárragos, pap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tali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cc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6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acid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bollas, tomates, peras, durazn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ña, manzana, fresa, jugo de naranja, ber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go de lim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gu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ae6e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icroorganismos necesitan agua para su crecimiento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vente de nutrientes para permitir su transporte y disponibilidad en el citoplas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gente químico que interviene en las reacciones hidrolíticas que dan lugar a monómereos, necesarios para la síntesis microbiana y para las reacciones energé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2637000"/>
            <a:ext cx="3600360" cy="1871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ctividad de agu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Aw = </a:t>
            </a:r>
            <a:r>
              <a:rPr b="0" lang="es-ES_tradnl" sz="3100" spc="-1" strike="noStrike" u="sng">
                <a:solidFill>
                  <a:srgbClr val="000000"/>
                </a:solidFill>
                <a:uFillTx/>
                <a:latin typeface="Arial"/>
              </a:rPr>
              <a:t>Px </a:t>
            </a: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43120" y="263700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6666"/>
                </a:solidFill>
                <a:latin typeface="Tahoma"/>
              </a:rPr>
              <a:t>Valores mínimos de Aw necesarios para el crecimiento de m.o.</a:t>
            </a:r>
            <a:r>
              <a:rPr b="0" lang="es-MX" sz="2500" spc="-1" strike="noStrike">
                <a:solidFill>
                  <a:srgbClr val="336666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268280"/>
          <a:ext cx="8012160" cy="5247000"/>
        </p:xfrm>
        <a:graphic>
          <a:graphicData uri="http://schemas.openxmlformats.org/drawingml/2006/table">
            <a:tbl>
              <a:tblPr/>
              <a:tblGrid>
                <a:gridCol w="6076800"/>
                <a:gridCol w="1935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w mín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29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u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alter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alte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terias hal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hos xerofíl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aduras osmofíl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3680">
                      <a:solidFill>
                        <a:srgbClr val="ff66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8e4e3"/>
                    </a:solidFill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s específ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ostridium botul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cherichia 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i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66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ff66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ff6699"/>
                      </a:solidFill>
                    </a:lnB>
                    <a:solidFill>
                      <a:srgbClr val="c8e4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549360"/>
          <a:ext cx="8229600" cy="583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vacu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 – 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 de c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4 – 0.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0 – 0.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cho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7 – 0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aho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9 – 0.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i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8 – 0.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iño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5 – 0.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cnología de los Aliment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plicación prácti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989000"/>
            <a:ext cx="1584360" cy="951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2637000"/>
            <a:ext cx="156204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3860640"/>
            <a:ext cx="1873080" cy="1265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3933720"/>
            <a:ext cx="1513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67680"/>
            <a:ext cx="769608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549360"/>
          <a:ext cx="8229600" cy="597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z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 – 0.9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1 – 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an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cot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t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0 – 0.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97cd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Potencial oxido-reducció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poder oxido-reducción, o poder oxidante y reductor, del propio alimento, influye en el tipo de microorganismo que se desarrollará en él y, por lo tanto, en las modificaciones que se producirá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n función de las exigencias de oxígeno y/o en su toxicidad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Pseudomonas, Micrococcus, Bacillus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necesitan oxígeno libre (como aceptor final de electrones) no tienen la posibilidad de utilizar una vía fermentativ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naerobios estrict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Clostridium, Bacteroides, Peptococos, Prinibacterium, etc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uando crecen mejor en ausencia de oxígeno libre, presentan obligatoriamente un metabolismo ferment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6666"/>
                </a:solidFill>
                <a:latin typeface="Arial"/>
              </a:rPr>
              <a:t>Aerobios facultativos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Enterobacterias, Staphylococcus.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e pueden desarrollar en ausencia o presencia de oxígen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Sustancias inhibidor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on moléculas que poseen poder bacteriostático y/o bactericida, algunas pueden ser especificamente inhibidoras de moh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omposición químic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Mecanismo de a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encuentran en estado natural en tejidos animales y veget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 pueden producir por ferment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Temperatura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s uno de los factores más importantes en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crecimiento microbia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termina el estado físico del agua en un determinado me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velocidad de reacciones químicas y bioquímic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3800" y="18900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76280"/>
          <a:ext cx="8424720" cy="5977080"/>
        </p:xfrm>
        <a:graphic>
          <a:graphicData uri="http://schemas.openxmlformats.org/drawingml/2006/table">
            <a:tbl>
              <a:tblPr/>
              <a:tblGrid>
                <a:gridCol w="2232000"/>
                <a:gridCol w="287280"/>
                <a:gridCol w="5905440"/>
              </a:tblGrid>
              <a:tr h="887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per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 temperatura óptima de crecimiento está por encima de los 80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el máximo crecimiento de cultivos puros se ha llegado a dar a entre 110 y 113 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cen por encima de los 45 ó 5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alrededor de 37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 Frecuentemente son capaces de crecer en rangos de los 10 </a:t>
                      </a:r>
                      <a:r>
                        <a:rPr b="0" lang="en-US" sz="23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es de crecer por debajo de 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con temperaturas máximas de 20 ó 2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rófilos facul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eratura óptima de 15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llegando a alcanzar los 2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 y también capaces de bajar hasta menos de 0 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328840" y="1109520"/>
          <a:ext cx="448632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8840" y="1109520"/>
                    <a:ext cx="448632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5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Aliment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Como un vehículo natural destinado a introducir uno o más nutrientes en el organismo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989000"/>
            <a:ext cx="2087640" cy="202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860640"/>
            <a:ext cx="19447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31440" y="1844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549360"/>
          <a:ext cx="8569080" cy="5904000"/>
        </p:xfrm>
        <a:graphic>
          <a:graphicData uri="http://schemas.openxmlformats.org/drawingml/2006/table">
            <a:tbl>
              <a:tblPr/>
              <a:tblGrid>
                <a:gridCol w="702000"/>
                <a:gridCol w="520920"/>
                <a:gridCol w="612720"/>
                <a:gridCol w="612720"/>
                <a:gridCol w="611640"/>
                <a:gridCol w="611280"/>
                <a:gridCol w="614520"/>
                <a:gridCol w="611640"/>
                <a:gridCol w="466920"/>
                <a:gridCol w="756000"/>
                <a:gridCol w="612720"/>
                <a:gridCol w="501120"/>
                <a:gridCol w="723240"/>
                <a:gridCol w="611640"/>
              </a:tblGrid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10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74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6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8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0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co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ala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peli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fri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Zona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ngel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3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660066"/>
                          </a:solidFill>
                          <a:latin typeface="Verdana"/>
                        </a:rPr>
                        <a:t>Se destruye la mayoría de microorganismos en unos minu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66"/>
                          </a:solidFill>
                          <a:latin typeface="Verdana"/>
                        </a:rPr>
                        <a:t>No hay multiplicación sí superviv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Gran proliferación bacter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 hay multiplicación, el alimento puede estar a esta temperatura breves perí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 multiplicación, pero sí supervivencia. Se usa en períodos lar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5068800" y="443448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onserv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destruyen los gérmenes (bactericida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sistemas de conservación que impiden el desarrollo de gérmenes (bacteriostático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04760" y="16632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71640" y="981000"/>
          <a:ext cx="7169040" cy="5184720"/>
        </p:xfrm>
        <a:graphic>
          <a:graphicData uri="http://schemas.openxmlformats.org/drawingml/2006/table">
            <a:tbl>
              <a:tblPr/>
              <a:tblGrid>
                <a:gridCol w="3584520"/>
                <a:gridCol w="35845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cid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cteriostático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ulli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ril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erizac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lat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humad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7cd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l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ción de sustancias química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00"/>
                      </a:solidFill>
                    </a:lnL>
                    <a:lnR w="4320">
                      <a:solidFill>
                        <a:srgbClr val="ffff00"/>
                      </a:solidFill>
                    </a:lnR>
                    <a:lnT w="4320">
                      <a:solidFill>
                        <a:srgbClr val="ffff00"/>
                      </a:solidFill>
                    </a:lnT>
                    <a:lnB w="4320">
                      <a:solidFill>
                        <a:srgbClr val="ffff00"/>
                      </a:solidFill>
                    </a:lnB>
                    <a:gradFill rotWithShape="0">
                      <a:gsLst>
                        <a:gs pos="0">
                          <a:srgbClr val="8292e2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5452920" y="461412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6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336666"/>
                </a:solidFill>
                <a:latin typeface="Arial Black"/>
              </a:rPr>
              <a:t>Clasificación de los métodos de conservación de alimentos según su efecto sobre los microorganismos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Destruc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fecto barre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iminació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Destruc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905120"/>
          <a:ext cx="8496000" cy="4333680"/>
        </p:xfrm>
        <a:graphic>
          <a:graphicData uri="http://schemas.openxmlformats.org/drawingml/2006/table">
            <a:tbl>
              <a:tblPr/>
              <a:tblGrid>
                <a:gridCol w="4587840"/>
                <a:gridCol w="390816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l c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eurización – Esteri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ones ioniz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de antisépt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 – Acidos Conservadores quím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s pre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 mixta: calor-mecán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ción - Extru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fecto barrer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5280" y="1197000"/>
          <a:ext cx="8748720" cy="4797360"/>
        </p:xfrm>
        <a:graphic>
          <a:graphicData uri="http://schemas.openxmlformats.org/drawingml/2006/table">
            <a:tbl>
              <a:tblPr/>
              <a:tblGrid>
                <a:gridCol w="4032360"/>
                <a:gridCol w="4716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bajas T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rigeración – Conge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ción de atmósferas pobres en O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ío – Gases inertes – Atmósferas control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 del contenido de 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hidratación – Liofilización – 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 por incorporación y recubrimiento con inhibi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zón – inmersión en salmuera – recubrimiento con materias grasas – recubrimirnto con azúcar- inmersión en ácidos - fer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Eliminació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2120" y="1905120"/>
          <a:ext cx="7696080" cy="2315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 de actu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conservació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ción fís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ración esteriliz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trafiltr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c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98760" y="2553480"/>
            <a:ext cx="414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6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Arial"/>
              </a:rPr>
              <a:t>Materia prima alimentaria: </a:t>
            </a: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s toda sustancia que para ser utilizada como alimento, precisa de algún tratamiento o transformación de naturaleza química, física o biológic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Ejemplo: trigo, maíz, leche cru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24360" y="1905120"/>
            <a:ext cx="2733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6588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6666"/>
                </a:solidFill>
                <a:latin typeface="Arial Black"/>
              </a:rPr>
              <a:t>Ingredien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409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ualquier sustancia, incluidos los aditivos que se empleen en la fabricación o preparación de un alimento y esté presente en el producto final, aunque sea en forma modifica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03640" y="1905120"/>
            <a:ext cx="3454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865600"/>
            <a:ext cx="29512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666"/>
                </a:solidFill>
                <a:latin typeface="Arial Black"/>
              </a:rPr>
              <a:t>Clasificación de alimento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s condiciones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aptitud para el consumo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Según su origen o tecnología aplicada en su elaboración</a:t>
            </a: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6666"/>
                </a:solidFill>
                <a:latin typeface="Arial Black"/>
              </a:rPr>
              <a:t>1. Según sus condiciones para el consumo</a:t>
            </a:r>
            <a:endParaRPr b="0" lang="en-US" sz="2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al estado na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fres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perec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de guard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servado o preserv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labo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confe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sucedán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s de uso especial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limento enriquec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6666"/>
                </a:solidFill>
                <a:latin typeface="Arial Black"/>
              </a:rPr>
              <a:t>2. Según su aptitud para el consumo.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Los alimentos pueden experimentar transformaciones, perdiendo o disminuyendo su aptitud para el consumo, al respecto se distinguen las siguientes clas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adulter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falsific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100" spc="-1" strike="noStrike">
                <a:solidFill>
                  <a:srgbClr val="000000"/>
                </a:solidFill>
                <a:latin typeface="Arial"/>
              </a:rPr>
              <a:t>Alimento contamin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21:52:35Z</dcterms:created>
  <dc:creator>Vilma Quitral</dc:creator>
  <dc:description/>
  <dc:language>en-US</dc:language>
  <cp:lastModifiedBy>Fca. de Medicina</cp:lastModifiedBy>
  <dcterms:modified xsi:type="dcterms:W3CDTF">2007-07-25T17:11:04Z</dcterms:modified>
  <cp:revision>18</cp:revision>
  <dc:subject/>
  <dc:title>Diapositiva 1</dc:title>
</cp:coreProperties>
</file>