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9.jpeg" ContentType="image/jpeg"/>
  <Override PartName="/ppt/media/image1.jpeg" ContentType="image/jpeg"/>
  <Override PartName="/ppt/media/image17.jpeg" ContentType="image/jpeg"/>
  <Override PartName="/ppt/media/image14.png" ContentType="image/png"/>
  <Override PartName="/ppt/media/image16.png" ContentType="image/pn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jpeg" ContentType="image/jpeg"/>
  <Override PartName="/ppt/media/image18.png" ContentType="image/png"/>
  <Override PartName="/ppt/media/image7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04684-2998-4262-9421-2E95D2B69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A43AA-2885-46D7-9421-B84DC9171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464B2-9C02-4473-A3B7-037F03AC8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16929-0687-489F-93C1-181FDA8EB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F2681-344A-41DD-8A79-DCE2DDAF5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B93AD-A68B-4292-BAEB-AB6DC4F49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5687D-440C-4919-85C9-689B615F9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518DA-C033-4DE2-A52E-099C6B86D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3814B-AB2A-4E9C-86B0-D8EDDBF49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52C0F-E2AE-41DD-ABA2-6DC687DD5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3A16C-71B7-4B76-9F78-2C3C7A81D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9863A-800E-4B5F-91B1-8F58A14FF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97406-B488-44AD-96DB-6173A9B65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26524-50BF-44D2-AA83-34C996F2E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EBF67-5EF7-42F4-A38D-25FA9DDDF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D42AA-6E4E-40F8-AE00-E9C79B32A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F62CF-44FD-4182-8B26-7D773AA20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7A712-3B7E-4CBA-8F02-23DD8A81D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0F60C-6F1F-438C-B184-620392E25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49910-D2B3-4EA6-AC7A-7811FC38E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26B75-F499-4AED-B8B7-0339229F6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6941F-55AB-46D6-A2C7-8F57686A5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423BC-DFA2-4FAD-BA82-C97F9762C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46085-2F77-4F7B-96A6-83613D17A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V.Quitr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Universidad de Ch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5E7B5-4A8F-483F-9CF5-842E14042598}" type="slidenum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6" name="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62120" y="1709640"/>
              <a:ext cx="7696080" cy="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1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i="1" lang="en-US" sz="41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V.Quitr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Universidad de Ch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857640" y="639144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88319-F66A-4245-ACE3-C88434689634}" type="slidenum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es.google.es/imgres?imgurl=http://www.alimentacion-sana.com.ar/Portal%2520nuevo/imagenesplanillas/originales/alimentos%2520combinados.jpg&amp;imgrefurl=http://www.alimentacion-sana.com.ar/Portal%2520nuevo/actualizaciones/La%2520combinacion%2520alimentos.htm&amp;h=374&amp;w=300&amp;sz=19&amp;hl=es&amp;start=4&amp;tbnid=jBTSZpSazXcEnM:&amp;tbnh=122&amp;tbnw=98&amp;prev=/images%3Fq%3Dalimentos%26svnum%3D10%26hl%3Des%26lr%3Dlang_es%26sa%3DN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google.es/imgres?imgurl=http://www.tusalud.com.mx/images/botulismo.jpg&amp;imgrefurl=http://www.tusalud.com.mx/120670.HTM&amp;h=177&amp;w=295&amp;sz=14&amp;hl=es&amp;start=9&amp;tbnid=i1YuoCqiTqTC8M:&amp;tbnh=69&amp;tbnw=115&amp;prev=/images%3Fq%3Dalimentos%2Bprocesados%26svnum%3D10%26hl%3Des%26lr%3Dlang_es" TargetMode="External"/><Relationship Id="rId2" Type="http://schemas.openxmlformats.org/officeDocument/2006/relationships/image" Target="../media/image2.jpeg"/><Relationship Id="rId3" Type="http://schemas.openxmlformats.org/officeDocument/2006/relationships/hyperlink" Target="http://images.google.es/imgres?imgurl=http://www.rree.gob.sv/segundaferia/imagenes/sectores1.gif&amp;imgrefurl=http://www.rree.gob.sv/segundaferia/index.htm&amp;h=148&amp;w=152&amp;sz=13&amp;hl=es&amp;start=12&amp;tbnid=ron8KfSXrE0JeM:&amp;tbnh=93&amp;tbnw=96&amp;prev=/images%3Fq%3Dalimentos%2Bprocesados%26svnum%3D10%26hl%3Des%26lr%3Dlang_es" TargetMode="External"/><Relationship Id="rId4" Type="http://schemas.openxmlformats.org/officeDocument/2006/relationships/image" Target="../media/image3.jpeg"/><Relationship Id="rId5" Type="http://schemas.openxmlformats.org/officeDocument/2006/relationships/hyperlink" Target="http://images.google.es/imgres?imgurl=http://www.proamazonia.gob.pe/bpa/images/trazabilidad_alimentos.gif&amp;imgrefurl=http://www.proamazonia.gob.pe/bpa/trazabilidad.htm&amp;h=207&amp;w=307&amp;sz=51&amp;hl=es&amp;start=2&amp;tbnid=jjL46qSYH33OPM:&amp;tbnh=79&amp;tbnw=117&amp;prev=/images%3Fq%3Dalimentos%2Bprocesados%26svnum%3D10%26hl%3Des%26lr%3Dlang_es" TargetMode="External"/><Relationship Id="rId6" Type="http://schemas.openxmlformats.org/officeDocument/2006/relationships/image" Target="../media/image4.jpeg"/><Relationship Id="rId7" Type="http://schemas.openxmlformats.org/officeDocument/2006/relationships/hyperlink" Target="http://images.google.es/imgres?imgurl=http://www.sagan-gea.org/hojared_radiacion/imagenes/radiaciongamma2.jpg&amp;imgrefurl=http://www.sagan-gea.org/hojared_radiacion/paginas/Radiaci%25F3n_de_alimentos.html&amp;h=257&amp;w=374&amp;sz=33&amp;hl=es&amp;start=4&amp;tbnid=F9PfMKkO-ZibdM:&amp;tbnh=84&amp;tbnw=122&amp;prev=/images%3Fq%3Dalimentos%2Bprocesados%26svnum%3D10%26hl%3Des%26lr%3Dlang_es" TargetMode="External"/><Relationship Id="rId8" Type="http://schemas.openxmlformats.org/officeDocument/2006/relationships/image" Target="../media/image5.jpeg"/><Relationship Id="rId9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google.es/imgres?imgurl=http://www.terra.com.mx/Galeria_de_fotos/images/131/261772.jpg&amp;imgrefurl=http://www.terra.com.mx/sportlife/articulo/173890/&amp;h=289&amp;w=214&amp;sz=40&amp;hl=es&amp;start=1&amp;tbnid=iydxMXovSGzLVM:&amp;tbnh=115&amp;tbnw=85&amp;prev=/images%3Fq%3Dalimentos%2Bprocesados%26svnum%3D10%26hl%3Des%26lr%3Dlang_es" TargetMode="External"/><Relationship Id="rId2" Type="http://schemas.openxmlformats.org/officeDocument/2006/relationships/image" Target="../media/image6.jpeg"/><Relationship Id="rId3" Type="http://schemas.openxmlformats.org/officeDocument/2006/relationships/hyperlink" Target="http://images.google.es/imgres?imgurl=http://www.alimentacion-sana.com.ar/Portal%2520nuevo/imagenesplanillas/originales/alimentos%2520combinados.jpg&amp;imgrefurl=http://www.alimentacion-sana.com.ar/Portal%2520nuevo/actualizaciones/La%2520combinacion%2520alimentos.htm&amp;h=374&amp;w=300&amp;sz=19&amp;hl=es&amp;start=4&amp;tbnid=jBTSZpSazXcEnM:&amp;tbnh=122&amp;tbnw=98&amp;prev=/images%3Fq%3Dalimentos%2B%26svnum%3D10%26hl%3Des%26lr%3Dlang_es%26sa%3DG" TargetMode="External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google.es/imgres?imgurl=http://www.reteteculinare.ro/forum/files/ingrediente_855.jpeg&amp;imgrefurl=http://www.reteteculinare.ro/forum/discutii/chec_preferat_de_mine-533/&amp;h=450&amp;w=600&amp;sz=162&amp;hl=es&amp;start=10&amp;tbnid=A4hxvSoVLsR15M:&amp;tbnh=101&amp;tbnw=135&amp;prev=/images%3Fq%3Dingrediente%26svnum%3D10%26hl%3Des%26lr%3D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100" spc="-1" strike="noStrike">
                <a:solidFill>
                  <a:srgbClr val="336666"/>
                </a:solidFill>
                <a:latin typeface="Arial Black"/>
              </a:rPr>
              <a:t>Tecnología de Alimentos </a:t>
            </a:r>
            <a:endParaRPr b="0" i="1" lang="en-US" sz="41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752120" y="3566880"/>
            <a:ext cx="54104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300" spc="-1" strike="noStrike">
                <a:solidFill>
                  <a:srgbClr val="000000"/>
                </a:solidFill>
                <a:latin typeface="Arial"/>
              </a:rPr>
              <a:t>Métodos de conservación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336666"/>
                </a:solidFill>
                <a:latin typeface="Arial Black"/>
              </a:rPr>
              <a:t>Alimento alterado</a:t>
            </a:r>
            <a:endParaRPr b="0" lang="en-US" sz="26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100" spc="-1" strike="noStrike">
                <a:solidFill>
                  <a:srgbClr val="000000"/>
                </a:solidFill>
                <a:latin typeface="Arial"/>
              </a:rPr>
              <a:t>es aquel que por </a:t>
            </a:r>
            <a:r>
              <a:rPr b="0" lang="es-CL" sz="3100" spc="-1" strike="noStrike" u="sng">
                <a:solidFill>
                  <a:srgbClr val="336666"/>
                </a:solidFill>
                <a:uFillTx/>
                <a:latin typeface="Arial"/>
              </a:rPr>
              <a:t>causas naturales</a:t>
            </a:r>
            <a:r>
              <a:rPr b="0" lang="es-CL" sz="3100" spc="-1" strike="noStrike">
                <a:solidFill>
                  <a:srgbClr val="000000"/>
                </a:solidFill>
                <a:latin typeface="Arial"/>
              </a:rPr>
              <a:t> de índole física, química o biológica, o por causas derivadas de tratamientos tecnológicos, aisladas o combinadas, ha sufrido modificación o deterioro en sus características organolépticas, en composición y/o valor nutritivo.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771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Arial"/>
              </a:rPr>
              <a:t>Ejemplo: pardeamiento de papas, rancidez de grasa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5508720" y="1773360"/>
            <a:ext cx="1768320" cy="244764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2790720" y="3473280"/>
            <a:ext cx="1611360" cy="20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336666"/>
                </a:solidFill>
                <a:latin typeface="Arial Black"/>
              </a:rPr>
              <a:t>Alimento adulterado</a:t>
            </a:r>
            <a:endParaRPr b="0" lang="en-US" sz="30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0" y="980640"/>
            <a:ext cx="88200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es aquel que ha experimentado por </a:t>
            </a:r>
            <a:r>
              <a:rPr b="1" lang="es-CL" sz="2400" spc="-1" strike="noStrike" u="sng">
                <a:solidFill>
                  <a:srgbClr val="336666"/>
                </a:solidFill>
                <a:uFillTx/>
                <a:latin typeface="Arial"/>
              </a:rPr>
              <a:t>intervención del hombre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, cambios que le modifican sus características o cualidades propias tales como</a:t>
            </a:r>
            <a:r>
              <a:rPr b="0" lang="es-CL" sz="31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0000"/>
                </a:solidFill>
                <a:latin typeface="Arial"/>
              </a:rPr>
              <a:t>i.</a:t>
            </a: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La extracción parcial o total de cualquiera de los componentes del producto original.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Ejemplo: leche descremada por leche enter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La sustitución parcial o total de cualquiera de los componentes del producto original por otros inertes o extraños, incluida la adición de agua u otro material de relleno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. Ejemplo: leche recombinada con grasa extraña por leche entera, leche aguada, pimentón con afrech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La mezcla, coloración, pulverización o encubrimiento, de tal forma que se oculte su inferioridad o disminuya su pureza.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Ejemplo: pimentón decolorado con tinción con un coloran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608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336666"/>
                </a:solidFill>
                <a:latin typeface="Arial Black"/>
              </a:rPr>
              <a:t>Alimento falsificado</a:t>
            </a:r>
            <a:endParaRPr b="0" lang="en-US" sz="26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0" y="1700280"/>
            <a:ext cx="91440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Arial"/>
              </a:rPr>
              <a:t>Se designa, rotula o expenda con nombre o calificativo que no corresponda a su origen, identidad, valor nutritivo o estimulante; (Ej. Margarina por mantequilla, sucedáneos del café por café, jurel tipo salmón) 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Arial"/>
              </a:rPr>
              <a:t>Cuyo envase, rótulo o anuncio, contenga cualquier diseño o declaración ambigua, falsa o que pueda inducir a error, respecto a los ingredientes que componen el alimento. Ejemplo: figura de olivas, si el aceite es de maravilla; Pisco elaborado en zona diferente del Norte Chico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336666"/>
                </a:solidFill>
                <a:latin typeface="Arial Black"/>
              </a:rPr>
              <a:t>Alimento contaminado</a:t>
            </a:r>
            <a:endParaRPr b="0" lang="en-US" sz="26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8686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Arial"/>
              </a:rPr>
              <a:t>es aquel que contenga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Microorganismos, virus y/o parásitos, sustancias extrañas o deletéreas de origen mineral, orgánico o biológico, sustancias radioactivas y/o sustancias tóxicas en cantidades superiores a las permitidas en las normas vigentes, o que se presuman nocivas para la salud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Arial"/>
              </a:rPr>
              <a:t>Ejemplo: metales pesados (plomo, mercurio, cadmio, etc.)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Arial"/>
              </a:rPr>
              <a:t>Cualquier tipo de suciedad, restos o excrementos. ·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Arial"/>
              </a:rPr>
              <a:t>Aditivos no autorizados por las normas vigentes o en cantidades superiores a las permitidas. ·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336666"/>
                </a:solidFill>
                <a:latin typeface="Arial Black"/>
              </a:rPr>
              <a:t>3. Según la tecnología aplicada en su elaboración.</a:t>
            </a:r>
            <a:endParaRPr b="0" lang="en-US" sz="26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100" spc="-1" strike="noStrike">
                <a:solidFill>
                  <a:srgbClr val="000000"/>
                </a:solidFill>
                <a:latin typeface="Arial"/>
              </a:rPr>
              <a:t>3.1. Temperatura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100" spc="-1" strike="noStrike">
                <a:solidFill>
                  <a:srgbClr val="000000"/>
                </a:solidFill>
                <a:latin typeface="Arial"/>
              </a:rPr>
              <a:t>3.2. Aw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100" spc="-1" strike="noStrike">
                <a:solidFill>
                  <a:srgbClr val="000000"/>
                </a:solidFill>
                <a:latin typeface="Arial"/>
              </a:rPr>
              <a:t>3.3. pH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100" spc="-1" strike="noStrike">
                <a:solidFill>
                  <a:srgbClr val="000000"/>
                </a:solidFill>
                <a:latin typeface="Arial"/>
              </a:rPr>
              <a:t>3.4. Sustancias inhibidora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100" spc="-1" strike="noStrike">
                <a:solidFill>
                  <a:srgbClr val="000000"/>
                </a:solidFill>
                <a:latin typeface="Arial"/>
              </a:rPr>
              <a:t>3.5. Métodos combinado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100" spc="-1" strike="noStrike">
                <a:solidFill>
                  <a:srgbClr val="000000"/>
                </a:solidFill>
                <a:latin typeface="Arial"/>
              </a:rPr>
              <a:t>3.6. Métodos no tradicionales y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1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s-ES_tradnl" sz="3100" spc="-1" strike="noStrike">
                <a:solidFill>
                  <a:srgbClr val="000000"/>
                </a:solidFill>
                <a:latin typeface="Arial"/>
              </a:rPr>
              <a:t>emergente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227320" y="981000"/>
            <a:ext cx="462132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6" name=""/>
          <p:cNvGraphicFramePr/>
          <p:nvPr/>
        </p:nvGraphicFramePr>
        <p:xfrm>
          <a:off x="2400480" y="1900080"/>
          <a:ext cx="5124240" cy="3606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00480" y="1900080"/>
                    <a:ext cx="5124240" cy="360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2266920" y="2100240"/>
            <a:ext cx="532944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790200" y="1147320"/>
            <a:ext cx="24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324000" y="549360"/>
          <a:ext cx="8569080" cy="6211800"/>
        </p:xfrm>
        <a:graphic>
          <a:graphicData uri="http://schemas.openxmlformats.org/drawingml/2006/table">
            <a:tbl>
              <a:tblPr/>
              <a:tblGrid>
                <a:gridCol w="2857320"/>
                <a:gridCol w="2854440"/>
                <a:gridCol w="2857320"/>
              </a:tblGrid>
              <a:tr h="1217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cción microorganismos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a9a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d0e8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scomposición proteica (mal olor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edaba"/>
                    </a:solidFill>
                  </a:tcPr>
                </a:tc>
              </a:tr>
              <a:tr h="1582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mbios físicos y químicos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1fb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LTERACIÓN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d0e8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ermentación glúcidos (sabor picante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c9cae"/>
                    </a:solidFill>
                  </a:tcPr>
                </a:tc>
              </a:tr>
              <a:tr h="1217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cción enzimática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2f9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L ALIMENTO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d0e8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d0e8e7"/>
                    </a:solidFill>
                  </a:tcPr>
                </a:tc>
              </a:tr>
              <a:tr h="979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ntaminación sust. extrañas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dd8f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d0e8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nranciamiento de las grasas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cfeba"/>
                    </a:solidFill>
                  </a:tcPr>
                </a:tc>
              </a:tr>
              <a:tr h="121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cción vectores de germenes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a9a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d0e8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xidación de las vitaminas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0bdfb"/>
                    </a:solidFill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5229000" y="4581000"/>
            <a:ext cx="24012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914400" y="277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300" spc="-1" strike="noStrike">
                <a:solidFill>
                  <a:srgbClr val="336666"/>
                </a:solidFill>
                <a:latin typeface="Arial Black"/>
              </a:rPr>
              <a:t>La Ciencia de los Alimento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914400" y="1600200"/>
            <a:ext cx="380988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000000"/>
                </a:solidFill>
                <a:latin typeface="Arial"/>
              </a:rPr>
              <a:t>Estructur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000000"/>
                </a:solidFill>
                <a:latin typeface="Arial"/>
              </a:rPr>
              <a:t>Composició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000000"/>
                </a:solidFill>
                <a:latin typeface="Arial"/>
              </a:rPr>
              <a:t>Propiedades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716360" y="450864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ALIMEN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635280" y="1628640"/>
            <a:ext cx="360360" cy="1656000"/>
          </a:xfrm>
          <a:custGeom>
            <a:avLst/>
            <a:gdLst>
              <a:gd name="textAreaLeft" fmla="*/ 0 w 360360"/>
              <a:gd name="textAreaRight" fmla="*/ 129960 w 360360"/>
              <a:gd name="textAreaTop" fmla="*/ 42840 h 1656000"/>
              <a:gd name="textAreaBottom" fmla="*/ 1613160 h 165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140360" y="2419200"/>
            <a:ext cx="1800000" cy="1730520"/>
          </a:xfrm>
          <a:custGeom>
            <a:avLst/>
            <a:gdLst/>
            <a:ahLst/>
            <a:rect l="l" t="t" r="r" b="b"/>
            <a:pathLst>
              <a:path w="1134" h="1090">
                <a:moveTo>
                  <a:pt x="0" y="1"/>
                </a:moveTo>
                <a:cubicBezTo>
                  <a:pt x="291" y="0"/>
                  <a:pt x="582" y="0"/>
                  <a:pt x="771" y="182"/>
                </a:cubicBezTo>
                <a:cubicBezTo>
                  <a:pt x="960" y="364"/>
                  <a:pt x="1047" y="727"/>
                  <a:pt x="1134" y="109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940360" y="414972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47640" y="3500280"/>
            <a:ext cx="1455840" cy="18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77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" dur="770" fill="hold"/>
                                        <p:tgtEl>
                                          <p:spTgt spid="9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3" dur="77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5" dur="77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336666"/>
                </a:solidFill>
                <a:latin typeface="Arial Black"/>
              </a:rPr>
              <a:t>Vida útil</a:t>
            </a:r>
            <a:endParaRPr b="0" lang="en-US" sz="2100" spc="-1" strike="noStrike">
              <a:solidFill>
                <a:srgbClr val="336666"/>
              </a:solidFill>
              <a:latin typeface="Arial Black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457200" y="1197000"/>
          <a:ext cx="8229600" cy="4917960"/>
        </p:xfrm>
        <a:graphic>
          <a:graphicData uri="http://schemas.openxmlformats.org/drawingml/2006/table">
            <a:tbl>
              <a:tblPr/>
              <a:tblGrid>
                <a:gridCol w="3970440"/>
                <a:gridCol w="4259160"/>
              </a:tblGrid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imento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7cd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ías de almacenamiento a 21º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7cdcc"/>
                    </a:solidFill>
                  </a:tcPr>
                </a:tc>
              </a:tr>
              <a:tr h="46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7cd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– 2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7cdcc"/>
                    </a:solidFill>
                  </a:tcPr>
                </a:tc>
              </a:tr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scad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7cd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– 2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7cdcc"/>
                    </a:solidFill>
                  </a:tcPr>
                </a:tc>
              </a:tr>
              <a:tr h="46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7cd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– 2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7cdcc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ne y pescado desecado, salado o ahumad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7cd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0 o más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7cdcc"/>
                    </a:solidFill>
                  </a:tcPr>
                </a:tc>
              </a:tr>
              <a:tr h="46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ut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7cd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– 7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7cdcc"/>
                    </a:solidFill>
                  </a:tcPr>
                </a:tc>
              </a:tr>
              <a:tr h="46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utas sec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7cd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0 o más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7cdcc"/>
                    </a:solidFill>
                  </a:tcPr>
                </a:tc>
              </a:tr>
              <a:tr h="46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rtalizas de hojas verd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7cd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– 2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7cdcc"/>
                    </a:solidFill>
                  </a:tcPr>
                </a:tc>
              </a:tr>
              <a:tr h="46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íc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7cd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 – 2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7cdcc"/>
                    </a:solidFill>
                  </a:tcPr>
                </a:tc>
              </a:tr>
              <a:tr h="46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millas sec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7cd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0 o más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7cd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336666"/>
                </a:solidFill>
                <a:latin typeface="Arial Black"/>
              </a:rPr>
              <a:t>Factores que influyen en el desarrollo microbiano</a:t>
            </a:r>
            <a:endParaRPr b="0" lang="en-US" sz="29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74"/>
              </a:spcBef>
              <a:buClr>
                <a:srgbClr val="cccc99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100" spc="-1" strike="noStrike">
                <a:solidFill>
                  <a:srgbClr val="000000"/>
                </a:solidFill>
                <a:latin typeface="Arial"/>
              </a:rPr>
              <a:t>pH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74"/>
              </a:spcBef>
              <a:buClr>
                <a:srgbClr val="cccc99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100" spc="-1" strike="noStrike">
                <a:solidFill>
                  <a:srgbClr val="000000"/>
                </a:solidFill>
                <a:latin typeface="Arial"/>
              </a:rPr>
              <a:t>Agua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74"/>
              </a:spcBef>
              <a:buClr>
                <a:srgbClr val="cccc99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100" spc="-1" strike="noStrike">
                <a:solidFill>
                  <a:srgbClr val="000000"/>
                </a:solidFill>
                <a:latin typeface="Arial"/>
              </a:rPr>
              <a:t>Potencial oxido-reducción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74"/>
              </a:spcBef>
              <a:buClr>
                <a:srgbClr val="cccc99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100" spc="-1" strike="noStrike">
                <a:solidFill>
                  <a:srgbClr val="000000"/>
                </a:solidFill>
                <a:latin typeface="Arial"/>
              </a:rPr>
              <a:t>Sustancias inhibidora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74"/>
              </a:spcBef>
              <a:buClr>
                <a:srgbClr val="cccc99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100" spc="-1" strike="noStrike">
                <a:solidFill>
                  <a:srgbClr val="000000"/>
                </a:solidFill>
                <a:latin typeface="Arial"/>
              </a:rPr>
              <a:t>Temperatura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300" spc="-1" strike="noStrike">
                <a:solidFill>
                  <a:srgbClr val="336666"/>
                </a:solidFill>
                <a:latin typeface="Arial Black"/>
              </a:rPr>
              <a:t>pH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006666"/>
                </a:solidFill>
                <a:latin typeface="Tahoma"/>
              </a:rPr>
              <a:t>Valores de pH necesario para crecimiento de m.o.</a:t>
            </a:r>
            <a:endParaRPr b="0" lang="en-US" sz="25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685800" y="2057400"/>
          <a:ext cx="7772400" cy="3963960"/>
        </p:xfrm>
        <a:graphic>
          <a:graphicData uri="http://schemas.openxmlformats.org/drawingml/2006/table">
            <a:tbl>
              <a:tblPr/>
              <a:tblGrid>
                <a:gridCol w="4664160"/>
                <a:gridCol w="1552320"/>
                <a:gridCol w="1555920"/>
              </a:tblGrid>
              <a:tr h="79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rganismo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c8e4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ínimo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c8e4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áximo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c8e4e3"/>
                    </a:solidFill>
                  </a:tcPr>
                </a:tc>
              </a:tr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scherichia coli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e4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.3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e4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.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e4e3"/>
                    </a:solidFill>
                  </a:tcPr>
                </a:tc>
              </a:tr>
              <a:tr h="79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almonella typhi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e4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.5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e4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.6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e4e3"/>
                    </a:solidFill>
                  </a:tcPr>
                </a:tc>
              </a:tr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hos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e4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5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e4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.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e4e3"/>
                    </a:solidFill>
                  </a:tcPr>
                </a:tc>
              </a:tr>
              <a:tr h="79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evaduras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c8e4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5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c8e4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.5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c8e4e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006666"/>
                </a:solidFill>
                <a:latin typeface="Tahoma"/>
              </a:rPr>
              <a:t>Valores aproximados de pH de alimentos</a:t>
            </a:r>
            <a:endParaRPr b="0" lang="en-US" sz="25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762120" y="2057400"/>
          <a:ext cx="7696080" cy="4038480"/>
        </p:xfrm>
        <a:graphic>
          <a:graphicData uri="http://schemas.openxmlformats.org/drawingml/2006/table">
            <a:tbl>
              <a:tblPr/>
              <a:tblGrid>
                <a:gridCol w="5562360"/>
                <a:gridCol w="2133720"/>
              </a:tblGrid>
              <a:tr h="67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ipo de alimentos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33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ff9933"/>
                      </a:solidFill>
                    </a:lnT>
                    <a:lnB w="13680">
                      <a:solidFill>
                        <a:srgbClr val="ff9933"/>
                      </a:solidFill>
                    </a:lnB>
                    <a:solidFill>
                      <a:srgbClr val="c8e4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H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9933"/>
                      </a:solidFill>
                    </a:lnR>
                    <a:lnT w="13680">
                      <a:solidFill>
                        <a:srgbClr val="ff9933"/>
                      </a:solidFill>
                    </a:lnT>
                    <a:lnB w="13680">
                      <a:solidFill>
                        <a:srgbClr val="ff9933"/>
                      </a:solidFill>
                    </a:lnB>
                    <a:solidFill>
                      <a:srgbClr val="c8e4e3"/>
                    </a:solidFill>
                  </a:tcPr>
                </a:tc>
              </a:tr>
              <a:tr h="67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erduras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33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ff9933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e4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.2 – 6.5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9933"/>
                      </a:solidFill>
                    </a:lnR>
                    <a:lnT w="13680">
                      <a:solidFill>
                        <a:srgbClr val="ff9933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e4e3"/>
                    </a:solidFill>
                  </a:tcPr>
                </a:tc>
              </a:tr>
              <a:tr h="67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rutas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33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e4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0 – 4.5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9933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e4e3"/>
                    </a:solidFill>
                  </a:tcPr>
                </a:tc>
              </a:tr>
              <a:tr h="67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arnes y aves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33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e4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.1 – 6.4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9933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e4e3"/>
                    </a:solidFill>
                  </a:tcPr>
                </a:tc>
              </a:tr>
              <a:tr h="67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escados y mariscos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33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e4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.5 – 7.0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9933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e4e3"/>
                    </a:solidFill>
                  </a:tcPr>
                </a:tc>
              </a:tr>
              <a:tr h="67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oductos lácteos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33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ff9933"/>
                      </a:solidFill>
                    </a:lnB>
                    <a:solidFill>
                      <a:srgbClr val="c8e4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.0 – 6.5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9933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ff9933"/>
                      </a:solidFill>
                    </a:lnB>
                    <a:solidFill>
                      <a:srgbClr val="c8e4e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336666"/>
                </a:solidFill>
                <a:latin typeface="Tahoma"/>
              </a:rPr>
              <a:t>Clasificación de alimentos según pH</a:t>
            </a:r>
            <a:endParaRPr b="0" lang="en-US" sz="25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152280" y="907920"/>
          <a:ext cx="8991720" cy="6375240"/>
        </p:xfrm>
        <a:graphic>
          <a:graphicData uri="http://schemas.openxmlformats.org/drawingml/2006/table">
            <a:tbl>
              <a:tblPr/>
              <a:tblGrid>
                <a:gridCol w="2105280"/>
                <a:gridCol w="1296720"/>
                <a:gridCol w="3341880"/>
                <a:gridCol w="2247840"/>
              </a:tblGrid>
              <a:tr h="83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lasificación de la acide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e4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or de p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e4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liment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e4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rupos de aliment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e4e3"/>
                    </a:solidFill>
                  </a:tcPr>
                </a:tc>
              </a:tr>
              <a:tr h="285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aja acide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cc00cc"/>
                      </a:solidFill>
                    </a:lnB>
                    <a:solidFill>
                      <a:srgbClr val="c8e4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cc00cc"/>
                      </a:solidFill>
                    </a:lnB>
                    <a:solidFill>
                      <a:srgbClr val="c8e4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ceitunas, huevos, leche, maiz, pollos, bacalao, sardina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uisantes, zanahorias, espárragos, papa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ig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cc00cc"/>
                      </a:solidFill>
                    </a:lnB>
                    <a:solidFill>
                      <a:srgbClr val="c8e4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ar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escad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ech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v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ortaliz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cc00cc"/>
                      </a:solidFill>
                    </a:lnB>
                    <a:solidFill>
                      <a:srgbClr val="c8e4e3"/>
                    </a:solidFill>
                  </a:tcPr>
                </a:tc>
              </a:tr>
              <a:tr h="268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lta acide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cc00cc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e4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cc00cc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e4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ebollas, tomates, peras, durazno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iña, manzana, fresa, jugo de naranja, berr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Jugo de lim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cc00cc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e4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rut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cc00cc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e4e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300" spc="-1" strike="noStrike">
                <a:solidFill>
                  <a:srgbClr val="336666"/>
                </a:solidFill>
                <a:latin typeface="Arial Black"/>
              </a:rPr>
              <a:t>Agua 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ae6e5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100" spc="-1" strike="noStrike">
                <a:solidFill>
                  <a:srgbClr val="000000"/>
                </a:solidFill>
                <a:latin typeface="Arial"/>
              </a:rPr>
              <a:t>Microorganismos necesitan agua para su crecimiento </a:t>
            </a:r>
            <a:r>
              <a:rPr b="0" lang="es-ES_tradnl" sz="31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Solvente de nutrientes para permitir su transporte y disponibilidad en el citoplasm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Agente químico que interviene en las reacciones hidrolíticas que dan lugar a monómereos, necesarios para la síntesis microbiana y para las reacciones energétic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684360" y="2637000"/>
            <a:ext cx="3600360" cy="1871640"/>
          </a:xfrm>
          <a:prstGeom prst="rect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300" spc="-1" strike="noStrike">
                <a:solidFill>
                  <a:srgbClr val="336666"/>
                </a:solidFill>
                <a:latin typeface="Arial Black"/>
              </a:rPr>
              <a:t>Actividad de agua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100" spc="-1" strike="noStrike">
                <a:solidFill>
                  <a:srgbClr val="000000"/>
                </a:solidFill>
                <a:latin typeface="Arial"/>
              </a:rPr>
              <a:t>Aw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_tradnl" sz="3100" spc="-1" strike="noStrike">
                <a:solidFill>
                  <a:srgbClr val="000000"/>
                </a:solidFill>
                <a:latin typeface="Arial"/>
              </a:rPr>
              <a:t>Aw = </a:t>
            </a:r>
            <a:r>
              <a:rPr b="0" lang="es-ES_tradnl" sz="3100" spc="-1" strike="noStrike" u="sng">
                <a:solidFill>
                  <a:srgbClr val="000000"/>
                </a:solidFill>
                <a:uFillTx/>
                <a:latin typeface="Arial"/>
              </a:rPr>
              <a:t>Px </a:t>
            </a:r>
            <a:r>
              <a:rPr b="0" lang="es-ES_tradnl" sz="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1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s-ES_tradnl" sz="3100" spc="-1" strike="noStrike">
                <a:solidFill>
                  <a:srgbClr val="000000"/>
                </a:solidFill>
                <a:latin typeface="Arial"/>
              </a:rPr>
              <a:t>Po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743120" y="2637000"/>
            <a:ext cx="2468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8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336666"/>
                </a:solidFill>
                <a:latin typeface="Tahoma"/>
              </a:rPr>
              <a:t>Valores mínimos de Aw necesarios para el crecimiento de m.o.</a:t>
            </a:r>
            <a:r>
              <a:rPr b="0" lang="es-MX" sz="2500" spc="-1" strike="noStrike">
                <a:solidFill>
                  <a:srgbClr val="336666"/>
                </a:solidFill>
                <a:latin typeface="Tahoma"/>
              </a:rPr>
              <a:t> </a:t>
            </a:r>
            <a:endParaRPr b="0" lang="en-US" sz="25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304920" y="1268280"/>
          <a:ext cx="8012160" cy="5247000"/>
        </p:xfrm>
        <a:graphic>
          <a:graphicData uri="http://schemas.openxmlformats.org/drawingml/2006/table">
            <a:tbl>
              <a:tblPr/>
              <a:tblGrid>
                <a:gridCol w="6076800"/>
                <a:gridCol w="1935360"/>
              </a:tblGrid>
              <a:tr h="60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rganism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6699"/>
                      </a:solidFill>
                    </a:lnL>
                    <a:lnR w="13680">
                      <a:solidFill>
                        <a:srgbClr val="ff6699"/>
                      </a:solidFill>
                    </a:lnR>
                    <a:lnT w="13680">
                      <a:solidFill>
                        <a:srgbClr val="ff6699"/>
                      </a:solidFill>
                    </a:lnT>
                    <a:lnB w="13680">
                      <a:solidFill>
                        <a:srgbClr val="ff6699"/>
                      </a:solidFill>
                    </a:lnB>
                    <a:solidFill>
                      <a:srgbClr val="c8e4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w míni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6699"/>
                      </a:solidFill>
                    </a:lnL>
                    <a:lnR w="13680">
                      <a:solidFill>
                        <a:srgbClr val="ff6699"/>
                      </a:solidFill>
                    </a:lnR>
                    <a:lnT w="13680">
                      <a:solidFill>
                        <a:srgbClr val="ff6699"/>
                      </a:solidFill>
                    </a:lnT>
                    <a:lnB w="13680">
                      <a:solidFill>
                        <a:srgbClr val="ff6699"/>
                      </a:solidFill>
                    </a:lnB>
                    <a:solidFill>
                      <a:srgbClr val="c8e4e3"/>
                    </a:solidFill>
                  </a:tcPr>
                </a:tc>
              </a:tr>
              <a:tr h="294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rup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  </a:t>
                      </a: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acterias alterador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  </a:t>
                      </a: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evaduras alterador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  </a:t>
                      </a: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hos alterador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  </a:t>
                      </a: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acterias halofílic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  </a:t>
                      </a: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hos xerofílic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  </a:t>
                      </a: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evaduras osmofílic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6699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ff6699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e4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.9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.8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.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.7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.6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.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ff6699"/>
                      </a:solidFill>
                    </a:lnR>
                    <a:lnT w="13680">
                      <a:solidFill>
                        <a:srgbClr val="ff6699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8e4e3"/>
                    </a:solidFill>
                  </a:tcPr>
                </a:tc>
              </a:tr>
              <a:tr h="169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rganismos específic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  </a:t>
                      </a:r>
                      <a:r>
                        <a:rPr b="1" i="1" lang="es-MX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lostridium botulinu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MX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  </a:t>
                      </a:r>
                      <a:r>
                        <a:rPr b="1" i="1" lang="es-MX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scherichia col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MX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  </a:t>
                      </a:r>
                      <a:r>
                        <a:rPr b="1" i="1" lang="es-MX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aphylococcus aureu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6699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ff6699"/>
                      </a:solidFill>
                    </a:lnB>
                    <a:solidFill>
                      <a:srgbClr val="c8e4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.9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.9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.8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ff6699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3680">
                      <a:solidFill>
                        <a:srgbClr val="ff6699"/>
                      </a:solidFill>
                    </a:lnB>
                    <a:solidFill>
                      <a:srgbClr val="c8e4e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62120" y="67680"/>
            <a:ext cx="7696080" cy="5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2900" spc="-1" strike="noStrike">
              <a:solidFill>
                <a:srgbClr val="336666"/>
              </a:solidFill>
              <a:latin typeface="Arial Black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457200" y="549360"/>
          <a:ext cx="8229600" cy="58323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53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imento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7cdcc"/>
                        </a:gs>
                        <a:gs pos="100000">
                          <a:srgbClr val="ffffff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w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7cdcc"/>
                        </a:gs>
                        <a:gs pos="100000">
                          <a:srgbClr val="ffffff"/>
                        </a:gs>
                      </a:gsLst>
                      <a:lin ang="8100000"/>
                    </a:gradFill>
                  </a:tcPr>
                </a:tc>
              </a:tr>
              <a:tr h="52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ne de vacu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7cdcc"/>
                        </a:gs>
                        <a:gs pos="100000">
                          <a:srgbClr val="ffffff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990 – 0.9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7cdcc"/>
                        </a:gs>
                        <a:gs pos="100000">
                          <a:srgbClr val="ffffff"/>
                        </a:gs>
                      </a:gsLst>
                      <a:lin ang="8100000"/>
                    </a:gradFill>
                  </a:tcPr>
                </a:tc>
              </a:tr>
              <a:tr h="53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ne de cerd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7cdcc"/>
                        </a:gs>
                        <a:gs pos="100000">
                          <a:srgbClr val="ffffff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99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7cdcc"/>
                        </a:gs>
                        <a:gs pos="100000">
                          <a:srgbClr val="ffffff"/>
                        </a:gs>
                      </a:gsLst>
                      <a:lin ang="8100000"/>
                    </a:gradFill>
                  </a:tcPr>
                </a:tc>
              </a:tr>
              <a:tr h="53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scad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7cdcc"/>
                        </a:gs>
                        <a:gs pos="100000">
                          <a:srgbClr val="ffffff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994 – 0.99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7cdcc"/>
                        </a:gs>
                        <a:gs pos="100000">
                          <a:srgbClr val="ffffff"/>
                        </a:gs>
                      </a:gsLst>
                      <a:lin ang="8100000"/>
                    </a:gradFill>
                  </a:tcPr>
                </a:tc>
              </a:tr>
              <a:tr h="53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cin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7cdcc"/>
                        </a:gs>
                        <a:gs pos="100000">
                          <a:srgbClr val="ffffff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950 – 0.8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7cdcc"/>
                        </a:gs>
                        <a:gs pos="100000">
                          <a:srgbClr val="ffffff"/>
                        </a:gs>
                      </a:gsLst>
                      <a:lin ang="8100000"/>
                    </a:gradFill>
                  </a:tcPr>
                </a:tc>
              </a:tr>
              <a:tr h="53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ch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7cdcc"/>
                        </a:gs>
                        <a:gs pos="100000">
                          <a:srgbClr val="ffffff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99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7cdcc"/>
                        </a:gs>
                        <a:gs pos="100000">
                          <a:srgbClr val="ffffff"/>
                        </a:gs>
                      </a:gsLst>
                      <a:lin ang="8100000"/>
                    </a:gradFill>
                  </a:tcPr>
                </a:tc>
              </a:tr>
              <a:tr h="53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cachof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7cdcc"/>
                        </a:gs>
                        <a:gs pos="100000">
                          <a:srgbClr val="ffffff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987 – 0.97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7cdcc"/>
                        </a:gs>
                        <a:gs pos="100000">
                          <a:srgbClr val="ffffff"/>
                        </a:gs>
                      </a:gsLst>
                      <a:lin ang="8100000"/>
                    </a:gradFill>
                  </a:tcPr>
                </a:tc>
              </a:tr>
              <a:tr h="53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anahori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7cdcc"/>
                        </a:gs>
                        <a:gs pos="100000">
                          <a:srgbClr val="ffffff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989 – 0.98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7cdcc"/>
                        </a:gs>
                        <a:gs pos="100000">
                          <a:srgbClr val="ffffff"/>
                        </a:gs>
                      </a:gsLst>
                      <a:lin ang="8100000"/>
                    </a:gradFill>
                  </a:tcPr>
                </a:tc>
              </a:tr>
              <a:tr h="52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pin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7cdcc"/>
                        </a:gs>
                        <a:gs pos="100000">
                          <a:srgbClr val="ffffff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998 – 0.99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7cdcc"/>
                        </a:gs>
                        <a:gs pos="100000">
                          <a:srgbClr val="ffffff"/>
                        </a:gs>
                      </a:gsLst>
                      <a:lin ang="8100000"/>
                    </a:gradFill>
                  </a:tcPr>
                </a:tc>
              </a:tr>
              <a:tr h="53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mpiñone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7cdcc"/>
                        </a:gs>
                        <a:gs pos="100000">
                          <a:srgbClr val="ffffff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995 – 0.98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7cdcc"/>
                        </a:gs>
                        <a:gs pos="100000">
                          <a:srgbClr val="ffffff"/>
                        </a:gs>
                      </a:gsLst>
                      <a:lin ang="8100000"/>
                    </a:gradFill>
                  </a:tcPr>
                </a:tc>
              </a:tr>
              <a:tr h="53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p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7cdcc"/>
                        </a:gs>
                        <a:gs pos="100000">
                          <a:srgbClr val="ffffff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98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7cdcc"/>
                        </a:gs>
                        <a:gs pos="100000">
                          <a:srgbClr val="ffffff"/>
                        </a:gs>
                      </a:gsLst>
                      <a:lin ang="8100000"/>
                    </a:gra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914400" y="277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300" spc="-1" strike="noStrike">
                <a:solidFill>
                  <a:srgbClr val="336666"/>
                </a:solidFill>
                <a:latin typeface="Arial Black"/>
              </a:rPr>
              <a:t>Tecnología de los Alimento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914400" y="1600200"/>
            <a:ext cx="380988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s-ES_tradnl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700" spc="-1" strike="noStrike">
                <a:solidFill>
                  <a:srgbClr val="000000"/>
                </a:solidFill>
                <a:latin typeface="Arial"/>
              </a:rPr>
              <a:t>Aplicación práctic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292720" y="1989000"/>
            <a:ext cx="1584360" cy="95112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971640" y="2637000"/>
            <a:ext cx="1562040" cy="15127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651640" y="3860640"/>
            <a:ext cx="1873080" cy="12654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3132000" y="3933720"/>
            <a:ext cx="1513080" cy="13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62120" y="67680"/>
            <a:ext cx="7696080" cy="5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2900" spc="-1" strike="noStrike">
              <a:solidFill>
                <a:srgbClr val="336666"/>
              </a:solidFill>
              <a:latin typeface="Arial Black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457200" y="549360"/>
          <a:ext cx="8229600" cy="59752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54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imento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50000">
                          <a:srgbClr val="97cdcc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w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50000">
                          <a:srgbClr val="97cdcc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54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mat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50000">
                          <a:srgbClr val="97cdcc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99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50000">
                          <a:srgbClr val="97cdcc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54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zan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50000">
                          <a:srgbClr val="97cdcc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9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50000">
                          <a:srgbClr val="97cdcc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54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rez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50000">
                          <a:srgbClr val="97cdcc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97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50000">
                          <a:srgbClr val="97cdcc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54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v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50000">
                          <a:srgbClr val="97cdcc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986 – 0.96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50000">
                          <a:srgbClr val="97cdcc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54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mon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50000">
                          <a:srgbClr val="97cdcc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98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50000">
                          <a:srgbClr val="97cdcc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54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lon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50000">
                          <a:srgbClr val="97cdcc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991 – 0.98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50000">
                          <a:srgbClr val="97cdcc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54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ranj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50000">
                          <a:srgbClr val="97cdcc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98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50000">
                          <a:srgbClr val="97cdcc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54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locoton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50000">
                          <a:srgbClr val="97cdcc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98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50000">
                          <a:srgbClr val="97cdcc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54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fitur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50000">
                          <a:srgbClr val="97cdcc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800 – 0.7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50000">
                          <a:srgbClr val="97cdcc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54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rea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50000">
                          <a:srgbClr val="97cdcc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7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50000">
                          <a:srgbClr val="97cdcc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300" spc="-1" strike="noStrike">
                <a:solidFill>
                  <a:srgbClr val="336666"/>
                </a:solidFill>
                <a:latin typeface="Arial Black"/>
              </a:rPr>
              <a:t>Potencial oxido-reducción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100" spc="-1" strike="noStrike">
                <a:solidFill>
                  <a:srgbClr val="000000"/>
                </a:solidFill>
                <a:latin typeface="Arial"/>
              </a:rPr>
              <a:t>El poder oxido-reducción, o poder oxidante y reductor, del propio alimento, influye en el tipo de microorganismo que se desarrollará en él y, por lo tanto, en las modificaciones que se producirán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300" spc="-1" strike="noStrike">
                <a:solidFill>
                  <a:srgbClr val="336666"/>
                </a:solidFill>
                <a:latin typeface="Arial Black"/>
              </a:rPr>
              <a:t>Clasificación 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100" spc="-1" strike="noStrike">
                <a:solidFill>
                  <a:srgbClr val="000000"/>
                </a:solidFill>
                <a:latin typeface="Arial"/>
              </a:rPr>
              <a:t>En función de las exigencias de oxígeno y/o en su toxicidad </a:t>
            </a:r>
            <a:r>
              <a:rPr b="0" lang="es-ES_tradnl" sz="31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74"/>
              </a:spcBef>
              <a:buClr>
                <a:srgbClr val="cccc99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100" spc="-1" strike="noStrike">
                <a:solidFill>
                  <a:srgbClr val="006666"/>
                </a:solidFill>
                <a:latin typeface="Arial"/>
              </a:rPr>
              <a:t>Aerobios estrictos</a:t>
            </a:r>
            <a:r>
              <a:rPr b="0" lang="es-ES_tradnl" sz="3100" spc="-1" strike="noStrike">
                <a:solidFill>
                  <a:srgbClr val="000000"/>
                </a:solidFill>
                <a:latin typeface="Arial"/>
              </a:rPr>
              <a:t>: Pseudomonas, Micrococcus, Bacillus </a:t>
            </a:r>
            <a:r>
              <a:rPr b="0" lang="es-ES_tradnl" sz="31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s-ES_tradnl" sz="3100" spc="-1" strike="noStrike">
                <a:solidFill>
                  <a:srgbClr val="000000"/>
                </a:solidFill>
                <a:latin typeface="Arial"/>
              </a:rPr>
              <a:t> cuando necesitan oxígeno libre (como aceptor final de electrones) no tienen la posibilidad de utilizar una vía fermentativa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74"/>
              </a:spcBef>
              <a:buClr>
                <a:srgbClr val="cccc99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1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74"/>
              </a:spcBef>
              <a:buClr>
                <a:srgbClr val="cccc99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100" spc="-1" strike="noStrike">
                <a:solidFill>
                  <a:srgbClr val="006666"/>
                </a:solidFill>
                <a:latin typeface="Arial"/>
              </a:rPr>
              <a:t>Anaerobios estrictos</a:t>
            </a:r>
            <a:r>
              <a:rPr b="0" lang="es-ES_tradnl" sz="3100" spc="-1" strike="noStrike">
                <a:solidFill>
                  <a:srgbClr val="000000"/>
                </a:solidFill>
                <a:latin typeface="Arial"/>
              </a:rPr>
              <a:t>: Clostridium, Bacteroides, Peptococos, Prinibacterium, etc. </a:t>
            </a:r>
            <a:r>
              <a:rPr b="0" lang="es-ES_tradnl" sz="31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s-ES_tradnl" sz="3100" spc="-1" strike="noStrike">
                <a:solidFill>
                  <a:srgbClr val="000000"/>
                </a:solidFill>
                <a:latin typeface="Arial"/>
              </a:rPr>
              <a:t> cuando crecen mejor en ausencia de oxígeno libre, presentan obligatoriamente un metabolismo fermentativo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74"/>
              </a:spcBef>
              <a:buClr>
                <a:srgbClr val="cccc99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1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74"/>
              </a:spcBef>
              <a:buClr>
                <a:srgbClr val="cccc99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1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74"/>
              </a:spcBef>
              <a:buClr>
                <a:srgbClr val="cccc99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100" spc="-1" strike="noStrike">
                <a:solidFill>
                  <a:srgbClr val="006666"/>
                </a:solidFill>
                <a:latin typeface="Arial"/>
              </a:rPr>
              <a:t>Aerobios facultativos</a:t>
            </a:r>
            <a:r>
              <a:rPr b="0" lang="es-ES_tradnl" sz="3100" spc="-1" strike="noStrike">
                <a:solidFill>
                  <a:srgbClr val="000000"/>
                </a:solidFill>
                <a:latin typeface="Arial"/>
              </a:rPr>
              <a:t>: Enterobacterias, Staphylococcus. </a:t>
            </a:r>
            <a:r>
              <a:rPr b="0" lang="es-ES_tradnl" sz="31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s-ES_tradnl" sz="3100" spc="-1" strike="noStrike">
                <a:solidFill>
                  <a:srgbClr val="000000"/>
                </a:solidFill>
                <a:latin typeface="Arial"/>
              </a:rPr>
              <a:t> se pueden desarrollar en ausencia o presencia de oxígeno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300" spc="-1" strike="noStrike">
                <a:solidFill>
                  <a:srgbClr val="336666"/>
                </a:solidFill>
                <a:latin typeface="Arial Black"/>
              </a:rPr>
              <a:t>Sustancias inhibidoras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100" spc="-1" strike="noStrike">
                <a:solidFill>
                  <a:srgbClr val="000000"/>
                </a:solidFill>
                <a:latin typeface="Arial"/>
              </a:rPr>
              <a:t>Son moléculas que poseen poder bacteriostático y/o bactericida, algunas pueden ser especificamente inhibidoras de moho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100" spc="-1" strike="noStrike">
                <a:solidFill>
                  <a:srgbClr val="000000"/>
                </a:solidFill>
                <a:latin typeface="Arial"/>
              </a:rPr>
              <a:t>Composición química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100" spc="-1" strike="noStrike">
                <a:solidFill>
                  <a:srgbClr val="000000"/>
                </a:solidFill>
                <a:latin typeface="Arial"/>
              </a:rPr>
              <a:t>Mecanismo de acción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100" spc="-1" strike="noStrike">
                <a:solidFill>
                  <a:srgbClr val="000000"/>
                </a:solidFill>
                <a:latin typeface="Arial"/>
              </a:rPr>
              <a:t>Se encuentran en estado natural en tejidos animales y vegetale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100" spc="-1" strike="noStrike">
                <a:solidFill>
                  <a:srgbClr val="000000"/>
                </a:solidFill>
                <a:latin typeface="Arial"/>
              </a:rPr>
              <a:t>Se pueden producir por fermentación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300" spc="-1" strike="noStrike">
                <a:solidFill>
                  <a:srgbClr val="336666"/>
                </a:solidFill>
                <a:latin typeface="Arial Black"/>
              </a:rPr>
              <a:t>Temperatura 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100" spc="-1" strike="noStrike">
                <a:solidFill>
                  <a:srgbClr val="000000"/>
                </a:solidFill>
                <a:latin typeface="Arial"/>
              </a:rPr>
              <a:t>Es uno de los factores más importantes en </a:t>
            </a:r>
            <a:r>
              <a:rPr b="0" lang="es-ES_tradnl" sz="31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s-ES_tradnl" sz="3100" spc="-1" strike="noStrike">
                <a:solidFill>
                  <a:srgbClr val="000000"/>
                </a:solidFill>
                <a:latin typeface="Arial"/>
              </a:rPr>
              <a:t> crecimiento microbiano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_tradnl" sz="31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s-ES_tradnl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3100" spc="-1" strike="noStrike">
                <a:solidFill>
                  <a:srgbClr val="000000"/>
                </a:solidFill>
                <a:latin typeface="Arial"/>
              </a:rPr>
              <a:t>determina el estado físico del agua en un determinado medio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_tradnl" sz="31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s-ES_tradnl" sz="3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3100" spc="-1" strike="noStrike">
                <a:solidFill>
                  <a:srgbClr val="000000"/>
                </a:solidFill>
                <a:latin typeface="Arial"/>
              </a:rPr>
              <a:t>velocidad de reacciones químicas y bioquímica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973800" y="1890000"/>
            <a:ext cx="214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324000" y="476280"/>
          <a:ext cx="8424720" cy="5977080"/>
        </p:xfrm>
        <a:graphic>
          <a:graphicData uri="http://schemas.openxmlformats.org/drawingml/2006/table">
            <a:tbl>
              <a:tblPr/>
              <a:tblGrid>
                <a:gridCol w="2232000"/>
                <a:gridCol w="287280"/>
                <a:gridCol w="5905440"/>
              </a:tblGrid>
              <a:tr h="88740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mperatur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97cd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scripció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97cdcc"/>
                    </a:solidFill>
                  </a:tcPr>
                </a:tc>
              </a:tr>
              <a:tr h="1143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ipertermófil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3f1f1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u temperatura óptima de crecimiento está por encima de los 80 </a:t>
                      </a:r>
                      <a:r>
                        <a:rPr b="0" lang="es-ES" sz="1600" spc="-1" strike="noStrike" baseline="30000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 y el máximo crecimiento de cultivos puros se ha llegado a dar a entre 110 y 113 </a:t>
                      </a:r>
                      <a:r>
                        <a:rPr b="0" lang="es-ES" sz="1600" spc="-1" strike="noStrike" baseline="30000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3f1f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7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rmófil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3f1f1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recen por encima de los 45 ó 50 </a:t>
                      </a:r>
                      <a:r>
                        <a:rPr b="0" lang="es-ES" sz="2000" spc="-1" strike="noStrike" baseline="30000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3f1f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89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sófil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3f1f1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mperatura óptima alrededor de 37 </a:t>
                      </a:r>
                      <a:r>
                        <a:rPr b="0" lang="en-US" sz="2300" spc="-1" strike="noStrike" baseline="30000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. Frecuentemente son capaces de crecer en rangos de los 10 </a:t>
                      </a:r>
                      <a:r>
                        <a:rPr b="0" lang="en-US" sz="2300" spc="-1" strike="noStrike" baseline="30000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.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3f1f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84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sicrófil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3f1f1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paces de crecer por debajo de 5 </a:t>
                      </a:r>
                      <a:r>
                        <a:rPr b="0" lang="es-ES" sz="2000" spc="-1" strike="noStrike" baseline="30000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 y con temperaturas máximas de 20 ó 25 </a:t>
                      </a:r>
                      <a:r>
                        <a:rPr b="0" lang="es-ES" sz="2000" spc="-1" strike="noStrike" baseline="30000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3f1f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25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sicrófilos facultativ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3f1f1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mperatura óptima de 15 </a:t>
                      </a:r>
                      <a:r>
                        <a:rPr b="0" lang="es-ES" sz="2000" spc="-1" strike="noStrike" baseline="30000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 llegando a alcanzar los 20 </a:t>
                      </a:r>
                      <a:r>
                        <a:rPr b="0" lang="es-ES" sz="2000" spc="-1" strike="noStrike" baseline="30000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 y también capaces de bajar hasta menos de 0 </a:t>
                      </a:r>
                      <a:r>
                        <a:rPr b="0" lang="es-ES" sz="2000" spc="-1" strike="noStrike" baseline="30000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3f1f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4" name=""/>
          <p:cNvGraphicFramePr/>
          <p:nvPr/>
        </p:nvGraphicFramePr>
        <p:xfrm>
          <a:off x="2328840" y="1109520"/>
          <a:ext cx="4486320" cy="463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28840" y="1109520"/>
                    <a:ext cx="4486320" cy="463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2627280" y="765000"/>
            <a:ext cx="454968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914400" y="277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300" spc="-1" strike="noStrike">
                <a:solidFill>
                  <a:srgbClr val="336666"/>
                </a:solidFill>
                <a:latin typeface="Arial Black"/>
              </a:rPr>
              <a:t>Alimento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914400" y="1600200"/>
            <a:ext cx="380988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700" spc="-1" strike="noStrike">
                <a:solidFill>
                  <a:srgbClr val="000000"/>
                </a:solidFill>
                <a:latin typeface="Arial"/>
              </a:rPr>
              <a:t>Como un vehículo natural destinado a introducir uno o más nutrientes en el organismo</a:t>
            </a:r>
            <a:r>
              <a:rPr b="0" lang="es-CL" sz="2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588000" y="1989000"/>
            <a:ext cx="2087640" cy="20275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492360" y="3860640"/>
            <a:ext cx="1944720" cy="195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9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631440" y="1844280"/>
            <a:ext cx="24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324000" y="549360"/>
          <a:ext cx="8569080" cy="5904000"/>
        </p:xfrm>
        <a:graphic>
          <a:graphicData uri="http://schemas.openxmlformats.org/drawingml/2006/table">
            <a:tbl>
              <a:tblPr/>
              <a:tblGrid>
                <a:gridCol w="702000"/>
                <a:gridCol w="520920"/>
                <a:gridCol w="612720"/>
                <a:gridCol w="612720"/>
                <a:gridCol w="611640"/>
                <a:gridCol w="611280"/>
                <a:gridCol w="614520"/>
                <a:gridCol w="611640"/>
                <a:gridCol w="466920"/>
                <a:gridCol w="756000"/>
                <a:gridCol w="612720"/>
                <a:gridCol w="501120"/>
                <a:gridCol w="723240"/>
                <a:gridCol w="611640"/>
              </a:tblGrid>
              <a:tr h="119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660066"/>
                          </a:solidFill>
                          <a:latin typeface="Verdana"/>
                        </a:rPr>
                        <a:t>100º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ffff00"/>
                      </a:solidFill>
                    </a:lnL>
                    <a:lnR w="4320">
                      <a:solidFill>
                        <a:srgbClr val="ffff00"/>
                      </a:solidFill>
                    </a:lnR>
                    <a:lnT w="4320">
                      <a:solidFill>
                        <a:srgbClr val="ffff00"/>
                      </a:solidFill>
                    </a:lnT>
                    <a:lnB w="432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ffff00"/>
                      </a:solidFill>
                    </a:lnL>
                    <a:lnR w="4320">
                      <a:solidFill>
                        <a:srgbClr val="ffff00"/>
                      </a:solidFill>
                    </a:lnR>
                    <a:lnT w="4320">
                      <a:solidFill>
                        <a:srgbClr val="ffff00"/>
                      </a:solidFill>
                    </a:lnT>
                    <a:lnB w="4320">
                      <a:solidFill>
                        <a:srgbClr val="ffff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660066"/>
                          </a:solidFill>
                          <a:latin typeface="Verdana"/>
                        </a:rPr>
                        <a:t>74º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ffff00"/>
                      </a:solidFill>
                    </a:lnL>
                    <a:lnR w="4320">
                      <a:solidFill>
                        <a:srgbClr val="ffff00"/>
                      </a:solidFill>
                    </a:lnR>
                    <a:lnT w="4320">
                      <a:solidFill>
                        <a:srgbClr val="ffff00"/>
                      </a:solidFill>
                    </a:lnT>
                    <a:lnB w="4320">
                      <a:solidFill>
                        <a:srgbClr val="ffff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ffff00"/>
                      </a:solidFill>
                    </a:lnL>
                    <a:lnR w="4320">
                      <a:solidFill>
                        <a:srgbClr val="ffff00"/>
                      </a:solidFill>
                    </a:lnR>
                    <a:lnT w="4320">
                      <a:solidFill>
                        <a:srgbClr val="ffff00"/>
                      </a:solidFill>
                    </a:lnT>
                    <a:lnB w="4320">
                      <a:solidFill>
                        <a:srgbClr val="ffff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cc0000"/>
                          </a:solidFill>
                          <a:latin typeface="Verdana"/>
                        </a:rPr>
                        <a:t>60º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ffff00"/>
                      </a:solidFill>
                    </a:lnL>
                    <a:lnR w="4320">
                      <a:solidFill>
                        <a:srgbClr val="ffff00"/>
                      </a:solidFill>
                    </a:lnR>
                    <a:lnT w="4320">
                      <a:solidFill>
                        <a:srgbClr val="ffff00"/>
                      </a:solidFill>
                    </a:lnT>
                    <a:lnB w="4320">
                      <a:solidFill>
                        <a:srgbClr val="ffff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ffff00"/>
                      </a:solidFill>
                    </a:lnL>
                    <a:lnR w="4320">
                      <a:solidFill>
                        <a:srgbClr val="ffff00"/>
                      </a:solidFill>
                    </a:lnR>
                    <a:lnT w="4320">
                      <a:solidFill>
                        <a:srgbClr val="ffff00"/>
                      </a:solidFill>
                    </a:lnT>
                    <a:lnB w="4320">
                      <a:solidFill>
                        <a:srgbClr val="ffff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cc0000"/>
                          </a:solidFill>
                          <a:latin typeface="Verdana"/>
                        </a:rPr>
                        <a:t>8º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ffff00"/>
                      </a:solidFill>
                    </a:lnL>
                    <a:lnR w="4320">
                      <a:solidFill>
                        <a:srgbClr val="ffff00"/>
                      </a:solidFill>
                    </a:lnR>
                    <a:lnT w="4320">
                      <a:solidFill>
                        <a:srgbClr val="ffff00"/>
                      </a:solidFill>
                    </a:lnT>
                    <a:lnB w="4320">
                      <a:solidFill>
                        <a:srgbClr val="ffff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ffff00"/>
                      </a:solidFill>
                    </a:lnL>
                    <a:lnR w="4320">
                      <a:solidFill>
                        <a:srgbClr val="ffff00"/>
                      </a:solidFill>
                    </a:lnR>
                    <a:lnT w="4320">
                      <a:solidFill>
                        <a:srgbClr val="ffff00"/>
                      </a:solidFill>
                    </a:lnT>
                    <a:lnB w="4320">
                      <a:solidFill>
                        <a:srgbClr val="ffff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0º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ffff00"/>
                      </a:solidFill>
                    </a:lnL>
                    <a:lnR w="4320">
                      <a:solidFill>
                        <a:srgbClr val="ffff00"/>
                      </a:solidFill>
                    </a:lnR>
                    <a:lnT w="4320">
                      <a:solidFill>
                        <a:srgbClr val="ffff00"/>
                      </a:solidFill>
                    </a:lnT>
                    <a:lnB w="4320">
                      <a:solidFill>
                        <a:srgbClr val="ffff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ffff00"/>
                      </a:solidFill>
                    </a:lnL>
                    <a:lnR w="4320">
                      <a:solidFill>
                        <a:srgbClr val="ffff00"/>
                      </a:solidFill>
                    </a:lnR>
                    <a:lnT w="4320">
                      <a:solidFill>
                        <a:srgbClr val="ffff00"/>
                      </a:solidFill>
                    </a:lnT>
                    <a:lnB w="432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120312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660066"/>
                          </a:solidFill>
                          <a:latin typeface="Verdana"/>
                        </a:rPr>
                        <a:t>Zona d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660066"/>
                          </a:solidFill>
                          <a:latin typeface="Verdana"/>
                        </a:rPr>
                        <a:t>coc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ffff00"/>
                      </a:solidFill>
                    </a:lnL>
                    <a:lnR w="4320">
                      <a:solidFill>
                        <a:srgbClr val="ffff00"/>
                      </a:solidFill>
                    </a:lnR>
                    <a:lnT w="4320">
                      <a:solidFill>
                        <a:srgbClr val="ffff00"/>
                      </a:solidFill>
                    </a:lnT>
                    <a:lnB w="4320">
                      <a:solidFill>
                        <a:srgbClr val="ffff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cc0066"/>
                          </a:solidFill>
                          <a:latin typeface="Verdana"/>
                        </a:rPr>
                        <a:t>Zona d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cc0066"/>
                          </a:solidFill>
                          <a:latin typeface="Verdana"/>
                        </a:rPr>
                        <a:t>alarm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ffff00"/>
                      </a:solidFill>
                    </a:lnL>
                    <a:lnR w="4320">
                      <a:solidFill>
                        <a:srgbClr val="ffff00"/>
                      </a:solidFill>
                    </a:lnR>
                    <a:lnT w="4320">
                      <a:solidFill>
                        <a:srgbClr val="ffff00"/>
                      </a:solidFill>
                    </a:lnT>
                    <a:lnB w="4320">
                      <a:solidFill>
                        <a:srgbClr val="ffff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cc0000"/>
                          </a:solidFill>
                          <a:latin typeface="Verdana"/>
                        </a:rPr>
                        <a:t>Zona d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cc0000"/>
                          </a:solidFill>
                          <a:latin typeface="Verdana"/>
                        </a:rPr>
                        <a:t>peligr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ffff00"/>
                      </a:solidFill>
                    </a:lnL>
                    <a:lnR w="4320">
                      <a:solidFill>
                        <a:srgbClr val="ffff00"/>
                      </a:solidFill>
                    </a:lnR>
                    <a:lnT w="4320">
                      <a:solidFill>
                        <a:srgbClr val="ffff00"/>
                      </a:solidFill>
                    </a:lnT>
                    <a:lnB w="4320">
                      <a:solidFill>
                        <a:srgbClr val="ffff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Zona d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enfriamien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ffff00"/>
                      </a:solidFill>
                    </a:lnL>
                    <a:lnR w="4320">
                      <a:solidFill>
                        <a:srgbClr val="ffff00"/>
                      </a:solidFill>
                    </a:lnR>
                    <a:lnT w="4320">
                      <a:solidFill>
                        <a:srgbClr val="ffff00"/>
                      </a:solidFill>
                    </a:lnT>
                    <a:lnB w="4320">
                      <a:solidFill>
                        <a:srgbClr val="ffff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Zona d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congel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ffff00"/>
                      </a:solidFill>
                    </a:lnL>
                    <a:lnR w="4320">
                      <a:solidFill>
                        <a:srgbClr val="ffff00"/>
                      </a:solidFill>
                    </a:lnR>
                    <a:lnT w="4320">
                      <a:solidFill>
                        <a:srgbClr val="ffff00"/>
                      </a:solidFill>
                    </a:lnT>
                    <a:lnB w="4320">
                      <a:solidFill>
                        <a:srgbClr val="ffff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038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660066"/>
                          </a:solidFill>
                          <a:latin typeface="Verdana"/>
                        </a:rPr>
                        <a:t>Se destruye la mayoría de microorganismos en unos minut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ffff00"/>
                      </a:solidFill>
                    </a:lnL>
                    <a:lnR w="4320">
                      <a:solidFill>
                        <a:srgbClr val="ffff00"/>
                      </a:solidFill>
                    </a:lnR>
                    <a:lnT w="4320">
                      <a:solidFill>
                        <a:srgbClr val="ffff00"/>
                      </a:solidFill>
                    </a:lnT>
                    <a:lnB w="4320">
                      <a:solidFill>
                        <a:srgbClr val="ffff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cc0066"/>
                          </a:solidFill>
                          <a:latin typeface="Verdana"/>
                        </a:rPr>
                        <a:t>No hay multiplicación sí supervivenc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ffff00"/>
                      </a:solidFill>
                    </a:lnL>
                    <a:lnR w="4320">
                      <a:solidFill>
                        <a:srgbClr val="ffff00"/>
                      </a:solidFill>
                    </a:lnR>
                    <a:lnT w="4320">
                      <a:solidFill>
                        <a:srgbClr val="ffff00"/>
                      </a:solidFill>
                    </a:lnT>
                    <a:lnB w="4320">
                      <a:solidFill>
                        <a:srgbClr val="ffff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cc0000"/>
                          </a:solidFill>
                          <a:latin typeface="Verdana"/>
                        </a:rPr>
                        <a:t>Gran proliferación bacteria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ffff00"/>
                      </a:solidFill>
                    </a:lnL>
                    <a:lnR w="4320">
                      <a:solidFill>
                        <a:srgbClr val="ffff00"/>
                      </a:solidFill>
                    </a:lnR>
                    <a:lnT w="4320">
                      <a:solidFill>
                        <a:srgbClr val="ffff00"/>
                      </a:solidFill>
                    </a:lnT>
                    <a:lnB w="4320">
                      <a:solidFill>
                        <a:srgbClr val="ffff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No hay multiplicación, el alimento puede estar a esta temperatura breves períod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ffff00"/>
                      </a:solidFill>
                    </a:lnL>
                    <a:lnR w="4320">
                      <a:solidFill>
                        <a:srgbClr val="ffff00"/>
                      </a:solidFill>
                    </a:lnR>
                    <a:lnT w="4320">
                      <a:solidFill>
                        <a:srgbClr val="ffff00"/>
                      </a:solidFill>
                    </a:lnT>
                    <a:lnB w="4320">
                      <a:solidFill>
                        <a:srgbClr val="ffff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No hay multiplicación, pero sí supervivencia. Se usa en períodos larg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ffff00"/>
                      </a:solidFill>
                    </a:lnL>
                    <a:lnR w="4320">
                      <a:solidFill>
                        <a:srgbClr val="ffff00"/>
                      </a:solidFill>
                    </a:lnR>
                    <a:lnT w="4320">
                      <a:solidFill>
                        <a:srgbClr val="ffff00"/>
                      </a:solidFill>
                    </a:lnT>
                    <a:lnB w="4320">
                      <a:solidFill>
                        <a:srgbClr val="ffff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89" name=""/>
          <p:cNvSpPr/>
          <p:nvPr/>
        </p:nvSpPr>
        <p:spPr>
          <a:xfrm>
            <a:off x="5068800" y="4434480"/>
            <a:ext cx="24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300" spc="-1" strike="noStrike">
                <a:solidFill>
                  <a:srgbClr val="336666"/>
                </a:solidFill>
                <a:latin typeface="Arial Black"/>
              </a:rPr>
              <a:t>Conservación de alimentos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100" spc="-1" strike="noStrike">
                <a:solidFill>
                  <a:srgbClr val="000000"/>
                </a:solidFill>
                <a:latin typeface="Arial"/>
              </a:rPr>
              <a:t>sistemas de conservación que destruyen los gérmenes (bactericidas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100" spc="-1" strike="noStrike">
                <a:solidFill>
                  <a:srgbClr val="000000"/>
                </a:solidFill>
                <a:latin typeface="Arial"/>
              </a:rPr>
              <a:t>sistemas de conservación que impiden el desarrollo de gérmenes (bacteriostáticos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004760" y="1663200"/>
            <a:ext cx="24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971640" y="981000"/>
          <a:ext cx="7169040" cy="5184720"/>
        </p:xfrm>
        <a:graphic>
          <a:graphicData uri="http://schemas.openxmlformats.org/drawingml/2006/table">
            <a:tbl>
              <a:tblPr/>
              <a:tblGrid>
                <a:gridCol w="3584520"/>
                <a:gridCol w="3584520"/>
              </a:tblGrid>
              <a:tr h="68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7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Bactericidas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ffff00"/>
                      </a:solidFill>
                    </a:lnL>
                    <a:lnR w="4320">
                      <a:solidFill>
                        <a:srgbClr val="ffff00"/>
                      </a:solidFill>
                    </a:lnR>
                    <a:lnT w="4320">
                      <a:solidFill>
                        <a:srgbClr val="ffff00"/>
                      </a:solidFill>
                    </a:lnT>
                    <a:lnB w="4320">
                      <a:solidFill>
                        <a:srgbClr val="ffff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97cdcc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7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Bacteriostáticos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ffff00"/>
                      </a:solidFill>
                    </a:lnL>
                    <a:lnR w="4320">
                      <a:solidFill>
                        <a:srgbClr val="ffff00"/>
                      </a:solidFill>
                    </a:lnR>
                    <a:lnT w="4320">
                      <a:solidFill>
                        <a:srgbClr val="ffff00"/>
                      </a:solidFill>
                    </a:lnT>
                    <a:lnB w="4320">
                      <a:solidFill>
                        <a:srgbClr val="ffff00"/>
                      </a:solidFill>
                    </a:lnB>
                    <a:gradFill rotWithShape="0">
                      <a:gsLst>
                        <a:gs pos="0">
                          <a:srgbClr val="8292e2"/>
                        </a:gs>
                        <a:gs pos="100000">
                          <a:srgbClr val="ffffff"/>
                        </a:gs>
                      </a:gsLst>
                      <a:lin ang="8100000"/>
                    </a:gradFill>
                  </a:tcPr>
                </a:tc>
              </a:tr>
              <a:tr h="450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bullición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terilización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steurización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perizacion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latado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humado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ición de sustancias químicas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rradiación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ffff00"/>
                      </a:solidFill>
                    </a:lnL>
                    <a:lnR w="4320">
                      <a:solidFill>
                        <a:srgbClr val="ffff00"/>
                      </a:solidFill>
                    </a:lnR>
                    <a:lnT w="4320">
                      <a:solidFill>
                        <a:srgbClr val="ffff00"/>
                      </a:solidFill>
                    </a:lnT>
                    <a:lnB w="4320">
                      <a:solidFill>
                        <a:srgbClr val="ffff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97cdcc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frigeración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gelación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hidratación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ición de sustancias químicas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ffff00"/>
                      </a:solidFill>
                    </a:lnL>
                    <a:lnR w="4320">
                      <a:solidFill>
                        <a:srgbClr val="ffff00"/>
                      </a:solidFill>
                    </a:lnR>
                    <a:lnT w="4320">
                      <a:solidFill>
                        <a:srgbClr val="ffff00"/>
                      </a:solidFill>
                    </a:lnT>
                    <a:lnB w="4320">
                      <a:solidFill>
                        <a:srgbClr val="ffff00"/>
                      </a:solidFill>
                    </a:lnB>
                    <a:gradFill rotWithShape="0">
                      <a:gsLst>
                        <a:gs pos="0">
                          <a:srgbClr val="8292e2"/>
                        </a:gs>
                        <a:gs pos="100000">
                          <a:srgbClr val="ffffff"/>
                        </a:gs>
                      </a:gsLst>
                      <a:lin ang="8100000"/>
                    </a:gradFill>
                  </a:tcPr>
                </a:tc>
              </a:tr>
            </a:tbl>
          </a:graphicData>
        </a:graphic>
      </p:graphicFrame>
      <p:sp>
        <p:nvSpPr>
          <p:cNvPr id="194" name=""/>
          <p:cNvSpPr/>
          <p:nvPr/>
        </p:nvSpPr>
        <p:spPr>
          <a:xfrm>
            <a:off x="5452920" y="4614120"/>
            <a:ext cx="24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1476360" y="1268280"/>
            <a:ext cx="6264360" cy="45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68360" y="533160"/>
            <a:ext cx="820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336666"/>
                </a:solidFill>
                <a:latin typeface="Arial Black"/>
              </a:rPr>
              <a:t>Clasificación de los métodos de conservación de alimentos según su efecto sobre los microorganismos:</a:t>
            </a:r>
            <a:endParaRPr b="0" lang="en-US" sz="29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100" spc="-1" strike="noStrike">
                <a:solidFill>
                  <a:srgbClr val="000000"/>
                </a:solidFill>
                <a:latin typeface="Arial"/>
              </a:rPr>
              <a:t>Destrucción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100" spc="-1" strike="noStrike">
                <a:solidFill>
                  <a:srgbClr val="000000"/>
                </a:solidFill>
                <a:latin typeface="Arial"/>
              </a:rPr>
              <a:t>Efecto barrera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100" spc="-1" strike="noStrike">
                <a:solidFill>
                  <a:srgbClr val="000000"/>
                </a:solidFill>
                <a:latin typeface="Arial"/>
              </a:rPr>
              <a:t>Eliminación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300" spc="-1" strike="noStrike">
                <a:solidFill>
                  <a:srgbClr val="336666"/>
                </a:solidFill>
                <a:latin typeface="Arial Black"/>
              </a:rPr>
              <a:t>Destrucción 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324000" y="1905120"/>
          <a:ext cx="8496000" cy="4333680"/>
        </p:xfrm>
        <a:graphic>
          <a:graphicData uri="http://schemas.openxmlformats.org/drawingml/2006/table">
            <a:tbl>
              <a:tblPr/>
              <a:tblGrid>
                <a:gridCol w="4587840"/>
                <a:gridCol w="3908160"/>
              </a:tblGrid>
              <a:tr h="67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ma de actuació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7cd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étodo de conservació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7cdcc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ión del cal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7cd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steurización – Esterilizació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7cdcc"/>
                    </a:solidFill>
                  </a:tcPr>
                </a:tc>
              </a:tr>
              <a:tr h="67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diaciones ionizant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7cd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rradiació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7cdcc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ión de antiséptic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7cd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cohol – Acidos Conservadores químic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7cdcc"/>
                    </a:solidFill>
                  </a:tcPr>
                </a:tc>
              </a:tr>
              <a:tr h="67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ión mecánic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7cd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tas presion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7cdcc"/>
                    </a:solidFill>
                  </a:tcPr>
                </a:tc>
              </a:tr>
              <a:tr h="67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ión mixta: calor-mecánic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7cd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cción - Extrusió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7cd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62120" y="333360"/>
            <a:ext cx="7696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300" spc="-1" strike="noStrike">
                <a:solidFill>
                  <a:srgbClr val="336666"/>
                </a:solidFill>
                <a:latin typeface="Arial Black"/>
              </a:rPr>
              <a:t>Efecto barrera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395280" y="1197000"/>
          <a:ext cx="8748720" cy="4797360"/>
        </p:xfrm>
        <a:graphic>
          <a:graphicData uri="http://schemas.openxmlformats.org/drawingml/2006/table">
            <a:tbl>
              <a:tblPr/>
              <a:tblGrid>
                <a:gridCol w="4032360"/>
                <a:gridCol w="4716360"/>
              </a:tblGrid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ma de actuación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7cd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étodo de conservación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7cdcc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tilización de bajas T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7cd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frigeración – Congela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7cdcc"/>
                    </a:solidFill>
                  </a:tcPr>
                </a:tc>
              </a:tr>
              <a:tr h="97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tilización de atmósferas pobres en O</a:t>
                      </a:r>
                      <a:r>
                        <a:rPr b="0" lang="es-ES_tradnl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7cd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cío – Gases inertes – Atmósferas controlad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7cdcc"/>
                    </a:solidFill>
                  </a:tcPr>
                </a:tc>
              </a:tr>
              <a:tr h="77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ducción del contenido de agu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7cd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hidratación – Liofilización – Concentra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7cdcc"/>
                    </a:solidFill>
                  </a:tcPr>
                </a:tc>
              </a:tr>
              <a:tr h="186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tección por incorporación y recubrimiento con inhibidor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7cd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lazón – inmersión en salmuera – recubrimiento con materias grasas – recubrimirnto con azúcar- inmersión en ácidos - fermenta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7cd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300" spc="-1" strike="noStrike">
                <a:solidFill>
                  <a:srgbClr val="336666"/>
                </a:solidFill>
                <a:latin typeface="Arial Black"/>
              </a:rPr>
              <a:t>Eliminación 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762120" y="1905120"/>
          <a:ext cx="7696080" cy="2315880"/>
        </p:xfrm>
        <a:graphic>
          <a:graphicData uri="http://schemas.openxmlformats.org/drawingml/2006/table">
            <a:tbl>
              <a:tblPr/>
              <a:tblGrid>
                <a:gridCol w="3848040"/>
                <a:gridCol w="3848040"/>
              </a:tblGrid>
              <a:tr h="101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ma de actuación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7cd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étodo de conservación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7cdcc"/>
                    </a:solidFill>
                  </a:tcPr>
                </a:tc>
              </a:tr>
              <a:tr h="129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paración físic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7cd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ltración esterilizan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ltrafiltración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7cd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2498760" y="2553480"/>
            <a:ext cx="4146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9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                  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1979640" y="1916280"/>
            <a:ext cx="468000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8000" y="1905120"/>
            <a:ext cx="50403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700" spc="-1" strike="noStrike">
                <a:solidFill>
                  <a:srgbClr val="000000"/>
                </a:solidFill>
                <a:latin typeface="Arial"/>
              </a:rPr>
              <a:t>Materia prima alimentaria: </a:t>
            </a:r>
            <a:r>
              <a:rPr b="0" lang="es-CL" sz="2700" spc="-1" strike="noStrike">
                <a:solidFill>
                  <a:srgbClr val="000000"/>
                </a:solidFill>
                <a:latin typeface="Arial"/>
              </a:rPr>
              <a:t>es toda sustancia que para ser utilizada como alimento, precisa de algún tratamiento o transformación de naturaleza química, física o biológica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Arial"/>
              </a:rPr>
              <a:t>Ejemplo: trigo, maíz, leche cruda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724360" y="1905120"/>
            <a:ext cx="27338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6300720" y="2133720"/>
            <a:ext cx="1658880" cy="23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300" spc="-1" strike="noStrike">
                <a:solidFill>
                  <a:srgbClr val="336666"/>
                </a:solidFill>
                <a:latin typeface="Arial Black"/>
              </a:rPr>
              <a:t>Ingrediente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40971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Arial"/>
              </a:rPr>
              <a:t>cualquier sustancia, incluidos los aditivos que se empleen en la fabricación o preparación de un alimento y esté presente en el producto final, aunque sea en forma modificada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03640" y="1905120"/>
            <a:ext cx="34545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292720" y="2865600"/>
            <a:ext cx="2951280" cy="22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300" spc="-1" strike="noStrike">
                <a:solidFill>
                  <a:srgbClr val="336666"/>
                </a:solidFill>
                <a:latin typeface="Arial Black"/>
              </a:rPr>
              <a:t>Clasificación de alimentos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74"/>
              </a:spcBef>
              <a:buClr>
                <a:srgbClr val="cccc99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100" spc="-1" strike="noStrike">
                <a:solidFill>
                  <a:srgbClr val="000000"/>
                </a:solidFill>
                <a:latin typeface="Arial"/>
              </a:rPr>
              <a:t>Según sus condiciones para el consumo</a:t>
            </a:r>
            <a:r>
              <a:rPr b="0" lang="es-CL" sz="3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74"/>
              </a:spcBef>
              <a:buClr>
                <a:srgbClr val="cccc99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100" spc="-1" strike="noStrike">
                <a:solidFill>
                  <a:srgbClr val="000000"/>
                </a:solidFill>
                <a:latin typeface="Arial"/>
              </a:rPr>
              <a:t>Según su aptitud para el consumo</a:t>
            </a:r>
            <a:r>
              <a:rPr b="0" lang="es-CL" sz="3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74"/>
              </a:spcBef>
              <a:buClr>
                <a:srgbClr val="cccc99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100" spc="-1" strike="noStrike">
                <a:solidFill>
                  <a:srgbClr val="000000"/>
                </a:solidFill>
                <a:latin typeface="Arial"/>
              </a:rPr>
              <a:t>Según su origen o tecnología aplicada en su elaboración</a:t>
            </a:r>
            <a:r>
              <a:rPr b="0" lang="es-CL" sz="3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336666"/>
                </a:solidFill>
                <a:latin typeface="Arial Black"/>
              </a:rPr>
              <a:t>1. Según sus condiciones para el consumo</a:t>
            </a:r>
            <a:endParaRPr b="0" lang="en-US" sz="26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55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0000"/>
                </a:solidFill>
                <a:latin typeface="Arial"/>
              </a:rPr>
              <a:t>Alimento al estado natur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55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0000"/>
                </a:solidFill>
                <a:latin typeface="Arial"/>
              </a:rPr>
              <a:t>Alimento fresc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55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0000"/>
                </a:solidFill>
                <a:latin typeface="Arial"/>
              </a:rPr>
              <a:t>Alimento pereci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55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0000"/>
                </a:solidFill>
                <a:latin typeface="Arial"/>
              </a:rPr>
              <a:t>Alimento de guarda</a:t>
            </a: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55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0000"/>
                </a:solidFill>
                <a:latin typeface="Arial"/>
              </a:rPr>
              <a:t>Alimento conservado o preservad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55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0000"/>
                </a:solidFill>
                <a:latin typeface="Arial"/>
              </a:rPr>
              <a:t>Alimento elaborad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55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0000"/>
                </a:solidFill>
                <a:latin typeface="Arial"/>
              </a:rPr>
              <a:t>Alimento confeccionad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55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0000"/>
                </a:solidFill>
                <a:latin typeface="Arial"/>
              </a:rPr>
              <a:t>Alimento sucedáne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55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0000"/>
                </a:solidFill>
                <a:latin typeface="Arial"/>
              </a:rPr>
              <a:t>Alimentos de uso especial</a:t>
            </a: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55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0000"/>
                </a:solidFill>
                <a:latin typeface="Arial"/>
              </a:rPr>
              <a:t>Alimento enriquecid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6666"/>
                </a:solidFill>
                <a:latin typeface="Arial Black"/>
              </a:rPr>
              <a:t>2. Según su aptitud para el consumo.</a:t>
            </a:r>
            <a:endParaRPr b="0" lang="en-US" sz="29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Arial"/>
              </a:rPr>
              <a:t>Los alimentos pueden experimentar transformaciones, perdiendo o disminuyendo su aptitud para el consumo, al respecto se distinguen las siguientes clases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100" spc="-1" strike="noStrike">
                <a:solidFill>
                  <a:srgbClr val="000000"/>
                </a:solidFill>
                <a:latin typeface="Arial"/>
              </a:rPr>
              <a:t>Alimento alterado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100" spc="-1" strike="noStrike">
                <a:solidFill>
                  <a:srgbClr val="000000"/>
                </a:solidFill>
                <a:latin typeface="Arial"/>
              </a:rPr>
              <a:t>Alimento adulterado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100" spc="-1" strike="noStrike">
                <a:solidFill>
                  <a:srgbClr val="000000"/>
                </a:solidFill>
                <a:latin typeface="Arial"/>
              </a:rPr>
              <a:t>Alimento falsificado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100" spc="-1" strike="noStrike">
                <a:solidFill>
                  <a:srgbClr val="000000"/>
                </a:solidFill>
                <a:latin typeface="Arial"/>
              </a:rPr>
              <a:t>Alimento contaminado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21T21:52:35Z</dcterms:created>
  <dc:creator>Vilma Quitral</dc:creator>
  <dc:description/>
  <dc:language>en-US</dc:language>
  <cp:lastModifiedBy>Fca. de Medicina</cp:lastModifiedBy>
  <dcterms:modified xsi:type="dcterms:W3CDTF">2007-07-25T17:11:04Z</dcterms:modified>
  <cp:revision>18</cp:revision>
  <dc:subject/>
  <dc:title>Diapositiva 1</dc:title>
</cp:coreProperties>
</file>