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18.png" ContentType="image/pn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434B-2E94-49C8-88F6-5765DAF26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493B-738F-4878-A572-7FAE5F813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15BA-1793-4D0F-ADBE-1EED4AAA9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3F08-D3E7-4CC3-99CB-9DC65661C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E050F-FB8B-4970-B078-C069F23E9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84466-0405-4A8F-B9AC-4833FF3B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A956F-5572-4BA4-A7AF-CD2EAA37A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054F4-0C55-4A5C-BF66-4D8865E3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ADF3A-8706-4C30-A43E-3191491C7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FD43B-3941-4ADF-B2BB-2A5417093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96E50-39C3-4CB0-B2CE-09F9FE79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7957-6D9F-4252-870B-B112D0323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6903B-08B2-42E3-B88B-DAF61150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BC3CD-A8AA-4554-A6E1-D8D991C4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AE0C7-47C8-4D20-8596-15D932683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0C6A0-79AB-474C-8C23-397C93E89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8296F-6E4B-4D9B-802E-3B8FAF2FE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B086-E9EB-4B68-A59B-F99D61B44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EF1C-1D28-498C-B81B-C5349F344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9F4B-570B-455C-A50C-0551E7F7A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4C6F-16E9-4753-ABE0-8EEF0BFE6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714E-9269-49D6-AC0B-A221974A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DCD6-44FB-444B-986C-B9C3F013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6BE3-AA3E-43C4-AD27-9D93A6EF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V.Quit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B08EF-AFA9-49BC-9C17-D31726742FBA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V.Quit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9EE5B-38D8-4E3D-BE97-10A407077E1D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www.alimentacion-sana.com.ar/Portal%2520nuevo/imagenesplanillas/originales/alimentos%2520combinados.jpg&amp;imgrefurl=http://www.alimentacion-sana.com.ar/Portal%2520nuevo/actualizaciones/La%2520combinacion%2520alimentos.htm&amp;h=374&amp;w=300&amp;sz=19&amp;hl=es&amp;start=4&amp;tbnid=jBTSZpSazXcEnM:&amp;tbnh=122&amp;tbnw=98&amp;prev=/images%3Fq%3Dalimentos%26svnum%3D10%26hl%3Des%26lr%3Dlang_es%26sa%3D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www.tusalud.com.mx/images/botulismo.jpg&amp;imgrefurl=http://www.tusalud.com.mx/120670.HTM&amp;h=177&amp;w=295&amp;sz=14&amp;hl=es&amp;start=9&amp;tbnid=i1YuoCqiTqTC8M:&amp;tbnh=69&amp;tbnw=115&amp;prev=/images%3Fq%3Dalimentos%2Bprocesados%26svnum%3D10%26hl%3Des%26lr%3Dlang_es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es/imgres?imgurl=http://www.rree.gob.sv/segundaferia/imagenes/sectores1.gif&amp;imgrefurl=http://www.rree.gob.sv/segundaferia/index.htm&amp;h=148&amp;w=152&amp;sz=13&amp;hl=es&amp;start=12&amp;tbnid=ron8KfSXrE0JeM:&amp;tbnh=93&amp;tbnw=96&amp;prev=/images%3Fq%3Dalimentos%2Bprocesados%26svnum%3D10%26hl%3Des%26lr%3Dlang_es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images.google.es/imgres?imgurl=http://www.proamazonia.gob.pe/bpa/images/trazabilidad_alimentos.gif&amp;imgrefurl=http://www.proamazonia.gob.pe/bpa/trazabilidad.htm&amp;h=207&amp;w=307&amp;sz=51&amp;hl=es&amp;start=2&amp;tbnid=jjL46qSYH33OPM:&amp;tbnh=79&amp;tbnw=117&amp;prev=/images%3Fq%3Dalimentos%2Bprocesados%26svnum%3D10%26hl%3Des%26lr%3Dlang_es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images.google.es/imgres?imgurl=http://www.sagan-gea.org/hojared_radiacion/imagenes/radiaciongamma2.jpg&amp;imgrefurl=http://www.sagan-gea.org/hojared_radiacion/paginas/Radiaci%25F3n_de_alimentos.html&amp;h=257&amp;w=374&amp;sz=33&amp;hl=es&amp;start=4&amp;tbnid=F9PfMKkO-ZibdM:&amp;tbnh=84&amp;tbnw=122&amp;prev=/images%3Fq%3Dalimentos%2Bprocesados%26svnum%3D10%26hl%3Des%26lr%3Dlang_es" TargetMode="External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www.terra.com.mx/Galeria_de_fotos/images/131/261772.jpg&amp;imgrefurl=http://www.terra.com.mx/sportlife/articulo/173890/&amp;h=289&amp;w=214&amp;sz=40&amp;hl=es&amp;start=1&amp;tbnid=iydxMXovSGzLVM:&amp;tbnh=115&amp;tbnw=85&amp;prev=/images%3Fq%3Dalimentos%2Bprocesados%26svnum%3D10%26hl%3Des%26lr%3Dlang_es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google.es/imgres?imgurl=http://www.alimentacion-sana.com.ar/Portal%2520nuevo/imagenesplanillas/originales/alimentos%2520combinados.jpg&amp;imgrefurl=http://www.alimentacion-sana.com.ar/Portal%2520nuevo/actualizaciones/La%2520combinacion%2520alimentos.htm&amp;h=374&amp;w=300&amp;sz=19&amp;hl=es&amp;start=4&amp;tbnid=jBTSZpSazXcEnM:&amp;tbnh=122&amp;tbnw=98&amp;prev=/images%3Fq%3Dalimentos%2B%26svnum%3D10%26hl%3Des%26lr%3Dlang_es%26sa%3DG" TargetMode="Externa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www.reteteculinare.ro/forum/files/ingrediente_855.jpeg&amp;imgrefurl=http://www.reteteculinare.ro/forum/discutii/chec_preferat_de_mine-533/&amp;h=450&amp;w=600&amp;sz=162&amp;hl=es&amp;start=10&amp;tbnid=A4hxvSoVLsR15M:&amp;tbnh=101&amp;tbnw=135&amp;prev=/images%3Fq%3Dingrediente%26svnum%3D10%26hl%3Des%26lr%3D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100" spc="-1" strike="noStrike">
                <a:solidFill>
                  <a:srgbClr val="336666"/>
                </a:solidFill>
                <a:latin typeface="Arial Black"/>
              </a:rPr>
              <a:t>Tecnología de Alimentos 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000000"/>
                </a:solidFill>
                <a:latin typeface="Arial"/>
              </a:rPr>
              <a:t>Métodos de conservació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336666"/>
                </a:solidFill>
                <a:latin typeface="Arial Black"/>
              </a:rPr>
              <a:t>Alimento alterado</a:t>
            </a:r>
            <a:endParaRPr b="0" lang="en-US" sz="2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000000"/>
                </a:solidFill>
                <a:latin typeface="Arial"/>
              </a:rPr>
              <a:t>es aquel que por </a:t>
            </a:r>
            <a:r>
              <a:rPr b="0" lang="es-CL" sz="3100" spc="-1" strike="noStrike" u="sng">
                <a:solidFill>
                  <a:srgbClr val="336666"/>
                </a:solidFill>
                <a:uFillTx/>
                <a:latin typeface="Arial"/>
              </a:rPr>
              <a:t>causas naturales</a:t>
            </a:r>
            <a:r>
              <a:rPr b="0" lang="es-CL" sz="3100" spc="-1" strike="noStrike">
                <a:solidFill>
                  <a:srgbClr val="000000"/>
                </a:solidFill>
                <a:latin typeface="Arial"/>
              </a:rPr>
              <a:t> de índole física, química o biológica, o por causas derivadas de tratamientos tecnológicos, aisladas o combinadas, ha sufrido modificación o deterioro en sus características organolépticas, en composición y/o valor nutritivo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Ejemplo: pardeamiento de papas, rancidez de grasa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508720" y="1773360"/>
            <a:ext cx="1768320" cy="2447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790720" y="3473280"/>
            <a:ext cx="161136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336666"/>
                </a:solidFill>
                <a:latin typeface="Arial Black"/>
              </a:rPr>
              <a:t>Alimento adulterado</a:t>
            </a:r>
            <a:endParaRPr b="0" lang="en-US" sz="3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88200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s aquel que ha experimentado por </a:t>
            </a:r>
            <a:r>
              <a:rPr b="1" lang="es-CL" sz="2400" spc="-1" strike="noStrike" u="sng">
                <a:solidFill>
                  <a:srgbClr val="336666"/>
                </a:solidFill>
                <a:uFillTx/>
                <a:latin typeface="Arial"/>
              </a:rPr>
              <a:t>intervención del hombre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, cambios que le modifican sus características o cualidades propias tales como</a:t>
            </a:r>
            <a:r>
              <a:rPr b="0" lang="es-CL" sz="3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Arial"/>
              </a:rPr>
              <a:t>i.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a extracción parcial o total de cualquiera de los componentes del producto original.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Ejemplo: leche descremada por leche ente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a sustitución parcial o total de cualquiera de los componentes del producto original por otros inertes o extraños, incluida la adición de agua u otro material de rellen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. Ejemplo: leche recombinada con grasa extraña por leche entera, leche aguada, pimentón con afrech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a mezcla, coloración, pulverización o encubrimiento, de tal forma que se oculte su inferioridad o disminuya su pureza.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Ejemplo: pimentón decolorado con tinción con un colora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336666"/>
                </a:solidFill>
                <a:latin typeface="Arial Black"/>
              </a:rPr>
              <a:t>Alimento falsificado</a:t>
            </a:r>
            <a:endParaRPr b="0" lang="en-US" sz="2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91440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Se designa, rotula o expenda con nombre o calificativo que no corresponda a su origen, identidad, valor nutritivo o estimulante; (Ej. Margarina por mantequilla, sucedáneos del café por café, jurel tipo salmón) 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Cuyo envase, rótulo o anuncio, contenga cualquier diseño o declaración ambigua, falsa o que pueda inducir a error, respecto a los ingredientes que componen el alimento. Ejemplo: figura de olivas, si el aceite es de maravilla; Pisco elaborado en zona diferente del Norte Chico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336666"/>
                </a:solidFill>
                <a:latin typeface="Arial Black"/>
              </a:rPr>
              <a:t>Alimento contaminado</a:t>
            </a:r>
            <a:endParaRPr b="0" lang="en-US" sz="2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8686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es aquel que contenga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Microorganismos, virus y/o parásitos, sustancias extrañas o deletéreas de origen mineral, orgánico o biológico, sustancias radioactivas y/o sustancias tóxicas en cantidades superiores a las permitidas en las normas vigentes, o que se presuman nocivas para la salu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Ejemplo: metales pesados (plomo, mercurio, cadmio, etc.)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Cualquier tipo de suciedad, restos o excrementos. ·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Aditivos no autorizados por las normas vigentes o en cantidades superiores a las permitidas. ·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336666"/>
                </a:solidFill>
                <a:latin typeface="Arial Black"/>
              </a:rPr>
              <a:t>3. Según la tecnología aplicada en su elaboración.</a:t>
            </a:r>
            <a:endParaRPr b="0" lang="en-US" sz="2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100" spc="-1" strike="noStrike">
                <a:solidFill>
                  <a:srgbClr val="000000"/>
                </a:solidFill>
                <a:latin typeface="Arial"/>
              </a:rPr>
              <a:t>3.1. Temperatur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100" spc="-1" strike="noStrike">
                <a:solidFill>
                  <a:srgbClr val="000000"/>
                </a:solidFill>
                <a:latin typeface="Arial"/>
              </a:rPr>
              <a:t>3.2. Aw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100" spc="-1" strike="noStrike">
                <a:solidFill>
                  <a:srgbClr val="000000"/>
                </a:solidFill>
                <a:latin typeface="Arial"/>
              </a:rPr>
              <a:t>3.3. pH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100" spc="-1" strike="noStrike">
                <a:solidFill>
                  <a:srgbClr val="000000"/>
                </a:solidFill>
                <a:latin typeface="Arial"/>
              </a:rPr>
              <a:t>3.4. Sustancias inhibidora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100" spc="-1" strike="noStrike">
                <a:solidFill>
                  <a:srgbClr val="000000"/>
                </a:solidFill>
                <a:latin typeface="Arial"/>
              </a:rPr>
              <a:t>3.5. Métodos combinado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100" spc="-1" strike="noStrike">
                <a:solidFill>
                  <a:srgbClr val="000000"/>
                </a:solidFill>
                <a:latin typeface="Arial"/>
              </a:rPr>
              <a:t>3.6. Métodos no tradicionales y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_tradnl" sz="3100" spc="-1" strike="noStrike">
                <a:solidFill>
                  <a:srgbClr val="000000"/>
                </a:solidFill>
                <a:latin typeface="Arial"/>
              </a:rPr>
              <a:t>emergent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227320" y="981000"/>
            <a:ext cx="46213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2400480" y="1900080"/>
          <a:ext cx="5124240" cy="360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0480" y="1900080"/>
                    <a:ext cx="5124240" cy="36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266920" y="2100240"/>
            <a:ext cx="532944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90200" y="1147320"/>
            <a:ext cx="2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324000" y="549360"/>
          <a:ext cx="8569080" cy="6211800"/>
        </p:xfrm>
        <a:graphic>
          <a:graphicData uri="http://schemas.openxmlformats.org/drawingml/2006/table">
            <a:tbl>
              <a:tblPr/>
              <a:tblGrid>
                <a:gridCol w="2857320"/>
                <a:gridCol w="2854440"/>
                <a:gridCol w="2857320"/>
              </a:tblGrid>
              <a:tr h="121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ión microorganismo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a9a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0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omposición proteica (mal olor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edaba"/>
                    </a:solidFill>
                  </a:tcPr>
                </a:tc>
              </a:tr>
              <a:tr h="158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mbios físicos y químico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1fb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ERACIÓN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0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rmentación glúcidos (sabor picante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c9cae"/>
                    </a:solidFill>
                  </a:tcPr>
                </a:tc>
              </a:tr>
              <a:tr h="121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ión enzimática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9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L ALIMENTO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0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0e8e7"/>
                    </a:solidFill>
                  </a:tcPr>
                </a:tc>
              </a:tr>
              <a:tr h="97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aminación sust. extraña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dd8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0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ranciamiento de las grasa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cfeba"/>
                    </a:solidFill>
                  </a:tcPr>
                </a:tc>
              </a:tr>
              <a:tr h="121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ión vectores de germene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a9a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0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xidación de las vitamina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0bdfb"/>
                    </a:solidFill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5229000" y="4581000"/>
            <a:ext cx="2401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336666"/>
                </a:solidFill>
                <a:latin typeface="Arial Black"/>
              </a:rPr>
              <a:t>La Ciencia de los Alimento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1600200"/>
            <a:ext cx="38098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Estructur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Composició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Propiedade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16360" y="45086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ALI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35280" y="1628640"/>
            <a:ext cx="360360" cy="1656000"/>
          </a:xfrm>
          <a:custGeom>
            <a:avLst/>
            <a:gdLst>
              <a:gd name="textAreaLeft" fmla="*/ 0 w 360360"/>
              <a:gd name="textAreaRight" fmla="*/ 129960 w 360360"/>
              <a:gd name="textAreaTop" fmla="*/ 42840 h 1656000"/>
              <a:gd name="textAreaBottom" fmla="*/ 161316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140360" y="2419200"/>
            <a:ext cx="1800000" cy="1730520"/>
          </a:xfrm>
          <a:custGeom>
            <a:avLst/>
            <a:gdLst/>
            <a:ahLst/>
            <a:rect l="l" t="t" r="r" b="b"/>
            <a:pathLst>
              <a:path w="1134" h="1090">
                <a:moveTo>
                  <a:pt x="0" y="1"/>
                </a:moveTo>
                <a:cubicBezTo>
                  <a:pt x="291" y="0"/>
                  <a:pt x="582" y="0"/>
                  <a:pt x="771" y="182"/>
                </a:cubicBezTo>
                <a:cubicBezTo>
                  <a:pt x="960" y="364"/>
                  <a:pt x="1047" y="727"/>
                  <a:pt x="1134" y="109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940360" y="4149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3500280"/>
            <a:ext cx="1455840" cy="18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7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770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" dur="77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336666"/>
                </a:solidFill>
                <a:latin typeface="Arial Black"/>
              </a:rPr>
              <a:t>Vida útil</a:t>
            </a:r>
            <a:endParaRPr b="0" lang="en-US" sz="21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57200" y="1197000"/>
          <a:ext cx="8229600" cy="4917960"/>
        </p:xfrm>
        <a:graphic>
          <a:graphicData uri="http://schemas.openxmlformats.org/drawingml/2006/table">
            <a:tbl>
              <a:tblPr/>
              <a:tblGrid>
                <a:gridCol w="3970440"/>
                <a:gridCol w="425916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imento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ías de almacenamiento a 21º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</a:tr>
              <a:tr h="46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– 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sc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– 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</a:tr>
              <a:tr h="4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– 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ne y pescado desecado, salado o ahum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 o má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</a:tr>
              <a:tr h="4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u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– 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</a:tr>
              <a:tr h="46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utas se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 o má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</a:tr>
              <a:tr h="46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rtalizas de hojas ver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– 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</a:tr>
              <a:tr h="46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í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– 2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</a:tr>
              <a:tr h="46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illas se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 o má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336666"/>
                </a:solidFill>
                <a:latin typeface="Arial Black"/>
              </a:rPr>
              <a:t>Factores que influyen en el desarrollo microbiano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Agu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Potencial oxido-reducció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Sustancias inhibidora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Temperatur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336666"/>
                </a:solidFill>
                <a:latin typeface="Arial Black"/>
              </a:rPr>
              <a:t>pH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6666"/>
                </a:solidFill>
                <a:latin typeface="Tahoma"/>
              </a:rPr>
              <a:t>Valores de pH necesario para crecimiento de m.o.</a:t>
            </a:r>
            <a:endParaRPr b="0" lang="en-US" sz="25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85800" y="2057400"/>
          <a:ext cx="7772400" cy="3963960"/>
        </p:xfrm>
        <a:graphic>
          <a:graphicData uri="http://schemas.openxmlformats.org/drawingml/2006/table">
            <a:tbl>
              <a:tblPr/>
              <a:tblGrid>
                <a:gridCol w="4664160"/>
                <a:gridCol w="1552320"/>
                <a:gridCol w="155592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ganismo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c8e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ínimo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c8e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áximo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c8e4e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scherichia coli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4e3"/>
                    </a:solidFill>
                  </a:tcPr>
                </a:tc>
              </a:tr>
              <a:tr h="79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almonella typhi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4e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ho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4e3"/>
                    </a:solidFill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vadura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c8e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c8e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c8e4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6666"/>
                </a:solidFill>
                <a:latin typeface="Tahoma"/>
              </a:rPr>
              <a:t>Valores aproximados de pH de alimentos</a:t>
            </a:r>
            <a:endParaRPr b="0" lang="en-US" sz="25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762120" y="2057400"/>
          <a:ext cx="7696080" cy="4038480"/>
        </p:xfrm>
        <a:graphic>
          <a:graphicData uri="http://schemas.openxmlformats.org/drawingml/2006/table">
            <a:tbl>
              <a:tblPr/>
              <a:tblGrid>
                <a:gridCol w="5562360"/>
                <a:gridCol w="2133720"/>
              </a:tblGrid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ipo de alimentos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9933"/>
                      </a:solidFill>
                    </a:lnT>
                    <a:lnB w="13680">
                      <a:solidFill>
                        <a:srgbClr val="ff9933"/>
                      </a:solidFill>
                    </a:lnB>
                    <a:solidFill>
                      <a:srgbClr val="c8e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H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9933"/>
                      </a:solidFill>
                    </a:lnR>
                    <a:lnT w="13680">
                      <a:solidFill>
                        <a:srgbClr val="ff9933"/>
                      </a:solidFill>
                    </a:lnT>
                    <a:lnB w="13680">
                      <a:solidFill>
                        <a:srgbClr val="ff9933"/>
                      </a:solidFill>
                    </a:lnB>
                    <a:solidFill>
                      <a:srgbClr val="c8e4e3"/>
                    </a:solidFill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duras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99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2 – 6.5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9933"/>
                      </a:solidFill>
                    </a:lnR>
                    <a:lnT w="13680">
                      <a:solidFill>
                        <a:srgbClr val="ff99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4e3"/>
                    </a:solidFill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rutas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0 – 4.5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99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4e3"/>
                    </a:solidFill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rnes y aves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1 – 6.4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99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4e3"/>
                    </a:solidFill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scados y mariscos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5 – 7.0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99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4e3"/>
                    </a:solidFill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ductos lácteos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9933"/>
                      </a:solidFill>
                    </a:lnB>
                    <a:solidFill>
                      <a:srgbClr val="c8e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0 – 6.5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99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9933"/>
                      </a:solidFill>
                    </a:lnB>
                    <a:solidFill>
                      <a:srgbClr val="c8e4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336666"/>
                </a:solidFill>
                <a:latin typeface="Tahoma"/>
              </a:rPr>
              <a:t>Clasificación de alimentos según pH</a:t>
            </a:r>
            <a:endParaRPr b="0" lang="en-US" sz="25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52280" y="907920"/>
          <a:ext cx="8991720" cy="6375240"/>
        </p:xfrm>
        <a:graphic>
          <a:graphicData uri="http://schemas.openxmlformats.org/drawingml/2006/table">
            <a:tbl>
              <a:tblPr/>
              <a:tblGrid>
                <a:gridCol w="2105280"/>
                <a:gridCol w="1296720"/>
                <a:gridCol w="3341880"/>
                <a:gridCol w="2247840"/>
              </a:tblGrid>
              <a:tr h="83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asificación de la acide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or de p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imen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rupos de alimen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4e3"/>
                    </a:solidFill>
                  </a:tcPr>
                </a:tc>
              </a:tr>
              <a:tr h="285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ja acide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cc00cc"/>
                      </a:solidFill>
                    </a:lnB>
                    <a:solidFill>
                      <a:srgbClr val="c8e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cc00cc"/>
                      </a:solidFill>
                    </a:lnB>
                    <a:solidFill>
                      <a:srgbClr val="c8e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eitunas, huevos, leche, maiz, pollos, bacalao, sardin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uisantes, zanahorias, espárragos, pap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ig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cc00cc"/>
                      </a:solidFill>
                    </a:lnB>
                    <a:solidFill>
                      <a:srgbClr val="c8e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r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sc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v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ortaliz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cc00cc"/>
                      </a:solidFill>
                    </a:lnB>
                    <a:solidFill>
                      <a:srgbClr val="c8e4e3"/>
                    </a:solidFill>
                  </a:tcPr>
                </a:tc>
              </a:tr>
              <a:tr h="268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ta acide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c00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c00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ebollas, tomates, peras, durazn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iña, manzana, fresa, jugo de naranja, ber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ugo de lim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c00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ru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c00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4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336666"/>
                </a:solidFill>
                <a:latin typeface="Arial Black"/>
              </a:rPr>
              <a:t>Agua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ae6e5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Microorganismos necesitan agua para su crecimiento </a:t>
            </a:r>
            <a:r>
              <a:rPr b="0" lang="es-ES_tradnl" sz="31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olvente de nutrientes para permitir su transporte y disponibilidad en el citoplas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gente químico que interviene en las reacciones hidrolíticas que dan lugar a monómereos, necesarios para la síntesis microbiana y para las reacciones energétic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84360" y="2637000"/>
            <a:ext cx="3600360" cy="187164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336666"/>
                </a:solidFill>
                <a:latin typeface="Arial Black"/>
              </a:rPr>
              <a:t>Actividad de agua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Aw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Aw = </a:t>
            </a:r>
            <a:r>
              <a:rPr b="0" lang="es-ES_tradnl" sz="3100" spc="-1" strike="noStrike" u="sng">
                <a:solidFill>
                  <a:srgbClr val="000000"/>
                </a:solidFill>
                <a:uFillTx/>
                <a:latin typeface="Arial"/>
              </a:rPr>
              <a:t>Px </a:t>
            </a:r>
            <a:r>
              <a:rPr b="0" lang="es-ES_tradnl" sz="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P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43120" y="2637000"/>
            <a:ext cx="2468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336666"/>
                </a:solidFill>
                <a:latin typeface="Tahoma"/>
              </a:rPr>
              <a:t>Valores mínimos de Aw necesarios para el crecimiento de m.o.</a:t>
            </a:r>
            <a:r>
              <a:rPr b="0" lang="es-MX" sz="2500" spc="-1" strike="noStrike">
                <a:solidFill>
                  <a:srgbClr val="336666"/>
                </a:solidFill>
                <a:latin typeface="Tahoma"/>
              </a:rPr>
              <a:t> </a:t>
            </a:r>
            <a:endParaRPr b="0" lang="en-US" sz="25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04920" y="1268280"/>
          <a:ext cx="8012160" cy="5247000"/>
        </p:xfrm>
        <a:graphic>
          <a:graphicData uri="http://schemas.openxmlformats.org/drawingml/2006/table">
            <a:tbl>
              <a:tblPr/>
              <a:tblGrid>
                <a:gridCol w="6076800"/>
                <a:gridCol w="1935360"/>
              </a:tblGrid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ganism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6699"/>
                      </a:solidFill>
                    </a:lnL>
                    <a:lnR w="13680">
                      <a:solidFill>
                        <a:srgbClr val="ff6699"/>
                      </a:solidFill>
                    </a:lnR>
                    <a:lnT w="13680">
                      <a:solidFill>
                        <a:srgbClr val="ff6699"/>
                      </a:solidFill>
                    </a:lnT>
                    <a:lnB w="13680">
                      <a:solidFill>
                        <a:srgbClr val="ff6699"/>
                      </a:solidFill>
                    </a:lnB>
                    <a:solidFill>
                      <a:srgbClr val="c8e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w míni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6699"/>
                      </a:solidFill>
                    </a:lnL>
                    <a:lnR w="13680">
                      <a:solidFill>
                        <a:srgbClr val="ff6699"/>
                      </a:solidFill>
                    </a:lnR>
                    <a:lnT w="13680">
                      <a:solidFill>
                        <a:srgbClr val="ff6699"/>
                      </a:solidFill>
                    </a:lnT>
                    <a:lnB w="13680">
                      <a:solidFill>
                        <a:srgbClr val="ff6699"/>
                      </a:solidFill>
                    </a:lnB>
                    <a:solidFill>
                      <a:srgbClr val="c8e4e3"/>
                    </a:solidFill>
                  </a:tcPr>
                </a:tc>
              </a:tr>
              <a:tr h="294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rup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cterias alterador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vaduras alterador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hos alterado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cterias halofíl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hos xerofílic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vaduras osmofíl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66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66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6699"/>
                      </a:solidFill>
                    </a:lnR>
                    <a:lnT w="13680">
                      <a:solidFill>
                        <a:srgbClr val="ff6699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8e4e3"/>
                    </a:solidFill>
                  </a:tcPr>
                </a:tc>
              </a:tr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ganismos específic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</a:t>
                      </a:r>
                      <a:r>
                        <a:rPr b="1" i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ostridium botulin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</a:t>
                      </a:r>
                      <a:r>
                        <a:rPr b="1" i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scherichia co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</a:t>
                      </a:r>
                      <a:r>
                        <a:rPr b="1" i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phylococcus aure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6699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6699"/>
                      </a:solidFill>
                    </a:lnB>
                    <a:solidFill>
                      <a:srgbClr val="c8e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ff6699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ff6699"/>
                      </a:solidFill>
                    </a:lnB>
                    <a:solidFill>
                      <a:srgbClr val="c8e4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67680"/>
            <a:ext cx="7696080" cy="5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9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57200" y="549360"/>
          <a:ext cx="8229600" cy="5832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imento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w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</a:tr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ne de vacu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90 – 0.9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ne de cer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sc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94 – 0.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cin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50 – 0.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cachof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87 – 0.9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nahori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89 – 0.9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</a:tr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pin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98 – 0.9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mpiñon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95 – 0.9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p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336666"/>
                </a:solidFill>
                <a:latin typeface="Arial Black"/>
              </a:rPr>
              <a:t>Tecnología de los Alimento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1600200"/>
            <a:ext cx="38098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Aplicación práctic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92720" y="1989000"/>
            <a:ext cx="1584360" cy="951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71640" y="2637000"/>
            <a:ext cx="1562040" cy="1512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651640" y="3860640"/>
            <a:ext cx="1873080" cy="12654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132000" y="3933720"/>
            <a:ext cx="1513080" cy="13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67680"/>
            <a:ext cx="7696080" cy="5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9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57200" y="549360"/>
          <a:ext cx="8229600" cy="59752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imento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w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ma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zan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z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v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86 – 0.9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m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l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91 – 0.9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ranj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locot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itur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00 – 0.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336666"/>
                </a:solidFill>
                <a:latin typeface="Arial Black"/>
              </a:rPr>
              <a:t>Potencial oxido-reducció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El poder oxido-reducción, o poder oxidante y reductor, del propio alimento, influye en el tipo de microorganismo que se desarrollará en él y, por lo tanto, en las modificaciones que se producirán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336666"/>
                </a:solidFill>
                <a:latin typeface="Arial Black"/>
              </a:rPr>
              <a:t>Clasificación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En función de las exigencias de oxígeno y/o en su toxicidad </a:t>
            </a:r>
            <a:r>
              <a:rPr b="0" lang="es-ES_tradnl" sz="31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6666"/>
                </a:solidFill>
                <a:latin typeface="Arial"/>
              </a:rPr>
              <a:t>Aerobios estrictos</a:t>
            </a: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: Pseudomonas, Micrococcus, Bacillus </a:t>
            </a:r>
            <a:r>
              <a:rPr b="0" lang="es-ES_tradnl" sz="31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 cuando necesitan oxígeno libre (como aceptor final de electrones) no tienen la posibilidad de utilizar una vía fermentativa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6666"/>
                </a:solidFill>
                <a:latin typeface="Arial"/>
              </a:rPr>
              <a:t>Anaerobios estrictos</a:t>
            </a: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: Clostridium, Bacteroides, Peptococos, Prinibacterium, etc. </a:t>
            </a:r>
            <a:r>
              <a:rPr b="0" lang="es-ES_tradnl" sz="31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 cuando crecen mejor en ausencia de oxígeno libre, presentan obligatoriamente un metabolismo fermentativo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6666"/>
                </a:solidFill>
                <a:latin typeface="Arial"/>
              </a:rPr>
              <a:t>Aerobios facultativos</a:t>
            </a: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: Enterobacterias, Staphylococcus. </a:t>
            </a:r>
            <a:r>
              <a:rPr b="0" lang="es-ES_tradnl" sz="31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 se pueden desarrollar en ausencia o presencia de oxígeno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336666"/>
                </a:solidFill>
                <a:latin typeface="Arial Black"/>
              </a:rPr>
              <a:t>Sustancias inhibidora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Son moléculas que poseen poder bacteriostático y/o bactericida, algunas pueden ser especificamente inhibidoras de moho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Composición químic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Mecanismo de acció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Se encuentran en estado natural en tejidos animales y vegetal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Se pueden producir por fermentació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336666"/>
                </a:solidFill>
                <a:latin typeface="Arial Black"/>
              </a:rPr>
              <a:t>Temperatura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Es uno de los factores más importantes en </a:t>
            </a:r>
            <a:r>
              <a:rPr b="0" lang="es-ES_tradnl" sz="31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 crecimiento microbian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31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determina el estado físico del agua en un determinado medi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31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velocidad de reacciones químicas y bioquímica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973800" y="1890000"/>
            <a:ext cx="21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24000" y="476280"/>
          <a:ext cx="8424720" cy="5977080"/>
        </p:xfrm>
        <a:graphic>
          <a:graphicData uri="http://schemas.openxmlformats.org/drawingml/2006/table">
            <a:tbl>
              <a:tblPr/>
              <a:tblGrid>
                <a:gridCol w="2232000"/>
                <a:gridCol w="287280"/>
                <a:gridCol w="5905440"/>
              </a:tblGrid>
              <a:tr h="8874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mperatu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ipertermófil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3f1f1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 temperatura óptima de crecimiento está por encima de los 80 </a:t>
                      </a:r>
                      <a:r>
                        <a:rPr b="0" lang="es-ES" sz="16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 y el máximo crecimiento de cultivos puros se ha llegado a dar a entre 110 y 113 </a:t>
                      </a:r>
                      <a:r>
                        <a:rPr b="0" lang="es-ES" sz="16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3f1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rmófil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3f1f1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ecen por encima de los 45 ó 50 </a:t>
                      </a:r>
                      <a:r>
                        <a:rPr b="0" lang="es-ES" sz="20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3f1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89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sófil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3f1f1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mperatura óptima alrededor de 37 </a:t>
                      </a:r>
                      <a:r>
                        <a:rPr b="0" lang="en-US" sz="23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. Frecuentemente son capaces de crecer en rangos de los 10 </a:t>
                      </a:r>
                      <a:r>
                        <a:rPr b="0" lang="en-US" sz="23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3f1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sicrófil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3f1f1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paces de crecer por debajo de 5 </a:t>
                      </a:r>
                      <a:r>
                        <a:rPr b="0" lang="es-ES" sz="20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 y con temperaturas máximas de 20 ó 25 </a:t>
                      </a:r>
                      <a:r>
                        <a:rPr b="0" lang="es-ES" sz="20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3f1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sicrófilos facultativ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3f1f1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mperatura óptima de 15 </a:t>
                      </a:r>
                      <a:r>
                        <a:rPr b="0" lang="es-ES" sz="20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 llegando a alcanzar los 20 </a:t>
                      </a:r>
                      <a:r>
                        <a:rPr b="0" lang="es-ES" sz="20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 y también capaces de bajar hasta menos de 0 </a:t>
                      </a:r>
                      <a:r>
                        <a:rPr b="0" lang="es-ES" sz="20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3f1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2328840" y="1109520"/>
          <a:ext cx="4486320" cy="463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28840" y="1109520"/>
                    <a:ext cx="4486320" cy="463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627280" y="765000"/>
            <a:ext cx="45496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336666"/>
                </a:solidFill>
                <a:latin typeface="Arial Black"/>
              </a:rPr>
              <a:t>Alimento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1600200"/>
            <a:ext cx="38098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Arial"/>
              </a:rPr>
              <a:t>Como un vehículo natural destinado a introducir uno o más nutrientes en el organismo</a:t>
            </a: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1989000"/>
            <a:ext cx="2087640" cy="20275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92360" y="3860640"/>
            <a:ext cx="1944720" cy="19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9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31440" y="1844280"/>
            <a:ext cx="2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324000" y="549360"/>
          <a:ext cx="8569080" cy="5904000"/>
        </p:xfrm>
        <a:graphic>
          <a:graphicData uri="http://schemas.openxmlformats.org/drawingml/2006/table">
            <a:tbl>
              <a:tblPr/>
              <a:tblGrid>
                <a:gridCol w="702000"/>
                <a:gridCol w="520920"/>
                <a:gridCol w="612720"/>
                <a:gridCol w="612720"/>
                <a:gridCol w="611640"/>
                <a:gridCol w="611280"/>
                <a:gridCol w="614520"/>
                <a:gridCol w="611640"/>
                <a:gridCol w="466920"/>
                <a:gridCol w="756000"/>
                <a:gridCol w="612720"/>
                <a:gridCol w="501120"/>
                <a:gridCol w="723240"/>
                <a:gridCol w="611640"/>
              </a:tblGrid>
              <a:tr h="11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100º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00"/>
                      </a:solidFill>
                    </a:lnL>
                    <a:lnR w="4320">
                      <a:solidFill>
                        <a:srgbClr val="ffff00"/>
                      </a:solidFill>
                    </a:lnR>
                    <a:lnT w="4320">
                      <a:solidFill>
                        <a:srgbClr val="ffff00"/>
                      </a:solidFill>
                    </a:lnT>
                    <a:lnB w="43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00"/>
                      </a:solidFill>
                    </a:lnL>
                    <a:lnR w="4320">
                      <a:solidFill>
                        <a:srgbClr val="ffff00"/>
                      </a:solidFill>
                    </a:lnR>
                    <a:lnT w="4320">
                      <a:solidFill>
                        <a:srgbClr val="ffff00"/>
                      </a:solidFill>
                    </a:lnT>
                    <a:lnB w="4320">
                      <a:solidFill>
                        <a:srgbClr val="ffff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74º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00"/>
                      </a:solidFill>
                    </a:lnL>
                    <a:lnR w="4320">
                      <a:solidFill>
                        <a:srgbClr val="ffff00"/>
                      </a:solidFill>
                    </a:lnR>
                    <a:lnT w="4320">
                      <a:solidFill>
                        <a:srgbClr val="ffff00"/>
                      </a:solidFill>
                    </a:lnT>
                    <a:lnB w="432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00"/>
                      </a:solidFill>
                    </a:lnL>
                    <a:lnR w="4320">
                      <a:solidFill>
                        <a:srgbClr val="ffff00"/>
                      </a:solidFill>
                    </a:lnR>
                    <a:lnT w="4320">
                      <a:solidFill>
                        <a:srgbClr val="ffff00"/>
                      </a:solidFill>
                    </a:lnT>
                    <a:lnB w="4320">
                      <a:solidFill>
                        <a:srgbClr val="ffff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60º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00"/>
                      </a:solidFill>
                    </a:lnL>
                    <a:lnR w="4320">
                      <a:solidFill>
                        <a:srgbClr val="ffff00"/>
                      </a:solidFill>
                    </a:lnR>
                    <a:lnT w="4320">
                      <a:solidFill>
                        <a:srgbClr val="ffff00"/>
                      </a:solidFill>
                    </a:lnT>
                    <a:lnB w="432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00"/>
                      </a:solidFill>
                    </a:lnL>
                    <a:lnR w="4320">
                      <a:solidFill>
                        <a:srgbClr val="ffff00"/>
                      </a:solidFill>
                    </a:lnR>
                    <a:lnT w="4320">
                      <a:solidFill>
                        <a:srgbClr val="ffff00"/>
                      </a:solidFill>
                    </a:lnT>
                    <a:lnB w="4320">
                      <a:solidFill>
                        <a:srgbClr val="ffff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8º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00"/>
                      </a:solidFill>
                    </a:lnL>
                    <a:lnR w="4320">
                      <a:solidFill>
                        <a:srgbClr val="ffff00"/>
                      </a:solidFill>
                    </a:lnR>
                    <a:lnT w="4320">
                      <a:solidFill>
                        <a:srgbClr val="ffff00"/>
                      </a:solidFill>
                    </a:lnT>
                    <a:lnB w="432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00"/>
                      </a:solidFill>
                    </a:lnL>
                    <a:lnR w="4320">
                      <a:solidFill>
                        <a:srgbClr val="ffff00"/>
                      </a:solidFill>
                    </a:lnR>
                    <a:lnT w="4320">
                      <a:solidFill>
                        <a:srgbClr val="ffff00"/>
                      </a:solidFill>
                    </a:lnT>
                    <a:lnB w="4320">
                      <a:solidFill>
                        <a:srgbClr val="ffff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0º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00"/>
                      </a:solidFill>
                    </a:lnL>
                    <a:lnR w="4320">
                      <a:solidFill>
                        <a:srgbClr val="ffff00"/>
                      </a:solidFill>
                    </a:lnR>
                    <a:lnT w="4320">
                      <a:solidFill>
                        <a:srgbClr val="ffff00"/>
                      </a:solidFill>
                    </a:lnT>
                    <a:lnB w="432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00"/>
                      </a:solidFill>
                    </a:lnL>
                    <a:lnR w="4320">
                      <a:solidFill>
                        <a:srgbClr val="ffff00"/>
                      </a:solidFill>
                    </a:lnR>
                    <a:lnT w="4320">
                      <a:solidFill>
                        <a:srgbClr val="ffff00"/>
                      </a:solidFill>
                    </a:lnT>
                    <a:lnB w="43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2031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Zona 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coc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00"/>
                      </a:solidFill>
                    </a:lnL>
                    <a:lnR w="4320">
                      <a:solidFill>
                        <a:srgbClr val="ffff00"/>
                      </a:solidFill>
                    </a:lnR>
                    <a:lnT w="4320">
                      <a:solidFill>
                        <a:srgbClr val="ffff00"/>
                      </a:solidFill>
                    </a:lnT>
                    <a:lnB w="432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cc0066"/>
                          </a:solidFill>
                          <a:latin typeface="Verdana"/>
                        </a:rPr>
                        <a:t>Zona 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cc0066"/>
                          </a:solidFill>
                          <a:latin typeface="Verdana"/>
                        </a:rPr>
                        <a:t>alar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00"/>
                      </a:solidFill>
                    </a:lnL>
                    <a:lnR w="4320">
                      <a:solidFill>
                        <a:srgbClr val="ffff00"/>
                      </a:solidFill>
                    </a:lnR>
                    <a:lnT w="4320">
                      <a:solidFill>
                        <a:srgbClr val="ffff00"/>
                      </a:solidFill>
                    </a:lnT>
                    <a:lnB w="432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Zona 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pelig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00"/>
                      </a:solidFill>
                    </a:lnL>
                    <a:lnR w="4320">
                      <a:solidFill>
                        <a:srgbClr val="ffff00"/>
                      </a:solidFill>
                    </a:lnR>
                    <a:lnT w="4320">
                      <a:solidFill>
                        <a:srgbClr val="ffff00"/>
                      </a:solidFill>
                    </a:lnT>
                    <a:lnB w="432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Zona 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enfriami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00"/>
                      </a:solidFill>
                    </a:lnL>
                    <a:lnR w="4320">
                      <a:solidFill>
                        <a:srgbClr val="ffff00"/>
                      </a:solidFill>
                    </a:lnR>
                    <a:lnT w="4320">
                      <a:solidFill>
                        <a:srgbClr val="ffff00"/>
                      </a:solidFill>
                    </a:lnT>
                    <a:lnB w="432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Zona 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congel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00"/>
                      </a:solidFill>
                    </a:lnL>
                    <a:lnR w="4320">
                      <a:solidFill>
                        <a:srgbClr val="ffff00"/>
                      </a:solidFill>
                    </a:lnR>
                    <a:lnT w="4320">
                      <a:solidFill>
                        <a:srgbClr val="ffff00"/>
                      </a:solidFill>
                    </a:lnT>
                    <a:lnB w="432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03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Se destruye la mayoría de microorganismos en unos minu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00"/>
                      </a:solidFill>
                    </a:lnL>
                    <a:lnR w="4320">
                      <a:solidFill>
                        <a:srgbClr val="ffff00"/>
                      </a:solidFill>
                    </a:lnR>
                    <a:lnT w="4320">
                      <a:solidFill>
                        <a:srgbClr val="ffff00"/>
                      </a:solidFill>
                    </a:lnT>
                    <a:lnB w="432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cc0066"/>
                          </a:solidFill>
                          <a:latin typeface="Verdana"/>
                        </a:rPr>
                        <a:t>No hay multiplicación sí superviven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00"/>
                      </a:solidFill>
                    </a:lnL>
                    <a:lnR w="4320">
                      <a:solidFill>
                        <a:srgbClr val="ffff00"/>
                      </a:solidFill>
                    </a:lnR>
                    <a:lnT w="4320">
                      <a:solidFill>
                        <a:srgbClr val="ffff00"/>
                      </a:solidFill>
                    </a:lnT>
                    <a:lnB w="432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Gran proliferación bacteria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00"/>
                      </a:solidFill>
                    </a:lnL>
                    <a:lnR w="4320">
                      <a:solidFill>
                        <a:srgbClr val="ffff00"/>
                      </a:solidFill>
                    </a:lnR>
                    <a:lnT w="4320">
                      <a:solidFill>
                        <a:srgbClr val="ffff00"/>
                      </a:solidFill>
                    </a:lnT>
                    <a:lnB w="432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No hay multiplicación, el alimento puede estar a esta temperatura breves perío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00"/>
                      </a:solidFill>
                    </a:lnL>
                    <a:lnR w="4320">
                      <a:solidFill>
                        <a:srgbClr val="ffff00"/>
                      </a:solidFill>
                    </a:lnR>
                    <a:lnT w="4320">
                      <a:solidFill>
                        <a:srgbClr val="ffff00"/>
                      </a:solidFill>
                    </a:lnT>
                    <a:lnB w="432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No hay multiplicación, pero sí supervivencia. Se usa en períodos larg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00"/>
                      </a:solidFill>
                    </a:lnL>
                    <a:lnR w="4320">
                      <a:solidFill>
                        <a:srgbClr val="ffff00"/>
                      </a:solidFill>
                    </a:lnR>
                    <a:lnT w="4320">
                      <a:solidFill>
                        <a:srgbClr val="ffff00"/>
                      </a:solidFill>
                    </a:lnT>
                    <a:lnB w="432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9" name=""/>
          <p:cNvSpPr/>
          <p:nvPr/>
        </p:nvSpPr>
        <p:spPr>
          <a:xfrm>
            <a:off x="5068800" y="4434480"/>
            <a:ext cx="24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336666"/>
                </a:solidFill>
                <a:latin typeface="Arial Black"/>
              </a:rPr>
              <a:t>Conservación de alimento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000000"/>
                </a:solidFill>
                <a:latin typeface="Arial"/>
              </a:rPr>
              <a:t>sistemas de conservación que destruyen los gérmenes (bactericidas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000000"/>
                </a:solidFill>
                <a:latin typeface="Arial"/>
              </a:rPr>
              <a:t>sistemas de conservación que impiden el desarrollo de gérmenes (bacteriostáticos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004760" y="1663200"/>
            <a:ext cx="24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971640" y="981000"/>
          <a:ext cx="7169040" cy="5184720"/>
        </p:xfrm>
        <a:graphic>
          <a:graphicData uri="http://schemas.openxmlformats.org/drawingml/2006/table">
            <a:tbl>
              <a:tblPr/>
              <a:tblGrid>
                <a:gridCol w="3584520"/>
                <a:gridCol w="3584520"/>
              </a:tblGrid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Bactericidas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00"/>
                      </a:solidFill>
                    </a:lnL>
                    <a:lnR w="4320">
                      <a:solidFill>
                        <a:srgbClr val="ffff00"/>
                      </a:solidFill>
                    </a:lnR>
                    <a:lnT w="4320">
                      <a:solidFill>
                        <a:srgbClr val="ffff00"/>
                      </a:solidFill>
                    </a:lnT>
                    <a:lnB w="432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97cdcc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Bacteriostáticos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00"/>
                      </a:solidFill>
                    </a:lnL>
                    <a:lnR w="4320">
                      <a:solidFill>
                        <a:srgbClr val="ffff00"/>
                      </a:solidFill>
                    </a:lnR>
                    <a:lnT w="4320">
                      <a:solidFill>
                        <a:srgbClr val="ffff00"/>
                      </a:solidFill>
                    </a:lnT>
                    <a:lnB w="432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8292e2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</a:tr>
              <a:tr h="45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bullición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erilización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teurización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erizacion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latado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humado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ición de sustancias químicas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radiación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00"/>
                      </a:solidFill>
                    </a:lnL>
                    <a:lnR w="4320">
                      <a:solidFill>
                        <a:srgbClr val="ffff00"/>
                      </a:solidFill>
                    </a:lnR>
                    <a:lnT w="4320">
                      <a:solidFill>
                        <a:srgbClr val="ffff00"/>
                      </a:solidFill>
                    </a:lnT>
                    <a:lnB w="432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97cdcc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rigeración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gelación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hidratación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ición de sustancias químicas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00"/>
                      </a:solidFill>
                    </a:lnL>
                    <a:lnR w="4320">
                      <a:solidFill>
                        <a:srgbClr val="ffff00"/>
                      </a:solidFill>
                    </a:lnR>
                    <a:lnT w="4320">
                      <a:solidFill>
                        <a:srgbClr val="ffff00"/>
                      </a:solidFill>
                    </a:lnT>
                    <a:lnB w="432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8292e2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5452920" y="4614120"/>
            <a:ext cx="24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476360" y="1268280"/>
            <a:ext cx="626436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53316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336666"/>
                </a:solidFill>
                <a:latin typeface="Arial Black"/>
              </a:rPr>
              <a:t>Clasificación de los métodos de conservación de alimentos según su efecto sobre los microorganismos: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Destrucció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Efecto barrer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Eliminación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336666"/>
                </a:solidFill>
                <a:latin typeface="Arial Black"/>
              </a:rPr>
              <a:t>Destrucción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324000" y="1905120"/>
          <a:ext cx="8496000" cy="4333680"/>
        </p:xfrm>
        <a:graphic>
          <a:graphicData uri="http://schemas.openxmlformats.org/drawingml/2006/table">
            <a:tbl>
              <a:tblPr/>
              <a:tblGrid>
                <a:gridCol w="4587840"/>
                <a:gridCol w="3908160"/>
              </a:tblGrid>
              <a:tr h="67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 de actu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étodo de conserv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ión del cal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teurización – Esteriliz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</a:tr>
              <a:tr h="67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iaciones ionizan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radi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ión de antisépt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cohol – Acidos Conservadores quím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</a:tr>
              <a:tr h="67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ión mecáni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as presio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</a:tr>
              <a:tr h="67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ión mixta: calor-mecáni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cción - Extrus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62120" y="333360"/>
            <a:ext cx="7696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336666"/>
                </a:solidFill>
                <a:latin typeface="Arial Black"/>
              </a:rPr>
              <a:t>Efecto barrera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395280" y="1197000"/>
          <a:ext cx="8748720" cy="4797360"/>
        </p:xfrm>
        <a:graphic>
          <a:graphicData uri="http://schemas.openxmlformats.org/drawingml/2006/table">
            <a:tbl>
              <a:tblPr/>
              <a:tblGrid>
                <a:gridCol w="4032360"/>
                <a:gridCol w="471636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 de actuación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étodo de conservación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zación de bajas T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rigeración – Congel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zación de atmósferas pobres en O</a:t>
                      </a:r>
                      <a:r>
                        <a:rPr b="0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cío – Gases inertes – Atmósferas controlad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</a:tr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ción del contenido de agu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hidratación – Liofilización – Concentr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</a:tr>
              <a:tr h="186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cción por incorporación y recubrimiento con inhibido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azón – inmersión en salmuera – recubrimiento con materias grasas – recubrimirnto con azúcar- inmersión en ácidos - ferment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336666"/>
                </a:solidFill>
                <a:latin typeface="Arial Black"/>
              </a:rPr>
              <a:t>Eliminación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762120" y="1905120"/>
          <a:ext cx="7696080" cy="2315880"/>
        </p:xfrm>
        <a:graphic>
          <a:graphicData uri="http://schemas.openxmlformats.org/drawingml/2006/table">
            <a:tbl>
              <a:tblPr/>
              <a:tblGrid>
                <a:gridCol w="3848040"/>
                <a:gridCol w="3848040"/>
              </a:tblGrid>
              <a:tr h="101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 de actuación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étodo de conservación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</a:tr>
              <a:tr h="12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aración físi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tración esteriliza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ltrafiltració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498760" y="2553480"/>
            <a:ext cx="4146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979640" y="1916280"/>
            <a:ext cx="46800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000" y="1905120"/>
            <a:ext cx="50403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700" spc="-1" strike="noStrike">
                <a:solidFill>
                  <a:srgbClr val="000000"/>
                </a:solidFill>
                <a:latin typeface="Arial"/>
              </a:rPr>
              <a:t>Materia prima alimentaria: </a:t>
            </a: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es toda sustancia que para ser utilizada como alimento, precisa de algún tratamiento o transformación de naturaleza química, física o biológica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Ejemplo: trigo, maíz, leche cruda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724360" y="1905120"/>
            <a:ext cx="2733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300720" y="2133720"/>
            <a:ext cx="165888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300" spc="-1" strike="noStrike">
                <a:solidFill>
                  <a:srgbClr val="336666"/>
                </a:solidFill>
                <a:latin typeface="Arial Black"/>
              </a:rPr>
              <a:t>Ingredient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4097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cualquier sustancia, incluidos los aditivos que se empleen en la fabricación o preparación de un alimento y esté presente en el producto final, aunque sea en forma modificada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03640" y="1905120"/>
            <a:ext cx="34545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92720" y="2865600"/>
            <a:ext cx="2951280" cy="22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336666"/>
                </a:solidFill>
                <a:latin typeface="Arial Black"/>
              </a:rPr>
              <a:t>Clasificación de alimento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100" spc="-1" strike="noStrike">
                <a:solidFill>
                  <a:srgbClr val="000000"/>
                </a:solidFill>
                <a:latin typeface="Arial"/>
              </a:rPr>
              <a:t>Según sus condiciones para el consumo</a:t>
            </a:r>
            <a:r>
              <a:rPr b="0" lang="es-CL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100" spc="-1" strike="noStrike">
                <a:solidFill>
                  <a:srgbClr val="000000"/>
                </a:solidFill>
                <a:latin typeface="Arial"/>
              </a:rPr>
              <a:t>Según su aptitud para el consumo</a:t>
            </a:r>
            <a:r>
              <a:rPr b="0" lang="es-CL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100" spc="-1" strike="noStrike">
                <a:solidFill>
                  <a:srgbClr val="000000"/>
                </a:solidFill>
                <a:latin typeface="Arial"/>
              </a:rPr>
              <a:t>Según su origen o tecnología aplicada en su elaboración</a:t>
            </a:r>
            <a:r>
              <a:rPr b="0" lang="es-CL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336666"/>
                </a:solidFill>
                <a:latin typeface="Arial Black"/>
              </a:rPr>
              <a:t>1. Según sus condiciones para el consumo</a:t>
            </a:r>
            <a:endParaRPr b="0" lang="en-US" sz="2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Alimento al estado natu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Alimento fres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Alimento perec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Alimento de guarda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Alimento conservado o preserv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Alimento elabor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Alimento confeccion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Alimento sucedáne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Alimentos de uso especial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Alimento enriquec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6666"/>
                </a:solidFill>
                <a:latin typeface="Arial Black"/>
              </a:rPr>
              <a:t>2. Según su aptitud para el consumo.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Los alimentos pueden experimentar transformaciones, perdiendo o disminuyendo su aptitud para el consumo, al respecto se distinguen las siguientes clase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100" spc="-1" strike="noStrike">
                <a:solidFill>
                  <a:srgbClr val="000000"/>
                </a:solidFill>
                <a:latin typeface="Arial"/>
              </a:rPr>
              <a:t>Alimento altera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100" spc="-1" strike="noStrike">
                <a:solidFill>
                  <a:srgbClr val="000000"/>
                </a:solidFill>
                <a:latin typeface="Arial"/>
              </a:rPr>
              <a:t>Alimento adultera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100" spc="-1" strike="noStrike">
                <a:solidFill>
                  <a:srgbClr val="000000"/>
                </a:solidFill>
                <a:latin typeface="Arial"/>
              </a:rPr>
              <a:t>Alimento falsifica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100" spc="-1" strike="noStrike">
                <a:solidFill>
                  <a:srgbClr val="000000"/>
                </a:solidFill>
                <a:latin typeface="Arial"/>
              </a:rPr>
              <a:t>Alimento contamina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1T21:52:35Z</dcterms:created>
  <dc:creator>Vilma Quitral</dc:creator>
  <dc:description/>
  <dc:language>en-US</dc:language>
  <cp:lastModifiedBy>Fca. de Medicina</cp:lastModifiedBy>
  <dcterms:modified xsi:type="dcterms:W3CDTF">2007-07-25T17:11:04Z</dcterms:modified>
  <cp:revision>18</cp:revision>
  <dc:subject/>
  <dc:title>Diapositiva 1</dc:title>
</cp:coreProperties>
</file>