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E124-C294-42CE-A840-59471A17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EF2-0BC1-443F-BED5-79B11C53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14F-7FBF-43EB-BAB4-9E3071DA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ADD-7B4D-427F-A2CB-DA4F4522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1D9-01B3-4C59-A192-2396FD13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0C3-9AAC-4759-BAD4-1C5A4676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076-0B7B-4F89-BD4D-CB85D98A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BD2-EAED-4540-8D72-07326C55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B46-E735-41BF-9F85-B181AB2E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870-A265-47D0-8A90-09695A24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EFA-01C5-4555-874E-4458E5AD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55F-3311-4064-B713-445EEE38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CC9B-6B51-4F4D-9E7A-B8FE66B42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idez de la ingesta aliment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3672000" cy="3108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64000" y="3429000"/>
            <a:ext cx="2376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udios con DL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91520" cy="5054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433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je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esta (kc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 (kc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hal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24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et 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F y 27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d registro + pes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4 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son et 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F B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Rec 24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 et 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d regi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le et 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F 8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d regi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5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allazgos!</a:t>
            </a:r>
            <a:br>
              <a:rPr sz="40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Livingstone y Black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b-registro de la ingesta energ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 la FFQ que los registros o Rec24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registros mejoran con pesaje de alimen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rrelación entre EI: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29 casos fue baja; r=0.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luyendo EI:EE &lt;0.76 y &gt;1.2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lación subió a r=0.8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gesta energétic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tabolismo basal: razón IE: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lt; MB son incorrec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1.2 po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querimiento de energía según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cuesta 1-7 días = 0.9 –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imaciones basadas en GE  ±1DE o 2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gesta de Proteínas</a:t>
            </a:r>
            <a:br>
              <a:rPr sz="4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Van Staveren et al 19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/dí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(n=4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bres (n=2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jeres (n=2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s-ES_tradn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gerido por FF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 ±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6 ± 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 ±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s-ES_tradn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 or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 ± 0.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 ± 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 ± 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 -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±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± 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± 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ípidos diet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tejido adipos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 mucho del tipo de 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FA/SAT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= 0.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FA/PUF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= 0.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UFA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= 0.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inoleic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= 0.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P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= 0.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H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= 0.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9c9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Que tan reproduc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u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í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.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.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rrores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lla de 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rror de reporte: DLW, Req. P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rrores de entrev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psus memorí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correcta estimación por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ro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esta reportada vs observ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62864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539640" y="155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63086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ppitt et al. Int J Obesity 1998; 22:303-3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os nutrient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075520" cy="4556160"/>
        </p:xfrm>
        <a:graphic>
          <a:graphicData uri="http://schemas.openxmlformats.org/drawingml/2006/table">
            <a:tbl>
              <a:tblPr/>
              <a:tblGrid>
                <a:gridCol w="3683160"/>
                <a:gridCol w="2232000"/>
                <a:gridCol w="21603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esta prome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ato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ía (kc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ína (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amina A (U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amina (m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oflavina (m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acina (m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 C (m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io (m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2411280" y="621648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rown et al. J Am Diet Assoc 1990; 90:1675-7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ngesta reportada Almuerz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ec. 24 h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Registro 3 dí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atorio de 24 ho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o 3 dí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ía  (564 kc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  (68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  (22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sa  (24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sa Saturada  (10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2124000" y="6381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awford et al J Am Diet Assoc 1994; 94:626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 que manera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alidar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ingesta reporta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alid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iomarcadores: 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Na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estra (orina, heces, sang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odo colección (venosa, capilar, chor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macenamiento (ambiente, congelad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diciones del suje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yuno, cigarrillo, ejercicio, período menstr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os validador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gua doblemente mar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abolismo ba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eín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reción urinaria de 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n 24 h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r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idos grasos en tejido adip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0:56:56Z</dcterms:created>
  <dc:creator>ediaz</dc:creator>
  <dc:description/>
  <dc:language>en-US</dc:language>
  <cp:lastModifiedBy>Erick Diaz</cp:lastModifiedBy>
  <dcterms:modified xsi:type="dcterms:W3CDTF">2007-08-08T12:26:45Z</dcterms:modified>
  <cp:revision>7</cp:revision>
  <dc:subject/>
  <dc:title>Validez de la ingesta alimentaria</dc:title>
</cp:coreProperties>
</file>