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5074-E4CD-471A-A74D-178C3EAE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6AD-FCE9-4321-BDD9-F66FECA6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614D-EA3A-4079-8689-7237F499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5E3-152E-402D-9ECB-938D9F19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3496-130B-47C5-8CBE-A3A00781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4B5D-47BF-4998-A701-3FE502F8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2069-53BA-4081-A682-E2627720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C4C6-EA59-4729-8D2E-D2D5B1AE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9A17-9F6B-4E76-A2B1-809B45A7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41C0-BC24-4591-9217-3FCA3ED0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F420-DA8A-4AAA-8D47-48B58785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4DE4-8F66-42F5-B2E1-DFC489C5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C49A-9DD2-484E-9F34-50005F97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77A9-C8B0-4E7B-B215-AACB03CE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6884-3D82-4958-B5CA-075F7DD8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FBD3-2A9E-442F-A270-24A6EB1A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AB28-2464-47F0-B029-F0E514DA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C9E-1B0F-41CD-A043-6D7036C1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9A4-815D-4C99-946A-0205E317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512-2C9E-45AE-989A-47EB2C16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9E35-4246-424A-BF74-A90AA372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2D4-E6A7-49D9-88D8-7DF5082A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F6B-E0AF-4E89-B93B-5CBDD1A4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3AE-984B-4616-894B-CB2EE040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E50C-D251-4A26-BC80-136D3F1072C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D407-1ECA-4224-9CC4-C8EA7676DBE2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Comic Sans MS"/>
              </a:rPr>
              <a:t>Caso clín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actante 1 año, previamente s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onsulta por fiebre (39°C), decaimiento, dificultad respirat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Ex físico: Semiología condensación lóbulo inferior izquier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Rx tórax: Neumonía L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Tto: Claritromicina, 15 mg/Kg/día, c/12 h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Kinesiterapia respirat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Por qué es importante analizar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e tema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583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uctas dispares en la comunidad méd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ptos poco claros sobre significado fieb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zación de diagnósticos poco fundament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o indiscriminado antimicrobi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uen manejo de esta situación requie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Méd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ocimiento actualiz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nsamiento científ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Humil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Sistema de salu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s de atención adecu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sibilidad de controlar pac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lidad 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</a:rPr>
              <a:t>vs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ant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99"/>
                </a:solidFill>
                <a:latin typeface="Tahoma"/>
              </a:rPr>
              <a:t>Mensajes educativos a los pad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La fiebre es una respuesta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s un síntoma, no una enferme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nfréntela con cal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La fiebre persistirá hasta la resolución de la enferme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JR Avner y MD Baker. Emerg Med Clin North Am, 20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99"/>
                </a:solidFill>
                <a:latin typeface="Tahoma"/>
              </a:rPr>
              <a:t>Mensaje al personal de salu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ahoma"/>
              </a:rPr>
              <a:t>La fiebre es un fenómeno adaptativo que de paso advierte sobre la presencia de una noxa y, salvo excepciones, no debe considerarse el problema en s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o típ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adre consulta con su hijo de 8 meses porque presenta “fiebre”.  Al momento de la consulta se registra T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rectal de 40°C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87520" y="152280"/>
            <a:ext cx="4318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444600"/>
            <a:ext cx="868680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155520"/>
            <a:ext cx="9144000" cy="6515280"/>
            <a:chOff x="0" y="155520"/>
            <a:chExt cx="9144000" cy="65152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0" y="155520"/>
              <a:ext cx="914400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 txBox="1"/>
            <p:nvPr/>
          </p:nvSpPr>
          <p:spPr>
            <a:xfrm>
              <a:off x="0" y="155520"/>
              <a:ext cx="9144000" cy="651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iterios de grave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aimiento o irritabilidad mar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lide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hazo significativo de alimen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ómitos incoercibles, diarrea profu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icultad respirat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omiso hemodinám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nómenos hemorragípa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omiso de parénqui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Comic Sans MS"/>
              </a:rPr>
              <a:t>72 horas más tar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Paciente acude a terapia kinés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Ha recibido su tto según ind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Kinesiólogo “grav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Trasladado Urgencia Hospital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nfrentamiento pacien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Anamn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8 horas de fieb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limentación regu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Vomitos, diarrea (-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ificultad respirat (-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Único enfermo cas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pidemiología (-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Examen fí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Hemodinámicam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 es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ien perfund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rritable, ac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in signos loc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frentamiento diag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d debe saber si el niño está grave o no,... no se apresure en hacer un diagnó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d debe estar al d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be hacer primero un planteamiento sindromático: fundamentalmente clínic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ndariamente: Planteamiento etiológic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ínico + laborato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sibilidades diagnósticas en un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ctante febri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Causas más frecuentes: Representan cerca del 80% de los ca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3333cc"/>
                </a:solidFill>
                <a:latin typeface="Tahoma"/>
              </a:rPr>
              <a:t>Etiología viral</a:t>
            </a:r>
            <a:r>
              <a:rPr b="0" i="1" lang="es-MX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Respiratorias :Rhinovirus, VRS, parainfluenza, influenza, adenovirus, enteroviru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igestivas: Rotavirus, astroviru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Asociadas a exantemas: Varicela, enterovirus, herpes 6, parvoviru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sibilidades diagnósticas en un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ctante febri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Causas menos frecuentes: Representan  entre el 10 al 15% de los ca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Infecciones bacterianas “no invasoras”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Dg muy abus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aringoamigdalitis (</a:t>
            </a:r>
            <a:r>
              <a:rPr b="0" i="1" lang="es-MX" sz="2400" spc="-1" strike="noStrike">
                <a:solidFill>
                  <a:srgbClr val="000000"/>
                </a:solidFill>
                <a:latin typeface="Tahoma"/>
              </a:rPr>
              <a:t>S pyogenes)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Improbable &lt; 2 a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titis media aguda (</a:t>
            </a:r>
            <a:r>
              <a:rPr b="0" i="1" lang="es-MX" sz="2400" spc="-1" strike="noStrike">
                <a:solidFill>
                  <a:srgbClr val="000000"/>
                </a:solidFill>
                <a:latin typeface="Tahoma"/>
              </a:rPr>
              <a:t>S. pneumoniae, H influenzae)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Otoscopía es parte del examen físico lactante febr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inusitis (</a:t>
            </a:r>
            <a:r>
              <a:rPr b="0" i="1" lang="es-MX" sz="2400" spc="-1" strike="noStrike">
                <a:solidFill>
                  <a:srgbClr val="000000"/>
                </a:solidFill>
                <a:latin typeface="Tahoma"/>
              </a:rPr>
              <a:t>S. pneumoniae, H influenzae):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Dg difíc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nfección urinaria (</a:t>
            </a:r>
            <a:r>
              <a:rPr b="0" i="1" lang="es-MX" sz="2400" spc="-1" strike="noStrike">
                <a:solidFill>
                  <a:srgbClr val="000000"/>
                </a:solidFill>
                <a:latin typeface="Tahoma"/>
              </a:rPr>
              <a:t>E. coli):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g microbiológ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sibilidades diagnósticas en un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ctante febri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Causas poco frecuentes: &lt; 5% de los ca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Infecciones bacterianas invas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Requiere dg rápido. Potencialmente mort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Neumonía (distinguir de “neumonitis”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eningit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ielonefrit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Osteomielitis, artrit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almonelos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sibilidades diagnósticas en un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ctante febri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Causas raras: &lt; 1%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Fiebre asociada a cuadros infecciosos poco frecuentes o afecciones no infeccios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tum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esenquimopatí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nfermedades autoinmu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¿Y 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hora 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q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ué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frontar las hipótesis más probables c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mnes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en fís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ecedentes epidemiológ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racional de exám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lanteamiento diagnó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ahoma"/>
              </a:rPr>
              <a:t>Signos y síntomas sugieren IB no invasora, sin signos de gravedad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(10-15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l diagnóstico presuntivo de amigdalitis estreptocócica debe ser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certificado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cada vez que sea posibl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Un diagnóstico clínico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fundamentado</a:t>
            </a: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e otitis media aguda amerita tratamient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l diagnóstico de sinusitis aguda debe basarse en criterios clínicos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estrictos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.  Rx tiene poco valor diagnóstic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a infección urinaria requiere del apoyo de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laboratorio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antes de pensar en trat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ratamiento antimicrobiano necesario...pero tranqui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85920" y="581040"/>
            <a:ext cx="6572160" cy="56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62000" y="0"/>
            <a:ext cx="522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ciente con fiebre, con o sin localización, con signos y síntomas de gravedad (5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tención inmedi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xploración de laborato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ratamiento agres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80880" y="-130320"/>
            <a:ext cx="9982080" cy="69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El paciente presenta fiebre sin otros hallazgos clínicos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esafío import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Hay que hacerse cargo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Riesgo “bacteremia ocult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7160" y="313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El manejo del niño febril requie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Valoración de grave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lanteamientos diagnó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Conductas basadas 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ocimientos actualizad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Buena anamnesis y examen clín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Uso juicioso de exáme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Un seguimiento adecu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Lecturas recomendada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Bonadio W. Pediatr Infect Dis J 1993</a:t>
            </a: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Kramer M, ED Shapiro. Pediatrics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Bonadio W. Pediatr Clin North Am, 1998</a:t>
            </a: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Alpern E. Pediatrics 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Avner J. Emerg Med Clin North Am  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Klein J. Pediatr Infect Dis J  200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Bacteriemia ocul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Defini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Hallazgo de hemocultivo 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(+)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 en pacien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in foco infeccioso aparente y q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“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e ve clinicamente bien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Tahoma"/>
              </a:rPr>
              <a:t>Trascendencia de la bacteriemia oculta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Evolución hacia su resolución espontánea (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.pneumoniae &gt; 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90%) 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hacia localización metastásic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(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H. influenzae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: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25-44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Trascendencia de la bacteriemia oculta </a:t>
            </a:r>
            <a:br>
              <a:rPr sz="2800"/>
            </a:b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por 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.pneumoniae</a:t>
            </a:r>
            <a:r>
              <a:rPr b="0" i="1" lang="es-MX" sz="3200" spc="-1" strike="noStrike">
                <a:solidFill>
                  <a:srgbClr val="0033cc"/>
                </a:solidFill>
                <a:latin typeface="Tahoma"/>
              </a:rPr>
              <a:t>. </a:t>
            </a:r>
            <a:br>
              <a:rPr sz="3200"/>
            </a:br>
            <a:r>
              <a:rPr b="0" i="1" lang="es-MX" sz="32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s-MX" sz="32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s-MX" sz="1800" spc="-1" strike="noStrike">
                <a:solidFill>
                  <a:srgbClr val="0033cc"/>
                </a:solidFill>
                <a:latin typeface="Tahoma"/>
              </a:rPr>
              <a:t>S. Bandyopadhyay et al. Arch Pediatr Adolesc Med 2002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2.641 lactantes febr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Hemocultivo a 1.202 pac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37 (3%) con bacteriemia ocul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33cc"/>
                </a:solidFill>
                <a:latin typeface="Tahoma"/>
              </a:rPr>
              <a:t>Streptococcus pneumoniae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: 31 (84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Curso desfavorable: 2 (0,08%), una MB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Conceptos en bacteriemia oculta: Manejo conservador pero activo.</a:t>
            </a:r>
            <a:br>
              <a:rPr sz="2800"/>
            </a:b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s-MX" sz="1800" spc="-1" strike="noStrike">
                <a:solidFill>
                  <a:srgbClr val="0033cc"/>
                </a:solidFill>
                <a:latin typeface="Tahoma"/>
              </a:rPr>
              <a:t>ER Alpern et al. Pediatrics 2000</a:t>
            </a: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5.901 lactantes en S. Urgenci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Tº rectal 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&gt;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 39º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Frecuencia bacteriemia: 1,9%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Hemocultivo (+): 14,9 hrs </a:t>
            </a:r>
            <a:r>
              <a:rPr b="0" lang="es-MX" sz="2800" spc="-1" strike="noStrike" u="sng">
                <a:solidFill>
                  <a:srgbClr val="0033cc"/>
                </a:solidFill>
                <a:uFillTx/>
                <a:latin typeface="Tahoma"/>
              </a:rPr>
              <a:t>+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 5,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Conceptos en bacteriemia oculta.</a:t>
            </a:r>
            <a:br>
              <a:rPr sz="2800"/>
            </a:b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s-MX" sz="1800" spc="-1" strike="noStrike">
                <a:solidFill>
                  <a:srgbClr val="0033cc"/>
                </a:solidFill>
                <a:latin typeface="Tahoma"/>
              </a:rPr>
              <a:t>ER Alpern et al. Pediatrics  2000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.pneumoniae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: 82,9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H.influenzae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 b: 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Resolución espontánea: 95,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Foco establecido al 2º control: 0,3%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Infección severa: 0,03%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MBA (1) y sepsis fulminante (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Utilidad de hemograma y PCR en el estudio del lactante febril (n: 77).</a:t>
            </a:r>
            <a:br>
              <a:rPr sz="2400"/>
            </a:b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i="1" lang="es-MX" sz="1800" spc="-1" strike="noStrike">
                <a:solidFill>
                  <a:srgbClr val="0033cc"/>
                </a:solidFill>
                <a:latin typeface="Tahoma"/>
              </a:rPr>
              <a:t>PN Pulliam et al. Pediatrics, 2001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82600" y="2017800"/>
          <a:ext cx="7772400" cy="312264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  <a:gridCol w="1295280"/>
                <a:gridCol w="1295280"/>
              </a:tblGrid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Valor de c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VP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VP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Leucocitos/mm</a:t>
                      </a:r>
                      <a:r>
                        <a:rPr b="0" lang="es-MX" sz="1800" spc="-1" strike="noStrike" baseline="30000">
                          <a:solidFill>
                            <a:srgbClr val="0033c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RA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mm</a:t>
                      </a:r>
                      <a:r>
                        <a:rPr b="0" lang="es-MX" sz="1800" spc="-1" strike="noStrike" baseline="30000">
                          <a:solidFill>
                            <a:srgbClr val="0033c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0.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PCR mg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ra situación clínica habitu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Paciente de 8 meses, fiebre (38,3°C) de 12 horas de evolución, rechazo alimentación, gran irritabil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Antecedentes epidemiológicos: (-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Examen físico: Signos de gravedad: palidez, falta reactividad, leve inestabilidad hemodinám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No hay signos de focal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Dg y manej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aciente en riesgo de una infección bacteriana invasora o de una infección viral de curso sever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 justi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tención inmedi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ntensa investigación etiológica (hemograma, PCR, hemocultivos, Rx tórax, examen de orina y urocultivo, eventual punción lumbar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Hospitalización y comienzo precoz de antimicrobianos mientras se aclara el diagnós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El paciente presenta fiebre, buen estado general y sintomatología compatible con un cuadro viral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stos pacientes representarán 8/10 consultas por fiebre y </a:t>
            </a: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NO DEBEN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recibir antimicrobia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Tratamiento indicado: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Seguimiento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de su enferme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4000680" y="-2286000"/>
            <a:ext cx="1714536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Comic Sans MS"/>
              </a:rPr>
              <a:t>Caso clín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Hemocultivos: (+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¿qué imagin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f01"/>
                </a:solidFill>
                <a:latin typeface="Comic Sans MS"/>
              </a:rPr>
              <a:t>Streptococcus pneumonia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 ni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ño con fiebre</a:t>
            </a: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: Un desafío para el personal de salu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12:06:36Z</dcterms:created>
  <dc:creator>Miguel O'Ryan</dc:creator>
  <dc:description/>
  <dc:language>en-US</dc:language>
  <cp:lastModifiedBy>Maria Elena Santolaya de Pablo</cp:lastModifiedBy>
  <dcterms:modified xsi:type="dcterms:W3CDTF">2005-04-20T02:05:40Z</dcterms:modified>
  <cp:revision>24</cp:revision>
  <dc:subject/>
  <dc:title>El Lactante febril: Un Desafío Para el Pediatra y Médico General</dc:title>
</cp:coreProperties>
</file>