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D11-0845-45FD-8876-20A5DE9B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53B-C3F2-4798-A613-4AF300E9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4E6-7980-4076-923D-31761C09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FA8-4E74-411F-AD70-0E166E45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4724-D753-4A91-B3E9-B260D29D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83D8-9BB2-45BC-AA0B-35C192EF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5FCB-50EA-4189-AD3C-82DF82C8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20CD-5CAA-4ADB-9D07-6D986880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61A7-4FEE-40D9-97C6-9FE4E2CC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82E7-FA50-4479-8A89-C55963C1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D2CD-8419-4972-BA27-2C292748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2A2-8457-451C-8FEF-00C3FCB5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C232-E9D6-4D5D-A8CC-A0D172C7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738F-B1EE-4C5E-9481-70535B68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BB9A-B048-4C6E-B48D-8D63B914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71F4-C40E-4881-BF05-D2956957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0D1D-56C1-4543-9E24-66A28B80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8AF-AA65-4276-A740-419EFA85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83B-C11B-4B5D-8FE5-28DDDC08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2A0-6839-41E6-AABA-54953AD2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D00-84D8-4C91-9C61-02EF8D4C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9E8-E821-414F-9AFC-0927D206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4AB-5661-447A-9FF2-D7B32878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84C-AF66-46BB-967F-EB373BDF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7BFA-EFF9-4EC1-B9DE-E993770FB57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E7D0-4700-4A75-BCE8-1A7CA6A5B08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Caso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ctante 1 año, previamente s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onsulta por fiebre (39°C), decaimiento, dificultad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x físico: Semiología condensación lóbulo inferior izquier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Rx tórax: Neumonía L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Tto: Claritromicina, 15 mg/Kg/día, c/12 h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Kinesiterapia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 qué es importante analizar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e tem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583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as dispares en la comunidad méd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ptos poco claros sobre significado fie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ción de diagnósticos poco fundament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indiscriminado antimicrob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uen manejo de esta situación requie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éd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imiento actuali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nsamiento científ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umil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Sistema de sal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 de atención adecu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bilidad de controlar pac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ant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Mensajes educativos a los pad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fiebre es una respuesta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 un síntoma, no una enferm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fréntela con cal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fiebre persistirá hasta la resolución de la enferm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JR Avner y MD Baker. Emerg Med Clin North Am, 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Mensaje al personal de salu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La fiebre es un fenómeno adaptativo que de paso advierte sobre la presencia de una noxa y, salvo excepciones, no debe considerarse el problema en s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o típ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dre consulta con su hijo de 8 meses porque presenta “fiebre”.  Al momento de la consulta se registra T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rectal de 40°C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87520" y="152280"/>
            <a:ext cx="431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444600"/>
            <a:ext cx="86868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155520"/>
            <a:ext cx="9144000" cy="6515280"/>
            <a:chOff x="0" y="155520"/>
            <a:chExt cx="9144000" cy="65152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0" y="155520"/>
              <a:ext cx="914400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 txBox="1"/>
            <p:nvPr/>
          </p:nvSpPr>
          <p:spPr>
            <a:xfrm>
              <a:off x="0" y="155520"/>
              <a:ext cx="9144000" cy="651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erios de grave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aimiento o irritabilidad ma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id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hazo significativo de ali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ómitos incoercibles, diarrea prof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icultad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 hemodiná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nómenos hemorragípa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 de parénqu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72 horas más tar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Paciente acude a terapia kiné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Ha recibido su tto según ind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Kinesiólogo “grav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Trasladado Urgencia Hospital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frentamiento paci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namn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8 horas de fie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imentación reg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omitos, diarrea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ificultad respirat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Único enfermo cas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pidemiología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xamen fí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emodinámica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 es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 perfu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rritable, a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n signos 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frentamiento diag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 debe saber si el niño está grave o no,... no se apresure en hacer un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 debe estar al d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be hacer primero un planteamiento sindromático: fundamentalmente clíni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ndariamente: Planteamiento etiológic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ínico + laborat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ausas más frecuentes: Representan cerca del 80% de los ca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33cc"/>
                </a:solidFill>
                <a:latin typeface="Tahoma"/>
              </a:rPr>
              <a:t>Etiología viral</a:t>
            </a: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espiratorias :Rhinovirus, VRS, parainfluenza, influenza, adenovirus, enteroviru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igestivas: Rotavirus, astrovir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sociadas a exantemas: Varicela, enterovirus, herpes 6, parvoviru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ausas menos frecuentes: Representan  entre el 10 al 15% de los ca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Infecciones bacterianas “no invasoras”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Dg muy abus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aringoamigdalitis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 pyogenes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Improbable &lt; 2 a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titis media aguda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. pneumoniae, H influenzae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Otoscopía es parte del examen físico lactante febr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inusitis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. pneumoniae, H influenzae):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g difíc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fección urinaria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E. coli):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g microbioló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ausas poco frecuentes: &lt; 5% de los ca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Infecciones bacterianas invas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Requiere dg rápido. Potencialmente mort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eumonía (distinguir de “neumonitis”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ening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ielonefrit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Osteomielitis, artr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almonelo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ausas raras: &lt; 1%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Fiebre asociada a cuadros infecciosos poco frecuentes o afecciones no infeccio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um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esenquimopatí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fermedades autoinmu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Y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hora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ué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frontar las hipótesis más probables c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mne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en fís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ecedentes epidemi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racional de exám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lanteamiento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Signos y síntomas sugieren IB no invasora, sin signos de gravedad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(10-1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l diagnóstico presuntivo de amigdalitis estreptocócica debe ser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certificad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cada vez que sea posibl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Un diagnóstico clínico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fundamentado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 otitis media aguda amerita tratamien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l diagnóstico de sinusitis aguda debe basarse en criterios clínicos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estrictos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.  Rx tiene poco valor diag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infección urinaria requiere del apoyo de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laboratori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antes de pensar en trat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ratamiento antimicrobiano necesario...pero tranqui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85920" y="581040"/>
            <a:ext cx="6572160" cy="56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62000" y="0"/>
            <a:ext cx="52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ciente con fiebre, con o sin localización, con signos y síntomas de gravedad (5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tención inmedi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ploración de labora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tamiento agres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80880" y="-130320"/>
            <a:ext cx="998208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l paciente presenta fiebre sin otros hallazgos clínicos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fío impor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ay que hacerse carg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iesgo “bacteremia ocult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313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l manejo del niño febril requie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Valoración de grav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lanteamientos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Conductas basadas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ocimientos actualizad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uena anamnesis y examen clín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so juicioso de exáme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n seguimiento adecu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Lecturas recomendada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Bonadio W. Pediatr Infect Dis J 1993</a:t>
            </a: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Kramer M, ED Shapiro. Pediatrics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Bonadio W. Pediatr Clin North Am, 1998</a:t>
            </a: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lpern E. Pediatrics 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vner J. Emerg Med Clin North Am 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Klein J. Pediatr Infect Dis J  200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Bacteriemia ocul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Defini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allazgo de hemocultivo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(+)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 en pacie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in foco infeccioso aparente y 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“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e ve clinicamente bie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Tahoma"/>
              </a:rPr>
              <a:t>Trascendencia de la bacteriemia oculta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Evolución hacia su resolución espontánea (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 &gt;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90%) 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hacia localización metastás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(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. influenz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: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25-44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Trascendencia de la bacteriemia oculta 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por 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</a:t>
            </a: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. </a:t>
            </a:r>
            <a:br>
              <a:rPr sz="3200"/>
            </a:b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S. Bandyopadhyay et al. Arch Pediatr Adolesc Med 2002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2.641 lactantes febr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Hemocultivo a 1.202 pac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37 (3%) con bacteriemia ocul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33cc"/>
                </a:solidFill>
                <a:latin typeface="Tahoma"/>
              </a:rPr>
              <a:t>Streptococcus pneumoniae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: 31 (84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Curso desfavorable: 2 (0,08%), una M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Conceptos en bacteriemia oculta: Manejo conservador pero activo.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ER Alpern et al. Pediatrics 2000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5.901 lactantes en S. Urgenci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Tº rectal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&gt;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39º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Frecuencia bacteriemia: 1,9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Hemocultivo (+): 14,9 hrs </a:t>
            </a:r>
            <a:r>
              <a:rPr b="0" lang="es-MX" sz="2800" spc="-1" strike="noStrike" u="sng">
                <a:solidFill>
                  <a:srgbClr val="0033cc"/>
                </a:solidFill>
                <a:uFillTx/>
                <a:latin typeface="Tahoma"/>
              </a:rPr>
              <a:t>+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5,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Conceptos en bacteriemia oculta.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ER Alpern et al. Pediatrics  2000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: 82,9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.influenz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b: 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Resolución espontánea: 95,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Foco establecido al 2º control: 0,3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Infección severa: 0,03%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MBA (1) y sepsis fulminante 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Utilidad de hemograma y PCR en el estudio del lactante febril (n: 77).</a:t>
            </a:r>
            <a:br>
              <a:rPr sz="2400"/>
            </a:b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PN Pulliam et al. Pediatrics, 2001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2600" y="2017800"/>
          <a:ext cx="7772400" cy="312264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  <a:gridCol w="129528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alor de c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P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P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Leucocitos/mm</a:t>
                      </a:r>
                      <a:r>
                        <a:rPr b="0" lang="es-MX" sz="1800" spc="-1" strike="noStrike" baseline="30000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RA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mm</a:t>
                      </a:r>
                      <a:r>
                        <a:rPr b="0" lang="es-MX" sz="1800" spc="-1" strike="noStrike" baseline="30000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0.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PCR 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ra situación clínica habitu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Paciente de 8 meses, fiebre (38,3°C) de 12 horas de evolución, rechazo alimentación, gran irrit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Antecedentes epidemiológicos: (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xamen físico: Signos de gravedad: palidez, falta reactividad, leve inestabilidad hemodinám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No hay signos de foc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Dg y manej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ciente en riesgo de una infección bacteriana invasora o de una infección viral de curso sever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 justi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tención inmedi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tensa investigación etiológica (hemograma, PCR, hemocultivos, Rx tórax, examen de orina y urocultivo, eventual punción lumbar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ospitalización y comienzo precoz de antimicrobianos mientras se aclara el diagnó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l paciente presenta fiebre, buen estado general y sintomatología compatible con un cuadro viral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tos pacientes representarán 8/10 consultas por fiebre y </a:t>
            </a: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NO DEBEN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recibir antimicrobi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ratamiento indicado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eguimient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su enferme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4000680" y="-2286000"/>
            <a:ext cx="1714536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Caso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Hemocultivos: (+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qué imagin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f01"/>
                </a:solidFill>
                <a:latin typeface="Comic Sans MS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 ni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ño con fiebre</a:t>
            </a: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: Un desafío para el personal de sal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2:06:36Z</dcterms:created>
  <dc:creator>Miguel O'Ryan</dc:creator>
  <dc:description/>
  <dc:language>en-US</dc:language>
  <cp:lastModifiedBy>Maria Elena Santolaya de Pablo</cp:lastModifiedBy>
  <dcterms:modified xsi:type="dcterms:W3CDTF">2005-04-20T02:05:40Z</dcterms:modified>
  <cp:revision>24</cp:revision>
  <dc:subject/>
  <dc:title>El Lactante febril: Un Desafío Para el Pediatra y Médico General</dc:title>
</cp:coreProperties>
</file>